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 algn="ctr">
              <a:lnSpc>
                <a:spcPct val="8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914480" y="0"/>
            <a:ext cx="531324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914480" y="0"/>
            <a:ext cx="5313240" cy="68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Company>Microsoft Corpora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11T03:13:41Z</dcterms:created>
  <dc:creator>Unknown Creator</dc:creator>
  <dc:description/>
  <dc:language>en-US</dc:language>
  <cp:lastModifiedBy>Unknown Creator</cp:lastModifiedBy>
  <dcterms:modified xsi:type="dcterms:W3CDTF">2023-06-11T03:13:41Z</dcterms:modified>
  <cp:revision>0</cp:revision>
  <dc:subject/>
  <dc:title>Untitle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lides">
    <vt:r8>2</vt:r8>
  </property>
</Properties>
</file>