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1FB-B16C-4370-B067-537F9FCF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F19-6B09-4105-BDF8-CCA6851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DE9-A33F-4D49-93FD-2535CD8A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32E-D3E1-40E5-B0D1-F7C2FD0C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8FD-A87F-4E95-BDBB-D922F67C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BCE-1980-4C00-8384-991F91A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B34-FD13-43E6-8195-AFF690A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A87-07CE-4565-BFCF-2E006EC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401-AFDE-49D8-9895-D1C546F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000-A3BB-49D0-A22A-40704DBE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250-7921-4AF2-B51D-E53A1AA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84E-F07A-4AE5-AF63-B0B3674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D0E-B45A-4758-834F-11422329A1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lrc.org/changeagen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استراتيجيات إدارة التغيير-</a:t>
            </a:r>
            <a:br>
              <a:rPr sz="3400"/>
            </a:b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بخصوص تطبيق مبادرة هناري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(الوحدة التدريبية 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نظمة الصحة العالمية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بادرة إتاحة الوصول إلى نتائج البحوث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عبر شبكة الإنترنت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logo_hinari"/>
          <p:cNvPicPr/>
          <p:nvPr/>
        </p:nvPicPr>
        <p:blipFill>
          <a:blip r:embed="rId1"/>
          <a:stretch/>
        </p:blipFill>
        <p:spPr>
          <a:xfrm>
            <a:off x="2268360" y="5445000"/>
            <a:ext cx="2471760" cy="79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2"/>
          <a:stretch/>
        </p:blipFill>
        <p:spPr>
          <a:xfrm>
            <a:off x="5364000" y="5175360"/>
            <a:ext cx="12067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153280" cy="1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نموذج إيفريت روجرز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ett Rogers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لعملية الابتكار واتخاذ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القر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steps"/>
          <p:cNvPicPr/>
          <p:nvPr/>
        </p:nvPicPr>
        <p:blipFill>
          <a:blip r:embed="rId1"/>
          <a:stretch/>
        </p:blipFill>
        <p:spPr>
          <a:xfrm>
            <a:off x="609480" y="2887560"/>
            <a:ext cx="7848720" cy="27511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1219320" y="4038480"/>
            <a:ext cx="6433920" cy="596520"/>
            <a:chOff x="1219320" y="4038480"/>
            <a:chExt cx="6433920" cy="596520"/>
          </a:xfrm>
        </p:grpSpPr>
        <p:sp>
          <p:nvSpPr>
            <p:cNvPr id="63" name="Text Box 5"/>
            <p:cNvSpPr/>
            <p:nvPr/>
          </p:nvSpPr>
          <p:spPr>
            <a:xfrm>
              <a:off x="6705720" y="4114800"/>
              <a:ext cx="947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معر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14600" y="403848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تنفي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3962520" y="4114800"/>
              <a:ext cx="9144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000000"/>
                  </a:solidFill>
                  <a:latin typeface="Arial"/>
                </a:rPr>
                <a:t>اتخاذ القرا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410080" y="4114800"/>
              <a:ext cx="914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اقتنا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1219320" y="4038480"/>
              <a:ext cx="1036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تأكي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فئات التطبيق لروجر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بتكرو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or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– هم أول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% في تطبيق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طبقون المبكر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daptor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13.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% التالين في تطبيق الفكرة الجد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غالبية المبك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ajoritie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تالين في التطب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غالبية المتأخ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majoritie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تاليين في احتضان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تقاعس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gard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أخيرين في تطبيق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ellshapedcurve"/>
          <p:cNvPicPr/>
          <p:nvPr/>
        </p:nvPicPr>
        <p:blipFill>
          <a:blip r:embed="rId1"/>
          <a:stretch/>
        </p:blipFill>
        <p:spPr>
          <a:xfrm>
            <a:off x="609480" y="2286000"/>
            <a:ext cx="7586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بتكر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لهم اهتمام كبير بالأفكار الجديدة ولديهم الجرأة والرغبة في المجاز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مكنهم تدبير أمورهم مع التردد فيما يخص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د لا يحظون بالاحترام من قبل سائر اعضاء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طبقون المبكر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هم المجموعة الهامة بالنسبة لقادة التغيير و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شكلون قدوة للآخرين الذين يحترمونهم من أجل قرارات الابتكار الحكي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ليسوا بعيدين عن المنظمة مقارنة بالمبتك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قل التردد عندما يطبقون الأفكار الجد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غالبية المب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طبقون الأفكار الجديدة قبل متوسط أعضاء المنظ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يسوا قادة للرأي ويتخذون القرارات ببطء وعن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بعون رغبة مدروسة في تطبيق التغيير ومن النادر أن يقودا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غالبية المتأخ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طبقون الابتكار بعد معظم المنظ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ميلون إلى الشك والحرص بشكل ع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ستجيبون للضغط من الزملاء والمعايير التنظيمية الجد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متقاع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نعزلون ويتفاعلون مع الآخرين من خلال القيم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خذون عادةً القرارات اعتماداص على ما تم في الماض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أغلبهم ليسوا قادة للرأ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شككون غالباً في التغيير ووسائل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نحنى روجرز على شكل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shapedcurve"/>
          <p:cNvPicPr/>
          <p:nvPr/>
        </p:nvPicPr>
        <p:blipFill>
          <a:blip r:embed="rId1"/>
          <a:stretch/>
        </p:blipFill>
        <p:spPr>
          <a:xfrm>
            <a:off x="762120" y="1981080"/>
            <a:ext cx="6210360" cy="3355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62120" y="5568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ahoma"/>
                <a:cs typeface="Tahoma"/>
              </a:rPr>
              <a:t>فترة من التطبيق البطيء قبل فترة مفاجئة من التطبيق السريع ثم وصول سرعة التطبق إلى مستوى متد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ن أجل الاستخدام الناجح لمبادرة هناري في مؤسستك، حدد الأفرا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بتك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طبقون المبك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أغلبية المبك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أغلبية المتأخ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تقاعس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ادة الرأي في مجموعة المطبقين المبك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ذكر استراتيجيتين أو ثلاث استراتيجيات قد تستخدمها للعمل مع قادة الرأ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يمكنك التعامل مع المتقاعسين (يمكنك أن تكون نزيهاً)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استراتيجيات المف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زز الإحساس بالعج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كوين تحالف إرشا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عداد رؤية واستراتيجية مقن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شر الواسع لرؤية التغي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مكين الجهات المعنية  للعمل الموسع في الرؤ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قيق انتصارات في أمد قص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عم المكاسب وإحداث المزيد من التغي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سيخ الأساليب الجديدة في الثقافة التنظي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نظرة عا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عتبر كيفية تنفيذ التغيير أمراً هاماً للنجاح في اعتماد موارد جديدة للمعل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راجع نماذج ومفاهيم متعددة ل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طبق هذه المنهجيات في مؤسستك بخصوص تطبيق 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47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9646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ي حالة تطبيق مؤسستك لمبادرة 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، كيف ستستخدم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استراتيجيات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قترحات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المذكورة أعلا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ا الذي سيكون أكثر فائدة ولماذ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حدد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قضايا الرئيسية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(الأكثر صعوبة) للتغلب عليها من أجل التطبيق والاستخدام الناجح ل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استراتيجيات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التي تقترحها للتغلب على هذه العق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فذ الاستراتيجية التي أعددتها (قم بتنفيذها بعد إتمام الدورة التدريبية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ستراتيجية لأصحاب المصال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حدد الجهات المعنية المطلوب التزا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كل نوع من هذه الجهات المعنية، صف التغيير المطلوب، والمكاسب الملحوظة، والمقاومة المتوقع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قم بإعداد خطط العمل والتي تشمل على خطط الجهات المعنية التي لا تلتزم التزاماً كاف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هناك مجموعة هامة غالباً ما يتم تجاهلها وهي المستوى الأعلى للإدارة؛ والتي يجب إدراجها كأحد المجموعات الرئيس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ن أجل الاستخدام الأمثل ل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، ما هي الجهات المعنية الرئيسي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تستفيد كل جهة من هذه الجهات من 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ا هي أصعب جهة في التعامل معها وما الاستراتيجية التي ستستخدم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ستشرك  الإدار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لحوظة للتنب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تتضمن نتائج  الابتكار </a:t>
            </a:r>
            <a:br>
              <a:rPr sz="3200"/>
            </a:b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نتائج غير مرغوب في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مباشرة أو فو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غير مباشرة أو ناجمة عن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غيرات  متوقعة أو ملحوظة أو مقص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غير متوقعة وليست مقصودة أو ملحوظ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هدف الابتكار أو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توازن الدينام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حدث التغيير بمعدل تستطيع المؤسسة التأقلم 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ستطيع النظام التكيف مع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ا يتم تحميل المنظمة فوق طاقتها بالتغيير فائق السرعة الذي يؤدي إلى عدم القدرة هلى التأقلم أو عدم التواز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هل يمكن تحقيق ذلك مع 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هذه نهاية الوحدة التدريبية 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جرى التحديث في شهر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عا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rther resources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وارد 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s, Everett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ffusion of Inno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&amp; Schuster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روجرز، إيفريت 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نتشار الابتكارات الطبعة الخام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سيمون و شوستر، عام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end of Module 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05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مفهوم الواسع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” إن التغيير سمة من سمات الحياة. لا يهم من نكون، أو أين نعيش، وسواء كنا شيوخاً أو شباباً، فجميعنا نصنع التغيير في حياتنا. ويناضل معظمنا من أجل التغيير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إن الطريقة التي نتغير بها داخلياً، والطريقة التي ننمو ونتعلم بها، والتحول الذي نمر به جميعها تحدث نتيجة للتغيرات التي تقع في  حياتنا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ورلاندو أ، أنام سي. عامل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lrc.org/changeagent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عامل (موظف)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و شخص يؤثر في قرار العملاء في اتجاه مرغوب من قبل وكالة التغيير؛ وتشمل مهامه على 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مية الحاجة إلى التغي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شخيص 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قامة قنوات لتبادل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خلق نية التغيير لدى 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 النية با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ثبات التطبيق وتجنب عدم الاستمر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شروط التغيير الناج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عدم الرضا عن 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وفر المعرفة والمهارات الضرورية لدى الن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أدوات المطلوبة 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نفذون لديهم الوقت للتعليم، والتطبيق، والدمج، والتفكير ملياً في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إعطاء المكافآت أو الحوافز للمشارك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وقع المشاركة في العملية والتشجيع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دعم الابتكار من قبل الجهات المعنية والممثلين الرئيس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قاوم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نعدام الث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عتقاد بأن التغيير غير ضر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عتقاد بأن التغيير غير ممك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رتفاع التكلفة الن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خوف من الفشل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قدان الوضع المميز أو القو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هديد للقيم و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تعارض الاجتماعي، أو الثقافي،  أو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ستياء من التدخ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214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فكر في تغيير واحد ناجح في بيئة عملك. اعد قائمة بمتغيرات التغيير الناجح التي كانت موجودة. ما هو العامل (أو العوامل) الهامة لنجاح التغيير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فكر في بعض التغيير غير الناجح من البيئة المحيطة بك. اذكر متغيرات مقاومة التغيير التي كانت موجودة. ما هو العامل (أو العوامل) الهامة التي قاومت التغيير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بالنسبة لاستخدام وتنفيذ مبادرة هنار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، اذ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بعض المقاومة المحتملة لعوامل التغيير في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ثلاث عبا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ذوبان الجليد- لم تعد الوسائل القديمة ملائمة وهناك ضرورة ل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التغيير- اختر أسلوباً ملائماً ومرجو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إعادة التجميد- يتم تنفيذ الأسلوب الجديد ويصبح معمولاً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3:52:43Z</dcterms:created>
  <dc:creator>User</dc:creator>
  <dc:description/>
  <dc:language>en-US</dc:language>
  <cp:lastModifiedBy>Zahia</cp:lastModifiedBy>
  <dcterms:modified xsi:type="dcterms:W3CDTF">2014-10-19T23:36:43Z</dcterms:modified>
  <cp:revision>146</cp:revision>
  <dc:subject/>
  <dc:title>Strategies for Managing Change</dc:title>
</cp:coreProperties>
</file>