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612-A7CC-45A1-B944-AA9598E7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DED-84D1-4C88-A1F7-07E0A6B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9C2-01CC-4F49-BDE1-BE471BD6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191-B005-412D-BC66-CA9D45EB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667-E41A-4CE0-904E-58831ED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E47-64EA-4336-8565-2EAF1906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CE8-70C9-48CB-A142-03E817C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B6D-4378-4F47-B352-41ED47A6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97E-CC25-4856-B568-3E060EB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B9C-0C2A-47A5-AD2B-1B606B5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D06-795D-4939-B14B-588E46DB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7AF-18AA-4D01-A277-49BA7D3A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119A-89BB-4BDA-A847-73386E98F2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elrc.org/changeagent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400" spc="-1" strike="noStrike">
                <a:solidFill>
                  <a:srgbClr val="000000"/>
                </a:solidFill>
                <a:latin typeface="Arial"/>
              </a:rPr>
              <a:t>استراتيجيات إدارة التغيير-</a:t>
            </a:r>
            <a:br>
              <a:rPr sz="3400"/>
            </a:br>
            <a:r>
              <a:rPr b="1" lang="ar-EG" sz="3400" spc="-1" strike="noStrike">
                <a:solidFill>
                  <a:srgbClr val="000000"/>
                </a:solidFill>
                <a:latin typeface="Arial"/>
              </a:rPr>
              <a:t>بخصوص تطبيق مبادرة هناري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1" lang="ar-EG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(الوحدة التدريبية 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2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منظمة الصحة العالمية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مبادرة إتاحة الوصول إلى نتائج البحوث</a:t>
            </a:r>
            <a:br>
              <a:rPr sz="2400"/>
            </a:b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عبر شبكة الإنترنت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logo_hinari"/>
          <p:cNvPicPr/>
          <p:nvPr/>
        </p:nvPicPr>
        <p:blipFill>
          <a:blip r:embed="rId1"/>
          <a:stretch/>
        </p:blipFill>
        <p:spPr>
          <a:xfrm>
            <a:off x="2268360" y="5445000"/>
            <a:ext cx="2471760" cy="79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2"/>
          <a:stretch/>
        </p:blipFill>
        <p:spPr>
          <a:xfrm>
            <a:off x="5364000" y="5175360"/>
            <a:ext cx="12067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153280" cy="1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نموذج إيفريت روجرز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ett Rogers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لعملية الابتكار واتخاذ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القرا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steps"/>
          <p:cNvPicPr/>
          <p:nvPr/>
        </p:nvPicPr>
        <p:blipFill>
          <a:blip r:embed="rId1"/>
          <a:stretch/>
        </p:blipFill>
        <p:spPr>
          <a:xfrm>
            <a:off x="609480" y="2887560"/>
            <a:ext cx="7848720" cy="27511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0"/>
          <p:cNvGrpSpPr/>
          <p:nvPr/>
        </p:nvGrpSpPr>
        <p:grpSpPr>
          <a:xfrm>
            <a:off x="1219320" y="4038480"/>
            <a:ext cx="6433920" cy="596520"/>
            <a:chOff x="1219320" y="4038480"/>
            <a:chExt cx="6433920" cy="596520"/>
          </a:xfrm>
        </p:grpSpPr>
        <p:sp>
          <p:nvSpPr>
            <p:cNvPr id="63" name="Text Box 5"/>
            <p:cNvSpPr/>
            <p:nvPr/>
          </p:nvSpPr>
          <p:spPr>
            <a:xfrm>
              <a:off x="6705720" y="4114800"/>
              <a:ext cx="947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معرف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14600" y="4038480"/>
              <a:ext cx="1066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تنفي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3962520" y="4114800"/>
              <a:ext cx="9144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400" spc="-1" strike="noStrike">
                  <a:solidFill>
                    <a:srgbClr val="000000"/>
                  </a:solidFill>
                  <a:latin typeface="Arial"/>
                </a:rPr>
                <a:t>اتخاذ القرا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410080" y="4114800"/>
              <a:ext cx="914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اقتنا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1219320" y="4038480"/>
              <a:ext cx="1036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تأكي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فئات التطبيق لروجر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بتكرو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or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– هم أول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% في تطبيق الابت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طبقون المبكرو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adaptor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13.5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% التالين في تطبيق الفكرة الجد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غالبية المبكر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ajoritie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% التالين في التطبي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غالبية المتأخر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majoritie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% التاليين في احتضان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تقاعسو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ggards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– ه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% الأخيرين في تطبيق الابت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ellshapedcurve"/>
          <p:cNvPicPr/>
          <p:nvPr/>
        </p:nvPicPr>
        <p:blipFill>
          <a:blip r:embed="rId1"/>
          <a:stretch/>
        </p:blipFill>
        <p:spPr>
          <a:xfrm>
            <a:off x="609480" y="2286000"/>
            <a:ext cx="7586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تعريفات فئات المطبق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بتكر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لهم اهتمام كبير بالأفكار الجديدة ولديهم الجرأة والرغبة في المجاز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مكنهم تدبير أمورهم مع التردد فيما يخص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قد لا يحظون بالاحترام من قبل سائر اعضاء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طبقون المبكر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هم المجموعة الهامة بالنسبة لقادة التغيير و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شكلون قدوة للآخرين الذين يحترمونهم من أجل قرارات الابتكار الحكي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ليسوا بعيدين عن المنظمة مقارنة بالمبتك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قل التردد عندما يطبقون الأفكار الجد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تعريفات فئات المطبق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غالبية المب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طبقون الأفكار الجديدة قبل متوسط أعضاء المنظ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ليسوا قادة للرأي ويتخذون القرارات ببطء وعن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تبعون رغبة مدروسة في تطبيق التغيير ومن النادر أن يقودا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غالبية المتأخ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طبقون الابتكار بعد معظم المنظ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ميلون إلى الشك والحرص بشكل ع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ستجيبون للضغط من الزملاء والمعايير التنظيمية الجد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تعريفات فئات المطبق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متقاع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نعزلون ويتفاعلون مع الآخرين من خلال القيم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تخذون عادةً القرارات اعتماداص على ما تم في الماض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أغلبهم ليسوا قادة للرأ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تشككون غالباً في التغيير ووسائل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نحنى روجرز على شكل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shapedcurve"/>
          <p:cNvPicPr/>
          <p:nvPr/>
        </p:nvPicPr>
        <p:blipFill>
          <a:blip r:embed="rId1"/>
          <a:stretch/>
        </p:blipFill>
        <p:spPr>
          <a:xfrm>
            <a:off x="762120" y="1981080"/>
            <a:ext cx="6210360" cy="33559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762120" y="5568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Tahoma"/>
                <a:cs typeface="Tahoma"/>
              </a:rPr>
              <a:t>فترة من التطبيق البطيء قبل فترة مفاجئة من التطبيق السريع ثم وصول سرعة التطبق إلى مستوى متد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ن أجل الاستخدام الناجح لمبادرة هناري في مؤسستك، حدد الأفرا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مبتكر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مطبقون المبكر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أغلبية المبك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أغلبية المتأخ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متقاعسو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قادة الرأي في مجموعة المطبقين المبك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ذكر استراتيجيتين أو ثلاث استراتيجيات قد تستخدمها للعمل مع قادة الرأ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كيف يمكنك التعامل مع المتقاعسين (يمكنك أن تكون نزيهاً)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استراتيجيات المف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زز الإحساس بالعج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كوين تحالف إرشا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عداد رؤية واستراتيجية مقن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شر الواسع لرؤية التغي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مكين الجهات المعنية  للعمل الموسع في الرؤ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حقيق انتصارات في أمد قص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عم المكاسب وإحداث المزيد من التغي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سيخ الأساليب الجديدة في الثقافة التنظي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نظرة عا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عتبر كيفية تنفيذ التغيير أمراً هاماً للنجاح في اعتماد موارد جديدة للمعل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راجع نماذج ومفاهيم متعددة لإدار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طبق هذه المنهجيات في مؤسستك بخصوص تطبيق مبادرة هنا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47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9646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في حالة تطبيق مؤسستك لمبادرة هنار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، كيف ستستخدم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استراتيجيات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مقترحات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المذكورة أعلا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ا الذي سيكون أكثر فائدة ولماذ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حدد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قضايا الرئيسية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(الأكثر صعوبة) للتغلب عليها من أجل التطبيق والاستخدام الناجح لهنار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ا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استراتيجيات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التي تقترحها للتغلب على هذه العقبا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فذ الاستراتيجية التي أعددتها (قم بتنفيذها بعد إتمام الدورة التدريبية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ستراتيجية لأصحاب المصال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حدد الجهات المعنية المطلوب التزا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لكل نوع من هذه الجهات المعنية، صف التغيير المطلوب، والمكاسب الملحوظة، والمقاومة المتوقع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قم بإعداد خطط العمل والتي تشمل على خطط الجهات المعنية التي لا تلتزم التزاماً كافي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هناك مجموعة هامة غالباً ما يتم تجاهلها وهي المستوى الأعلى للإدارة؛ والتي يجب إدراجها كأحد المجموعات الرئيسي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ن أجل الاستخدام الأمثل لمبادرة هنا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، ما هي الجهات المعنية الرئيسية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كيف تستفيد كل جهة من هذه الجهات من مبادرة هنار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ا هي أصعب جهة في التعامل معها وما الاستراتيجية التي ستستخدمها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كيف ستشرك  الإدارة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لحوظة للتنب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تتضمن نتائج  الابتكار </a:t>
            </a:r>
            <a:br>
              <a:rPr sz="3200"/>
            </a:b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نتائج غير مرغوب في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تائج مباشرة أو فو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تائج غير مباشرة أو ناجمة عن الابت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غيرات  متوقعة أو ملحوظة أو مقص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نتائج غير متوقعة وليست مقصودة أو ملحوظ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هدف الابتكار أو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لتوازن الدينام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حدث التغيير بمعدل تستطيع المؤسسة التأقلم 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ستطيع النظام التكيف مع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لا يتم تحميل المنظمة فوق طاقتها بالتغيير فائق السرعة الذي يؤدي إلى عدم القدرة هلى التأقلم أو عدم التواز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هل يمكن تحقيق ذلك مع هنار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هذه نهاية الوحدة التدريبية 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جرى التحديث في شهر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عام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rther resources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وارد أخ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s, Everett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ffusion of Innov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&amp; Schuster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روجرز، إيفريت 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نتشار الابتكارات الطبعة الخام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سيمون و شوستر، عام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end of Module 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05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مفهوم الواسع ل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” إن التغيير سمة من سمات الحياة. لا يهم من نكون، أو أين نعيش، وسواء كنا شيوخاً أو شباباً، فجميعنا نصنع التغيير في حياتنا. ويناضل معظمنا من أجل التغيير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إن الطريقة التي نتغير بها داخلياً، والطريقة التي ننمو ونتعلم بها، والتحول الذي نمر به جميعها تحدث نتيجة للتغيرات التي تقع في  حياتنا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أورلاندو أ، أنام سي. عامل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lrc.org/changeagent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عامل (موظف)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و شخص يؤثر في قرار العملاء في اتجاه مرغوب من قبل وكالة التغيير؛ وتشمل مهامه على 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مية الحاجة إلى التغي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شخيص 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قامة قنوات لتبادل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خلق نية التغيير لدى 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 النية بال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ثبات التطبيق وتجنب عدم الاستمر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شروط التغيير الناج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عدم الرضا عن الوضع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وفر المعرفة والمهارات الضرورية لدى الن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أدوات المطلوبة 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منفذون لديهم الوقت للتعليم، والتطبيق، والدمج، والتفكير ملياً في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إعطاء المكافآت أو الحوافز للمشارك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وقع المشاركة في العملية والتشجيع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دعم الابتكار من قبل الجهات المعنية والممثلين الرئيس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مقاومة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نعدام الث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اعتقاد بأن التغيير غير ضرو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اعتقاد بأن التغيير غير ممك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رتفاع التكلفة الن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خوف من الفشل الشخص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فقدان الوضع المميز أو القو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هديد للقيم والأ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تعارض الاجتماعي، أو الثقافي،  أو التنظي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الاستياء من التدخ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214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فكر في تغيير واحد ناجح في بيئة عملك. اعد قائمة بمتغيرات التغيير الناجح التي كانت موجودة. ما هو العامل (أو العوامل) الهامة لنجاح التغيير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فكر في بعض التغيير غير الناجح من البيئة المحيطة بك. اذكر متغيرات مقاومة التغيير التي كانت موجودة. ما هو العامل (أو العوامل) الهامة التي قاومت التغيير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التدريب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بالنسبة لاستخدام وتنفيذ مبادرة هنار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ARI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، اذك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بعض المقاومة المحتملة لعوامل التغيير في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ثلاث عبار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حلة ذوبان الجليد- لم تعد الوسائل القديمة ملائمة وهناك ضرورة ل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حلة التغيير- اختر أسلوباً ملائماً ومرجو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حلة إعادة التجميد- يتم تنفيذ الأسلوب الجديد ويصبح معمولاً 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3:52:43Z</dcterms:created>
  <dc:creator>User</dc:creator>
  <dc:description/>
  <dc:language>en-US</dc:language>
  <cp:lastModifiedBy>Zahia</cp:lastModifiedBy>
  <dcterms:modified xsi:type="dcterms:W3CDTF">2014-10-19T23:36:43Z</dcterms:modified>
  <cp:revision>146</cp:revision>
  <dc:subject/>
  <dc:title>Strategies for Managing Change</dc:title>
</cp:coreProperties>
</file>