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25.png" ContentType="image/png"/>
  <Override PartName="/ppt/media/image22.jpeg" ContentType="image/jpeg"/>
  <Override PartName="/ppt/media/image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1.jpeg" ContentType="image/jpeg"/>
  <Override PartName="/ppt/media/image2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174-CDB2-449F-8492-B150B648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849-3AC1-4B3C-A95F-5DE306E4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12F65-269C-4C4D-B5F3-BED0E5F2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954C9-D1D8-4525-AFBD-DC7BA1B3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66516-9AF9-4DC3-BFCA-1DDD3B29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FA80F-F7C4-45D8-B507-C3CA47F3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37E82-AC53-41A8-B3EF-09CD3CD0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7A7B1-717B-493B-8D1E-1F88802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C9D49-5937-43E9-A6E7-2010F43C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3BF55-E68E-4015-A35C-90EFA6CB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7079F-8194-47B8-BB01-428C6E3D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776-81A7-49F4-A230-3E94F531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2ED-1BAF-4FD3-ADEF-7320E28D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7E13-C022-4428-B44E-FAC19B72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9233-F1EE-4A95-A066-002F8834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5EB2-8E05-402D-91C3-B93604B9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EB11-1996-4CB1-BBA9-72F763D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12A8-37F7-4952-9922-49FB0A63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9A38-40C7-49C5-B4A3-47BBD308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A32F-8C69-476F-B5B7-3604F03E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35E-9330-4BAA-9A7A-39E025E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4BF8-027E-4102-871B-98CF8960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F0DD-27E9-4A4D-A989-5E71D519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449A-9F4F-4C44-8937-82C46F2D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EF4D-3B2C-439D-BFBA-8319FF59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BDE8-9556-48DB-B999-FAD5270D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5C72-6068-482C-B3F4-69D0A124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D003A-1376-4191-B300-D7951AC1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018AF-AB84-4BF6-B883-24537ACE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C822-5D4D-4C5C-BCFD-6E743D69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A2E23-C2C0-4043-8B3C-A502981D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246-453F-4C5C-B32D-272EBC55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186F-FA1E-4F69-AF77-8888A14E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0ED14-C41E-4EE8-8930-263B1D9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5C82-910A-483C-9A6C-9E445F05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B060B-F598-4404-975A-7AFA5362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4A5B-9547-45FF-9D65-B3493103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7F25-B34D-4EEA-B324-34EBBFC9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6A27-4C08-4667-A344-64C62CCB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1516-8C4C-4647-989A-CD31CCA8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BB22-F61E-4C6B-99F4-59C4C5B9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90CE8-7B2C-4BA0-8CFD-D10FA72C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38E-3039-4B2D-A540-F000E492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DD73-F7AA-4B81-AB32-1DA279F2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FC99-D7A1-4A12-87F9-7DF0E101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C32F-BC0A-463D-8F06-F59714D0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944FD-11D3-4EAE-8105-8101F224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985B6-C0FA-448D-8716-6D96A191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BCF99-0050-4EEA-B581-858A6210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CDE6D-6755-4D25-A433-F17D94FF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AFC98-70D8-41E7-956F-F640EAEE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66E8-6C1A-4884-87F6-62873432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FE2A-2CB8-4837-BB45-D5E4ACB4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EBB-F922-4295-A85C-717BF195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255B8-7900-4098-9521-B52B78DB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EC8A-479E-4D0D-A971-A27C8A1C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41919-E900-4D67-B2F3-C832D935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E5B3-676C-45A9-9599-728AD89D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0A99F-DB95-40FD-9287-AA2D4335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7A3F1-3BDD-4A92-AC54-D3FCC6AA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3809-A3DA-49D3-8D61-4CDC38D0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65529-3863-4770-9E18-7EF09686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D21C5-1566-459F-990B-5768AA7D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F79B1-1AA9-4668-8B49-7053692A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479-D464-4D7F-8C0D-203E9FC1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3C735-D520-44B4-BCDD-659A835D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447D1-F940-4A21-B004-CA57D2F7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D948B-EC31-404E-AF54-DBF3DEB5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634A5-755C-42CB-8B4A-4738C398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7442E-6689-45BC-8406-D613FF2B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0B408-29B3-4A23-B238-ABD4F9C4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EA7AE-05FE-4A47-8627-D2444E58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115D5-99F9-474A-8FA6-5B01AC48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F9CE-D6A5-4709-A613-E64793FD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48271-A06F-4575-A725-E8ECE03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71E-9AF5-4937-986F-EDABD27F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2E130-8C93-424F-9F2C-294B4398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37A1C-E672-43F7-BBF1-3AC051BB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49B0C-A386-45BE-9D88-024CBF3D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BCCE-D417-4F56-ACE6-BC22A4AD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3E69-179C-4C09-9ECE-D040E2D2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A1B3F-A319-4A41-841C-4CFEA0A1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6D8B9-AEBB-4FDD-9A5F-1EF75016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9B2BD-3726-465C-B48B-F581D3A1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36C80-561F-42E8-86C8-CB1B92F6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30A2-0CFE-4C6F-BC30-D0D60B3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251-644B-4908-AB4A-50A2ABEA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F9C8-66FC-439F-BCBA-FE13EF3F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50B18-6169-45A7-81E0-F60BEE84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7927D-FEB4-4310-A273-F7A39B9A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AE674-7144-452A-A223-612963C9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45C7C-398F-4CA0-B870-3BF4B17C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940AE-432E-42DC-843A-F1F98CA2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C1571-4BFE-4EDA-9D77-E5E1BF12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3FA12-A993-49F2-A2B3-4072E494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7B009-00B0-437D-924C-9EEACCA1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DD14B-674F-440C-8E8A-B4D8AD0C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597-50AB-4705-9BFD-3BBACDE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C5275-862E-420B-B874-A63EFDA6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75090-8193-4554-90D2-15389F8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B9E9C-489C-4239-AF16-063BB0E4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89AD-4A8E-4544-8218-E7C6246B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129C9-7053-4DB9-A546-1EEF2CD1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D09F5-D935-44FF-A396-4FEAB42F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2660C-7B61-4ED3-A365-CF501FF6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AFACF-3672-4D0B-AD92-EBC6CF27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B08A5-4C0F-4C9E-A63B-70D5693D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7F1F5-CBB1-4CA7-B61D-9962701C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3029-C4DD-4CC3-A2B1-8C0C6C142B6D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F08B-D9E0-4B3F-B347-FD81C1E599CF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A22-C4F6-4D76-ABA7-23DE6B0C53A5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441B-EBF1-43A6-97B5-9F887AD1BD00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F60D-F894-4330-AE5C-4219C8CB0C51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C993-3062-4A0C-819C-068A6383DC51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5F37-855B-4149-9A5F-927FDBDCBC7A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0761-3F00-4D0C-BB5C-BBF090F7D747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8C6C-9FB8-4587-B39C-8AAF7E185F69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747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ans le cadre de l’étude de la </a:t>
            </a:r>
            <a:r>
              <a:rPr b="1" i="1" lang="fr-FR" sz="3200" spc="-1" strike="noStrike">
                <a:solidFill>
                  <a:srgbClr val="4e3b30"/>
                </a:solidFill>
                <a:latin typeface="Franklin Gothic Book"/>
              </a:rPr>
              <a:t>diversité de l’Asie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, voici ce que précisent les </a:t>
            </a:r>
            <a:r>
              <a:rPr b="1" lang="fr-FR" sz="3200" spc="-1" strike="noStrike">
                <a:solidFill>
                  <a:srgbClr val="4e3b30"/>
                </a:solidFill>
                <a:latin typeface="Franklin Gothic Book"/>
              </a:rPr>
              <a:t>nouveaux commentair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4e3b30"/>
                </a:solidFill>
                <a:latin typeface="Franklin Gothic Book"/>
              </a:rPr>
              <a:t>On montre, à partir de </a:t>
            </a:r>
            <a:r>
              <a:rPr b="1" i="1" lang="fr-FR" sz="3200" spc="-1" strike="noStrike">
                <a:solidFill>
                  <a:srgbClr val="4e3b30"/>
                </a:solidFill>
                <a:latin typeface="Franklin Gothic Book"/>
              </a:rPr>
              <a:t>deux exemples</a:t>
            </a:r>
            <a:r>
              <a:rPr b="0" i="1" lang="fr-FR" sz="3200" spc="-1" strike="noStrike">
                <a:solidFill>
                  <a:srgbClr val="4e3b30"/>
                </a:solidFill>
                <a:latin typeface="Franklin Gothic Book"/>
              </a:rPr>
              <a:t>, les liens entre niveau de développement et vulnérabilité face aux risques naturels, dans un contexte de concentration croissante de la population dans les zones exposées aux aléas naturel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re 1" descr=""/>
          <p:cNvPicPr/>
          <p:nvPr/>
        </p:nvPicPr>
        <p:blipFill>
          <a:blip r:embed="rId1"/>
          <a:stretch/>
        </p:blipFill>
        <p:spPr>
          <a:xfrm>
            <a:off x="115920" y="-133200"/>
            <a:ext cx="8862840" cy="1577880"/>
          </a:xfrm>
          <a:prstGeom prst="rect">
            <a:avLst/>
          </a:prstGeom>
          <a:ln w="0">
            <a:noFill/>
          </a:ln>
        </p:spPr>
      </p:pic>
      <p:pic>
        <p:nvPicPr>
          <p:cNvPr id="436" name="Espace réservé du contenu 3" descr="carte_base.jpg"/>
          <p:cNvPicPr/>
          <p:nvPr/>
        </p:nvPicPr>
        <p:blipFill>
          <a:blip r:embed="rId2"/>
          <a:stretch/>
        </p:blipFill>
        <p:spPr>
          <a:xfrm>
            <a:off x="428760" y="1428840"/>
            <a:ext cx="6667200" cy="440064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37" name="ZoneTexte 4"/>
          <p:cNvSpPr/>
          <p:nvPr/>
        </p:nvSpPr>
        <p:spPr>
          <a:xfrm>
            <a:off x="7294680" y="32148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Connecteur droit avec flèche 6"/>
          <p:cNvCxnSpPr>
            <a:stCxn id="437" idx="1"/>
          </p:cNvCxnSpPr>
          <p:nvPr/>
        </p:nvCxnSpPr>
        <p:spPr>
          <a:xfrm flipH="1" flipV="1">
            <a:off x="5142960" y="3285360"/>
            <a:ext cx="2143800" cy="113400"/>
          </a:xfrm>
          <a:prstGeom prst="straightConnector1">
            <a:avLst/>
          </a:prstGeom>
          <a:ln w="28440">
            <a:solidFill>
              <a:srgbClr val="271d1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r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4803840" cy="1487520"/>
          </a:xfrm>
          <a:prstGeom prst="rect">
            <a:avLst/>
          </a:prstGeom>
          <a:ln w="0">
            <a:noFill/>
          </a:ln>
        </p:spPr>
      </p:pic>
      <p:pic>
        <p:nvPicPr>
          <p:cNvPr id="440" name="Espace réservé du contenu 3" descr="densite_pop_bangladesh.jpg"/>
          <p:cNvPicPr/>
          <p:nvPr/>
        </p:nvPicPr>
        <p:blipFill>
          <a:blip r:embed="rId2"/>
          <a:stretch/>
        </p:blipFill>
        <p:spPr>
          <a:xfrm>
            <a:off x="785880" y="1928880"/>
            <a:ext cx="2786040" cy="378612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pic>
        <p:nvPicPr>
          <p:cNvPr id="441" name="Picture 5" descr="C:\Users\HP\Desktop\Bangladesh_MER_FR_Orbit08833_20031108.jpg"/>
          <p:cNvPicPr/>
          <p:nvPr/>
        </p:nvPicPr>
        <p:blipFill>
          <a:blip r:embed="rId3"/>
          <a:stretch/>
        </p:blipFill>
        <p:spPr>
          <a:xfrm>
            <a:off x="5429160" y="142920"/>
            <a:ext cx="3267000" cy="400356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42" name="ZoneTexte 5"/>
          <p:cNvSpPr/>
          <p:nvPr/>
        </p:nvSpPr>
        <p:spPr>
          <a:xfrm>
            <a:off x="3923280" y="4357800"/>
            <a:ext cx="4772520" cy="2014200"/>
          </a:xfrm>
          <a:prstGeom prst="rect">
            <a:avLst/>
          </a:prstGeom>
          <a:solidFill>
            <a:srgbClr val="dbc1a7"/>
          </a:solidFill>
          <a:ln w="9360">
            <a:solidFill>
              <a:srgbClr val="6c4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u Bangladesh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80% des terr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ins de 10 mètres d’altitu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lt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Gange et du Brahmapo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t un des deltas les plus étendus et les pl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ertil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 m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e delta continue de s’étendre dans la ba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édi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re 1" descr=""/>
          <p:cNvPicPr/>
          <p:nvPr/>
        </p:nvPicPr>
        <p:blipFill>
          <a:blip r:embed="rId1"/>
          <a:stretch/>
        </p:blipFill>
        <p:spPr>
          <a:xfrm>
            <a:off x="115920" y="96840"/>
            <a:ext cx="6303960" cy="1487520"/>
          </a:xfrm>
          <a:prstGeom prst="rect">
            <a:avLst/>
          </a:prstGeom>
          <a:ln w="0">
            <a:noFill/>
          </a:ln>
        </p:spPr>
      </p:pic>
      <p:pic>
        <p:nvPicPr>
          <p:cNvPr id="444" name="Espace réservé du contenu 3" descr="bdesh.jpg"/>
          <p:cNvPicPr/>
          <p:nvPr/>
        </p:nvPicPr>
        <p:blipFill>
          <a:blip r:embed="rId2"/>
          <a:stretch/>
        </p:blipFill>
        <p:spPr>
          <a:xfrm>
            <a:off x="214200" y="1285920"/>
            <a:ext cx="5486400" cy="369396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pic>
        <p:nvPicPr>
          <p:cNvPr id="445" name="Picture 5" descr="C:\Users\HP\Desktop\5è doc asie\bdesh marché au poisson.jpg"/>
          <p:cNvPicPr/>
          <p:nvPr/>
        </p:nvPicPr>
        <p:blipFill>
          <a:blip r:embed="rId3"/>
          <a:stretch/>
        </p:blipFill>
        <p:spPr>
          <a:xfrm>
            <a:off x="4286160" y="3786120"/>
            <a:ext cx="4857840" cy="307188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pic>
        <p:nvPicPr>
          <p:cNvPr id="446" name="Picture 6" descr="C:\Users\HP\Desktop\5è doc asie\bangladesh_x220.jpg"/>
          <p:cNvPicPr/>
          <p:nvPr/>
        </p:nvPicPr>
        <p:blipFill>
          <a:blip r:embed="rId4"/>
          <a:stretch/>
        </p:blipFill>
        <p:spPr>
          <a:xfrm>
            <a:off x="6786720" y="285840"/>
            <a:ext cx="2095200" cy="313380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Cette leçon nécessite deux heure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Les diapos 3 (présentation), 4 (définitions) et 5 (planisphère) introduisent la leçon sur le Bangladesh et le Jap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Sur la diapo 6, le tableau de compétences permet au élèves de connaître les capacités à mettre en œuvre et à auto-évaluer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Les fiches de travail sur le Japon et le Bangladesh sont étudiées en autonomie (on peut diviser la classe en deux groupes). Ce travail peut être terminé à la mais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La correction est collective. Les diapositives 7 à 12 servent de support illustratif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e3b30"/>
                </a:solidFill>
                <a:latin typeface="Franklin Gothic Book"/>
              </a:rPr>
              <a:t>Un résumé de synthèse termine la leç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re 1" descr=""/>
          <p:cNvPicPr/>
          <p:nvPr/>
        </p:nvPicPr>
        <p:blipFill>
          <a:blip r:embed="rId1"/>
          <a:stretch/>
        </p:blipFill>
        <p:spPr>
          <a:xfrm>
            <a:off x="219240" y="5297400"/>
            <a:ext cx="8600760" cy="1298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43329"/>
                </a:solidFill>
                <a:latin typeface="Franklin Gothic Book"/>
              </a:rPr>
              <a:t>L’ASI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C:\Users\HP\Documents\Beatrice\Espace personnel\cours\5ème\5è Asie\5è doc asie\bangladeshinondations.jpg"/>
          <p:cNvPicPr/>
          <p:nvPr/>
        </p:nvPicPr>
        <p:blipFill>
          <a:blip r:embed="rId2"/>
          <a:stretch/>
        </p:blipFill>
        <p:spPr>
          <a:xfrm>
            <a:off x="285840" y="214200"/>
            <a:ext cx="4929120" cy="3000600"/>
          </a:xfrm>
          <a:prstGeom prst="rect">
            <a:avLst/>
          </a:prstGeom>
          <a:ln w="9360">
            <a:solidFill>
              <a:srgbClr val="2a2003"/>
            </a:solidFill>
            <a:miter/>
          </a:ln>
        </p:spPr>
      </p:pic>
      <p:pic>
        <p:nvPicPr>
          <p:cNvPr id="406" name="Picture 3" descr="C:\Users\HP\Documents\Beatrice\Espace personnel\cours\5ème\5è Asie\5è doc asie\seisme kobe.jpg"/>
          <p:cNvPicPr/>
          <p:nvPr/>
        </p:nvPicPr>
        <p:blipFill>
          <a:blip r:embed="rId3"/>
          <a:stretch/>
        </p:blipFill>
        <p:spPr>
          <a:xfrm>
            <a:off x="4429080" y="2143080"/>
            <a:ext cx="4560840" cy="2944800"/>
          </a:xfrm>
          <a:prstGeom prst="rect">
            <a:avLst/>
          </a:prstGeom>
          <a:ln w="9360">
            <a:solidFill>
              <a:srgbClr val="2a2003"/>
            </a:solidFill>
            <a:miter/>
          </a:ln>
        </p:spPr>
      </p:pic>
      <p:sp>
        <p:nvSpPr>
          <p:cNvPr id="407" name="ZoneTexte 5"/>
          <p:cNvSpPr/>
          <p:nvPr/>
        </p:nvSpPr>
        <p:spPr>
          <a:xfrm>
            <a:off x="462240" y="32860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Franklin Gothic Book"/>
              </a:rPr>
              <a:t>Le 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06160" y="17146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Franklin Gothic Book"/>
              </a:rPr>
              <a:t>Le J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re 1" descr=""/>
          <p:cNvPicPr/>
          <p:nvPr/>
        </p:nvPicPr>
        <p:blipFill>
          <a:blip r:embed="rId1"/>
          <a:stretch/>
        </p:blipFill>
        <p:spPr>
          <a:xfrm>
            <a:off x="12600" y="274680"/>
            <a:ext cx="8985240" cy="2243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2214360"/>
            <a:ext cx="8686800" cy="4429080"/>
          </a:xfrm>
          <a:prstGeom prst="rect">
            <a:avLst/>
          </a:prstGeom>
          <a:solidFill>
            <a:srgbClr val="ecc8a4"/>
          </a:solidFill>
          <a:ln w="9360">
            <a:solidFill>
              <a:srgbClr val="523227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4e3b30"/>
                </a:solidFill>
                <a:uFillTx/>
                <a:latin typeface="Franklin Gothic Book"/>
              </a:rPr>
              <a:t>RISQUE NATUREL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1" lang="fr-FR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angers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auxquels les hommes et les biens sont exposés quand certains événements d’origine naturelle se produisent. Ces risques sont </a:t>
            </a:r>
            <a:r>
              <a:rPr b="1" lang="fr-FR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limatiques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(ex : cyclones…) ou </a:t>
            </a:r>
            <a:r>
              <a:rPr b="1" lang="fr-FR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géologiques</a:t>
            </a:r>
            <a:r>
              <a:rPr b="1" lang="fr-F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(ex : séismes, tsunamis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Il existe aussi des </a:t>
            </a:r>
            <a:r>
              <a:rPr b="1" lang="fr-FR" sz="4000" spc="-1" strike="noStrike" u="sng">
                <a:solidFill>
                  <a:srgbClr val="4e3b30"/>
                </a:solidFill>
                <a:uFillTx/>
                <a:latin typeface="Franklin Gothic Book"/>
              </a:rPr>
              <a:t>risques technologiques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(ex : pollution chimique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Espace réservé du contenu 3" descr="idh.bmp"/>
          <p:cNvPicPr/>
          <p:nvPr/>
        </p:nvPicPr>
        <p:blipFill>
          <a:blip r:embed="rId2"/>
          <a:stretch/>
        </p:blipFill>
        <p:spPr>
          <a:xfrm>
            <a:off x="500040" y="1928880"/>
            <a:ext cx="5715000" cy="376236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13" name="ZoneTexte 4"/>
          <p:cNvSpPr/>
          <p:nvPr/>
        </p:nvSpPr>
        <p:spPr>
          <a:xfrm>
            <a:off x="4435200" y="1428840"/>
            <a:ext cx="966960" cy="368280"/>
          </a:xfrm>
          <a:prstGeom prst="rect">
            <a:avLst/>
          </a:prstGeom>
          <a:noFill/>
          <a:ln w="9360">
            <a:solidFill>
              <a:srgbClr val="271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2003"/>
                </a:solidFill>
                <a:latin typeface="Arial"/>
              </a:rPr>
              <a:t>J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Connecteur droit avec flèche 6"/>
          <p:cNvCxnSpPr/>
          <p:nvPr/>
        </p:nvCxnSpPr>
        <p:spPr>
          <a:xfrm flipH="1">
            <a:off x="4928400" y="1785600"/>
            <a:ext cx="2520" cy="1072440"/>
          </a:xfrm>
          <a:prstGeom prst="straightConnector1">
            <a:avLst/>
          </a:prstGeom>
          <a:ln w="28440">
            <a:solidFill>
              <a:srgbClr val="271d18"/>
            </a:solidFill>
            <a:miter/>
            <a:tailEnd len="med" type="arrow" w="med"/>
          </a:ln>
        </p:spPr>
      </p:cxnSp>
      <p:sp>
        <p:nvSpPr>
          <p:cNvPr id="415" name="ZoneTexte 7"/>
          <p:cNvSpPr/>
          <p:nvPr/>
        </p:nvSpPr>
        <p:spPr>
          <a:xfrm>
            <a:off x="6929280" y="3857760"/>
            <a:ext cx="1812960" cy="368280"/>
          </a:xfrm>
          <a:prstGeom prst="rect">
            <a:avLst/>
          </a:prstGeom>
          <a:noFill/>
          <a:ln w="9360">
            <a:solidFill>
              <a:srgbClr val="271d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Connecteur droit avec flèche 9"/>
          <p:cNvCxnSpPr>
            <a:stCxn id="415" idx="1"/>
          </p:cNvCxnSpPr>
          <p:nvPr/>
        </p:nvCxnSpPr>
        <p:spPr>
          <a:xfrm flipH="1" flipV="1">
            <a:off x="4357080" y="3642840"/>
            <a:ext cx="2572200" cy="401040"/>
          </a:xfrm>
          <a:prstGeom prst="straightConnector1">
            <a:avLst/>
          </a:prstGeom>
          <a:ln w="28440">
            <a:solidFill>
              <a:srgbClr val="271d1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r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solidFill>
            <a:srgbClr val="dbc1a7"/>
          </a:solidFill>
          <a:ln w="9360">
            <a:solidFill>
              <a:srgbClr val="6c4c2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1- Etre capable de localiser un pay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2- Etre capable de répondre aux questions dans l’ordr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3- Etre capable de prélever des informations dans un documen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4- Etre capable de mettre en relation des document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5- Etre capable de répondre par des phrases complètes et correct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15920" y="23760"/>
            <a:ext cx="8862840" cy="1487520"/>
          </a:xfrm>
          <a:prstGeom prst="rect">
            <a:avLst/>
          </a:prstGeom>
          <a:ln w="0">
            <a:noFill/>
          </a:ln>
        </p:spPr>
      </p:pic>
      <p:pic>
        <p:nvPicPr>
          <p:cNvPr id="420" name="Espace réservé du contenu 3" descr="CarteSeis.jpg"/>
          <p:cNvPicPr/>
          <p:nvPr/>
        </p:nvPicPr>
        <p:blipFill>
          <a:blip r:embed="rId2"/>
          <a:stretch/>
        </p:blipFill>
        <p:spPr>
          <a:xfrm>
            <a:off x="142920" y="1214280"/>
            <a:ext cx="5283000" cy="321336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pic>
        <p:nvPicPr>
          <p:cNvPr id="421" name="Picture 2" descr="C:\Users\HP\Desktop\5è doc asie\carte séismes japon.bmp"/>
          <p:cNvPicPr/>
          <p:nvPr/>
        </p:nvPicPr>
        <p:blipFill>
          <a:blip r:embed="rId3"/>
          <a:stretch/>
        </p:blipFill>
        <p:spPr>
          <a:xfrm>
            <a:off x="5286240" y="2500200"/>
            <a:ext cx="3857760" cy="435780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22" name="Arc 5"/>
          <p:cNvSpPr/>
          <p:nvPr/>
        </p:nvSpPr>
        <p:spPr>
          <a:xfrm>
            <a:off x="785880" y="2214720"/>
            <a:ext cx="1714320" cy="164304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Connecteur droit avec flèche 7"/>
          <p:cNvCxnSpPr/>
          <p:nvPr/>
        </p:nvCxnSpPr>
        <p:spPr>
          <a:xfrm flipV="1">
            <a:off x="999000" y="3714120"/>
            <a:ext cx="72360" cy="1500840"/>
          </a:xfrm>
          <a:prstGeom prst="straightConnector1">
            <a:avLst/>
          </a:prstGeom>
          <a:ln w="28440">
            <a:solidFill>
              <a:srgbClr val="271d18"/>
            </a:solidFill>
            <a:miter/>
            <a:tailEnd len="med" type="arrow" w="med"/>
          </a:ln>
        </p:spPr>
      </p:cxnSp>
      <p:sp>
        <p:nvSpPr>
          <p:cNvPr id="424" name="ZoneTexte 8"/>
          <p:cNvSpPr/>
          <p:nvPr/>
        </p:nvSpPr>
        <p:spPr>
          <a:xfrm>
            <a:off x="230760" y="5143680"/>
            <a:ext cx="35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La ceinture de feu du Pa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necteur droit avec flèche 10"/>
          <p:cNvCxnSpPr/>
          <p:nvPr/>
        </p:nvCxnSpPr>
        <p:spPr>
          <a:xfrm flipH="1">
            <a:off x="1213560" y="1428480"/>
            <a:ext cx="358200" cy="929160"/>
          </a:xfrm>
          <a:prstGeom prst="straightConnector1">
            <a:avLst/>
          </a:prstGeom>
          <a:ln w="28440">
            <a:solidFill>
              <a:srgbClr val="271d18"/>
            </a:solidFill>
            <a:miter/>
            <a:tailEnd len="med" type="arrow" w="med"/>
          </a:ln>
        </p:spPr>
      </p:cxnSp>
      <p:sp>
        <p:nvSpPr>
          <p:cNvPr id="426" name="ZoneTexte 11"/>
          <p:cNvSpPr/>
          <p:nvPr/>
        </p:nvSpPr>
        <p:spPr>
          <a:xfrm>
            <a:off x="1362240" y="12142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71d18"/>
                </a:solidFill>
                <a:latin typeface="Arial"/>
              </a:rPr>
              <a:t>JAP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Espace réservé du contenu 3" descr="seisme 2007 NW Tokyo.jpg"/>
          <p:cNvPicPr/>
          <p:nvPr/>
        </p:nvPicPr>
        <p:blipFill>
          <a:blip r:embed="rId2"/>
          <a:stretch/>
        </p:blipFill>
        <p:spPr>
          <a:xfrm>
            <a:off x="214200" y="1571760"/>
            <a:ext cx="5715000" cy="385740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pic>
        <p:nvPicPr>
          <p:cNvPr id="429" name="Picture 3" descr="C:\Users\HP\Desktop\5è doc asie\tr terre.bmp"/>
          <p:cNvPicPr/>
          <p:nvPr/>
        </p:nvPicPr>
        <p:blipFill>
          <a:blip r:embed="rId3"/>
          <a:stretch/>
        </p:blipFill>
        <p:spPr>
          <a:xfrm>
            <a:off x="6215040" y="3429000"/>
            <a:ext cx="1924200" cy="284796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1" name="Espace réservé du contenu 3" descr="seisme_japon02.jpg"/>
          <p:cNvPicPr/>
          <p:nvPr/>
        </p:nvPicPr>
        <p:blipFill>
          <a:blip r:embed="rId2"/>
          <a:stretch/>
        </p:blipFill>
        <p:spPr>
          <a:xfrm>
            <a:off x="357120" y="1214280"/>
            <a:ext cx="3810240" cy="381024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32" name="ZoneTexte 4"/>
          <p:cNvSpPr/>
          <p:nvPr/>
        </p:nvSpPr>
        <p:spPr>
          <a:xfrm>
            <a:off x="371880" y="521496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Image de pré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à destination des éco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C:\Users\HP\Desktop\5è doc asie\constr.antisism..jpg"/>
          <p:cNvPicPr/>
          <p:nvPr/>
        </p:nvPicPr>
        <p:blipFill>
          <a:blip r:embed="rId3"/>
          <a:stretch/>
        </p:blipFill>
        <p:spPr>
          <a:xfrm>
            <a:off x="5000760" y="928800"/>
            <a:ext cx="3828960" cy="5715000"/>
          </a:xfrm>
          <a:prstGeom prst="rect">
            <a:avLst/>
          </a:prstGeom>
          <a:ln w="9360">
            <a:solidFill>
              <a:srgbClr val="271d18"/>
            </a:solidFill>
            <a:miter/>
          </a:ln>
        </p:spPr>
      </p:pic>
      <p:sp>
        <p:nvSpPr>
          <p:cNvPr id="434" name="ZoneTexte 6"/>
          <p:cNvSpPr/>
          <p:nvPr/>
        </p:nvSpPr>
        <p:spPr>
          <a:xfrm>
            <a:off x="5517360" y="50004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71d18"/>
                </a:solidFill>
                <a:latin typeface="Arial"/>
              </a:rPr>
              <a:t>Construction parasis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9:51:40Z</dcterms:created>
  <dc:creator>Beatrice Legris</dc:creator>
  <dc:description/>
  <dc:language>en-US</dc:language>
  <cp:lastModifiedBy>Beatrice Legris</cp:lastModifiedBy>
  <dcterms:modified xsi:type="dcterms:W3CDTF">2008-04-17T07:05:28Z</dcterms:modified>
  <cp:revision>37</cp:revision>
  <dc:subject/>
  <dc:title>QUELS SONT LES LIENS ENTRE VULNERABILITE ET RISQUES NATURELS ?</dc:title>
</cp:coreProperties>
</file>