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1.jpeg" ContentType="image/jpeg"/>
  <Override PartName="/ppt/media/image36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6CC8-DA2B-4422-A691-B85B4028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3355-50FC-4612-AC2A-0AA4977E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37F8-72D4-47FA-B740-6052AEE5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64FF-96EB-4561-9903-7D6EED7A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33ED-7861-4A5C-9312-9D45E695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F266-D77E-417C-AA96-C6888B93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6B82-21D3-48D2-AFC1-8CF0174E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B7DC-9C86-4CDE-A7BB-1452C1BA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CE61-E951-4F6A-BB80-CCC427C5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C30C-2101-45ED-8766-B0565CBA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BBCA-6A48-42EA-93E7-CF640493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F930-B178-4D6A-AF81-61A97AD7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4080-BA82-46B2-BFE0-CA55D312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3D3F-5FF4-4B50-966D-FCF0D14A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680F-5962-4D6A-8765-DA6FB421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8E4F-5B16-4E53-A138-5316FBC7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2E92-41A3-4443-B012-44020341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DBE9-4059-46F1-862A-D27EE91C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3FF7-7A84-4464-BC5C-9535BB7B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ACBD-D42E-4861-B196-9B5EA46A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FD6B-8EE8-496E-AEE1-57E8AB0B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E9EF-90D2-4407-B157-00DAF75E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F100-19D8-4157-AB56-07132411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C21E-13BC-4EC7-A450-1E834A49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262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40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4949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414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03e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3938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3938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3635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2726"/>
                </a:gs>
                <a:gs pos="100000">
                  <a:srgbClr val="006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DA9A-08D2-40B8-9A73-ABA827C3E4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e3e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4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262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40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4949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4141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4d4d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4745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555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6868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07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46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403e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4342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605d"/>
                </a:gs>
                <a:gs pos="100000">
                  <a:srgbClr val="00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494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494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7474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A0B7-0019-408C-936F-9EB9FD3E44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e3e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- cours 9 -</a:t>
            </a:r>
            <a:br>
              <a:rPr sz="18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s grandes vil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32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-812880">
              <a:spcBef>
                <a:spcPts val="700"/>
              </a:spcBef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archipel de vi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tanbul : « la porte de la félicité 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cc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mas : la capitale du pèlerin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55640" y="57340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4665 L’Empire otto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fan W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7451640" y="5734080"/>
            <a:ext cx="79236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250920" y="61657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l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I. Istanbul : « la porte de la félicité 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ercice de l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 site du pouvo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’économie urba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mise en scène du pouvo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5218200" y="1600200"/>
            <a:ext cx="28972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1. Exercice de lecture</a:t>
            </a:r>
            <a:br>
              <a:rPr sz="3200"/>
            </a:b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Bernard Lewis, 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Istanbul et la civilisation ottomane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 (J.C. Lattès, 1990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cture et résumé des textes en comités de 2 ou 3 (15 m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3300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s guildes (I) : pp. 124-131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3300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s guildes (II) : pp. 131-13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3300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s autorités (I) : pp. 141-1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3300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s autorités (II) : pp. 149-1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scussion en groupe de 8-10 (15 minu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 quoi vivait la ville d'Istanbul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ment la société était-elle organisé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ment le pouvoir ottoman se représentait-il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 avait-il une identité commune d'istanbouliot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scussion plénière (10 minu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2. Le site du pouvoi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apitale impéri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ymbolisme impé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ésidence du sultan « </a:t>
            </a:r>
            <a:r>
              <a:rPr b="0" i="1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bü's-saadet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construction sous Mehmed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oulevards représentati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tion de mosquées par les no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lle garn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ppodrome des Janiss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7308720" y="33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99"/>
                </a:solidFill>
                <a:latin typeface="Arial"/>
              </a:rPr>
              <a:t>Kad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ı-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95280" y="26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Janissa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841920" cy="583272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4867200" y="765000"/>
            <a:ext cx="38419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 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48243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stanbul, Pera, Eyüb, Üskü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euplement selon origines géograph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 en </a:t>
            </a:r>
            <a:r>
              <a:rPr b="0" i="1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ahalle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quart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squée (ou église ou synagogue), bain, fontaine publ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700 : 600 000-700 000 habi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5"/>
          <a:stretch/>
        </p:blipFill>
        <p:spPr>
          <a:xfrm>
            <a:off x="5330880" y="765000"/>
            <a:ext cx="3379680" cy="5256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7920000" y="57340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Arial"/>
              </a:rPr>
              <a:t>Eyü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4859280" y="765000"/>
            <a:ext cx="3840120" cy="583272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3841560" cy="583092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468360" y="260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« Médecin Juif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012000" y="33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99"/>
                </a:solidFill>
                <a:latin typeface="Arial"/>
              </a:rPr>
              <a:t>« Fille de Joye Turque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3. L’économie urbai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arché central : artisanat et f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outiques, khans, </a:t>
            </a:r>
            <a:r>
              <a:rPr b="0" i="1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ezes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arché-entrepôt : commerce intern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inancement par les </a:t>
            </a:r>
            <a:r>
              <a:rPr b="0" i="1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akıf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priv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y’avait-il un secteur publiqu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tection contre les incen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églementation du mar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provisionnement de la ville, des janiss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68360" y="260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« Marchant Raguse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012000" y="33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99"/>
                </a:solidFill>
                <a:latin typeface="Arial"/>
              </a:rPr>
              <a:t>« Esclave m[au]re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840120" cy="583272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913280" y="765000"/>
            <a:ext cx="38419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4. La mise en scène du pouvoi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processions militaro-commer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fêtes et réjouissances publ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intronisations, circon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architecture représent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adoption du style baro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« culte » du pal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fêtes roy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culture des tuli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5"/>
          <a:stretch/>
        </p:blipFill>
        <p:spPr>
          <a:xfrm>
            <a:off x="4284720" y="4076640"/>
            <a:ext cx="40370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. Un archipel de ville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793116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ville ottomane : définition et problémat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 types de vi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structure interne des vi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68360" y="260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« Turque allant au Bain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227640" y="33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« Marchant Arabe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833640" cy="58201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4775040" y="765000"/>
            <a:ext cx="38419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II. Damas : la capitale du pèlerinag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402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ntégration ou autonomi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a dynastie 'Az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'identité religi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5148360" y="2060640"/>
            <a:ext cx="36716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3851280" y="3068640"/>
            <a:ext cx="5292720" cy="378000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Intégration ou autonomi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38836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 tombeau du maître soufie Ibn al-‘Arabi : une raison pour la conquêt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égration des émirs mamlou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stige relig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ndation de</a:t>
            </a:r>
            <a:r>
              <a:rPr b="0" i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medr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ute des pèler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19280" y="623736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squée Sinan Pach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6597720" y="1700280"/>
            <a:ext cx="2546280" cy="396072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2. La dynastie 'Az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71276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amille d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y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notables) par excel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rigines turkmènes ; service milita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tables locaux à H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4392720" cy="28224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6156360" y="623736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Arial"/>
              </a:rPr>
              <a:t>palais ‘Azm, Hama (199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omination du poste de gouverneur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1704-1785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5833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investissements commerciau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résence loca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monopole sur les gouvernorats de la rég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ripoli, Sayda, Alep, Raqq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germe d'une identité nationale syrienne 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5"/>
          <a:stretch/>
        </p:blipFill>
        <p:spPr>
          <a:xfrm>
            <a:off x="6229440" y="1484280"/>
            <a:ext cx="29145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856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3. L'identité religieuse à Dama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779640" y="1413000"/>
            <a:ext cx="51130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éparation de la hiérarchie militaire, 18e siè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uverneur de Damas = </a:t>
            </a:r>
            <a:r>
              <a:rPr b="1" i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mir el-ha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venue de toute la Syrie réservé pour l'organisation du pèler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stige relig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émi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ndation de </a:t>
            </a:r>
            <a:r>
              <a:rPr b="0" i="1" lang="fr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akı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195640" y="630864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Arial"/>
              </a:rPr>
              <a:t>Takiyya Sulaymaniyy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ermeture à l'extéri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terdit aux Europé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u de commerce intern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mination économique par les villes portuai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yda, Beyro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5" name="" descr="oum.gif (117532 bytes)"/>
          <p:cNvPicPr/>
          <p:nvPr/>
        </p:nvPicPr>
        <p:blipFill>
          <a:blip r:embed="rId3"/>
          <a:stretch/>
        </p:blipFill>
        <p:spPr>
          <a:xfrm>
            <a:off x="0" y="836640"/>
            <a:ext cx="4572000" cy="300672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4"/>
          <a:stretch/>
        </p:blipFill>
        <p:spPr>
          <a:xfrm>
            <a:off x="3059280" y="3645000"/>
            <a:ext cx="189864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4038480" cy="2581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1564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(IV. Alep : le terminus de la route de soie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efour ethn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abes, Kurdes, Arméniens, Turcs, Franc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efour commer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us pour les caravanes de l’Anatolie, de Mosul, de l’Iraq, de Dama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ébouché sur la Méditerran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éveloppement du port d’Iskenderun, années 15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125360" y="1600200"/>
            <a:ext cx="2702160" cy="453384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4648320" y="252108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629160" cy="604836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48592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1. Définition et problématiqu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’est-ce qui fait une vi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toman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lamiqu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lle importance eurent les villes dans l’Empire ottoman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u de fondations de nouvelles vil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lles « fonctions » avaient les vill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885080" y="63817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ffffff"/>
                </a:solidFill>
                <a:latin typeface="Arial"/>
              </a:rPr>
              <a:t>Nev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şeh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4176720" cy="54453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4722840" y="981000"/>
            <a:ext cx="4421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3780000" y="5084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12000" y="1916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476360" y="33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187280" y="620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948360" y="378936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16360" y="292428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148360" y="3933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867280" y="227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76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Bosna Sar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59280" y="40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372360" y="40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g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651640" y="2492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Diyarbek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03640" y="184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564000" y="530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a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11280" y="6308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Les types de villes : Les centres religieux et militai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227640" y="191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zur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067280" y="256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763640" y="26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56000" y="134136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00360" y="119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r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03640" y="1557360"/>
            <a:ext cx="216000" cy="21744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entres militair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32688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24000" y="3852720"/>
            <a:ext cx="3382920" cy="21751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1908000" y="3068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Diyarbek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19280" y="364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r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0767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5796000" y="836640"/>
            <a:ext cx="3306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3995640" y="4653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219640" y="3141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411280" y="162864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476360" y="33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00000" y="69228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8508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771640" y="23493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859280" y="378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659640" y="306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971640" y="83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g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58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xand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43280" y="242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zm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763640" y="260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643280" y="40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y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88000" y="270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187280" y="148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oni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451640" y="40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372360" y="270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4000" y="2637000"/>
            <a:ext cx="2305080" cy="576000"/>
          </a:xfrm>
          <a:custGeom>
            <a:avLst/>
            <a:gdLst/>
            <a:ahLst/>
            <a:rect l="l" t="t" r="r" b="b"/>
            <a:pathLst>
              <a:path w="1452" h="363">
                <a:moveTo>
                  <a:pt x="1452" y="0"/>
                </a:moveTo>
                <a:cubicBezTo>
                  <a:pt x="1278" y="83"/>
                  <a:pt x="1104" y="166"/>
                  <a:pt x="862" y="226"/>
                </a:cubicBezTo>
                <a:cubicBezTo>
                  <a:pt x="620" y="286"/>
                  <a:pt x="143" y="340"/>
                  <a:pt x="0" y="3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763640" y="3789360"/>
            <a:ext cx="2879640" cy="299880"/>
          </a:xfrm>
          <a:custGeom>
            <a:avLst/>
            <a:gdLst/>
            <a:ahLst/>
            <a:rect l="l" t="t" r="r" b="b"/>
            <a:pathLst>
              <a:path w="1814" h="189">
                <a:moveTo>
                  <a:pt x="1814" y="45"/>
                </a:moveTo>
                <a:cubicBezTo>
                  <a:pt x="1693" y="117"/>
                  <a:pt x="1572" y="189"/>
                  <a:pt x="1270" y="181"/>
                </a:cubicBezTo>
                <a:cubicBezTo>
                  <a:pt x="968" y="173"/>
                  <a:pt x="484" y="8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580000" y="3057480"/>
            <a:ext cx="936720" cy="155520"/>
          </a:xfrm>
          <a:custGeom>
            <a:avLst/>
            <a:gdLst/>
            <a:ahLst/>
            <a:rect l="l" t="t" r="r" b="b"/>
            <a:pathLst>
              <a:path w="590" h="98">
                <a:moveTo>
                  <a:pt x="0" y="98"/>
                </a:moveTo>
                <a:cubicBezTo>
                  <a:pt x="87" y="56"/>
                  <a:pt x="174" y="14"/>
                  <a:pt x="272" y="7"/>
                </a:cubicBezTo>
                <a:cubicBezTo>
                  <a:pt x="370" y="0"/>
                  <a:pt x="537" y="45"/>
                  <a:pt x="590" y="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35640" y="3357720"/>
            <a:ext cx="2305080" cy="1223640"/>
          </a:xfrm>
          <a:custGeom>
            <a:avLst/>
            <a:gdLst/>
            <a:ahLst/>
            <a:rect l="l" t="t" r="r" b="b"/>
            <a:pathLst>
              <a:path w="1452" h="771">
                <a:moveTo>
                  <a:pt x="0" y="0"/>
                </a:moveTo>
                <a:cubicBezTo>
                  <a:pt x="242" y="185"/>
                  <a:pt x="484" y="371"/>
                  <a:pt x="726" y="499"/>
                </a:cubicBezTo>
                <a:cubicBezTo>
                  <a:pt x="968" y="627"/>
                  <a:pt x="1210" y="699"/>
                  <a:pt x="1452" y="77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419640" y="1844640"/>
            <a:ext cx="1657080" cy="1297080"/>
          </a:xfrm>
          <a:custGeom>
            <a:avLst/>
            <a:gdLst/>
            <a:ahLst/>
            <a:rect l="l" t="t" r="r" b="b"/>
            <a:pathLst>
              <a:path w="1044" h="817">
                <a:moveTo>
                  <a:pt x="1044" y="817"/>
                </a:moveTo>
                <a:cubicBezTo>
                  <a:pt x="923" y="767"/>
                  <a:pt x="802" y="718"/>
                  <a:pt x="681" y="635"/>
                </a:cubicBezTo>
                <a:cubicBezTo>
                  <a:pt x="560" y="552"/>
                  <a:pt x="431" y="424"/>
                  <a:pt x="318" y="318"/>
                </a:cubicBezTo>
                <a:cubicBezTo>
                  <a:pt x="205" y="212"/>
                  <a:pt x="102" y="10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987640" y="1844640"/>
            <a:ext cx="216000" cy="432000"/>
          </a:xfrm>
          <a:custGeom>
            <a:avLst/>
            <a:gdLst/>
            <a:ahLst/>
            <a:rect l="l" t="t" r="r" b="b"/>
            <a:pathLst>
              <a:path w="136" h="272">
                <a:moveTo>
                  <a:pt x="0" y="272"/>
                </a:moveTo>
                <a:cubicBezTo>
                  <a:pt x="0" y="272"/>
                  <a:pt x="68" y="136"/>
                  <a:pt x="13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627280" y="1546200"/>
            <a:ext cx="504720" cy="82440"/>
          </a:xfrm>
          <a:custGeom>
            <a:avLst/>
            <a:gdLst/>
            <a:ahLst/>
            <a:rect l="l" t="t" r="r" b="b"/>
            <a:pathLst>
              <a:path w="318" h="52">
                <a:moveTo>
                  <a:pt x="318" y="52"/>
                </a:moveTo>
                <a:cubicBezTo>
                  <a:pt x="253" y="33"/>
                  <a:pt x="189" y="14"/>
                  <a:pt x="136" y="7"/>
                </a:cubicBezTo>
                <a:cubicBezTo>
                  <a:pt x="83" y="0"/>
                  <a:pt x="41" y="3"/>
                  <a:pt x="0" y="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92360" y="549360"/>
            <a:ext cx="1511280" cy="1008000"/>
          </a:xfrm>
          <a:custGeom>
            <a:avLst/>
            <a:gdLst/>
            <a:ahLst/>
            <a:rect l="l" t="t" r="r" b="b"/>
            <a:pathLst>
              <a:path w="952" h="635">
                <a:moveTo>
                  <a:pt x="952" y="635"/>
                </a:moveTo>
                <a:cubicBezTo>
                  <a:pt x="880" y="559"/>
                  <a:pt x="808" y="484"/>
                  <a:pt x="725" y="408"/>
                </a:cubicBezTo>
                <a:cubicBezTo>
                  <a:pt x="642" y="332"/>
                  <a:pt x="574" y="249"/>
                  <a:pt x="453" y="181"/>
                </a:cubicBezTo>
                <a:cubicBezTo>
                  <a:pt x="332" y="113"/>
                  <a:pt x="166" y="56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042920" y="476280"/>
            <a:ext cx="289080" cy="144360"/>
          </a:xfrm>
          <a:custGeom>
            <a:avLst/>
            <a:gdLst/>
            <a:ahLst/>
            <a:rect l="l" t="t" r="r" b="b"/>
            <a:pathLst>
              <a:path w="182" h="91">
                <a:moveTo>
                  <a:pt x="182" y="0"/>
                </a:moveTo>
                <a:cubicBezTo>
                  <a:pt x="182" y="0"/>
                  <a:pt x="91" y="45"/>
                  <a:pt x="0" y="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08000" y="549360"/>
            <a:ext cx="718920" cy="358560"/>
          </a:xfrm>
          <a:custGeom>
            <a:avLst/>
            <a:gdLst/>
            <a:ahLst/>
            <a:rect l="l" t="t" r="r" b="b"/>
            <a:pathLst>
              <a:path w="453" h="226">
                <a:moveTo>
                  <a:pt x="453" y="226"/>
                </a:moveTo>
                <a:cubicBezTo>
                  <a:pt x="354" y="200"/>
                  <a:pt x="256" y="174"/>
                  <a:pt x="181" y="136"/>
                </a:cubicBezTo>
                <a:cubicBezTo>
                  <a:pt x="106" y="98"/>
                  <a:pt x="53" y="49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16360" y="134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z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435640" y="1700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492360" y="1557360"/>
            <a:ext cx="1873440" cy="239760"/>
          </a:xfrm>
          <a:custGeom>
            <a:avLst/>
            <a:gdLst/>
            <a:ahLst/>
            <a:rect l="l" t="t" r="r" b="b"/>
            <a:pathLst>
              <a:path w="1180" h="151">
                <a:moveTo>
                  <a:pt x="0" y="60"/>
                </a:moveTo>
                <a:cubicBezTo>
                  <a:pt x="174" y="30"/>
                  <a:pt x="348" y="0"/>
                  <a:pt x="545" y="15"/>
                </a:cubicBezTo>
                <a:cubicBezTo>
                  <a:pt x="742" y="30"/>
                  <a:pt x="961" y="90"/>
                  <a:pt x="1180" y="15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24360" y="549360"/>
            <a:ext cx="1224000" cy="1224000"/>
          </a:xfrm>
          <a:custGeom>
            <a:avLst/>
            <a:gdLst/>
            <a:ahLst/>
            <a:rect l="l" t="t" r="r" b="b"/>
            <a:pathLst>
              <a:path w="771" h="771">
                <a:moveTo>
                  <a:pt x="0" y="771"/>
                </a:moveTo>
                <a:cubicBezTo>
                  <a:pt x="128" y="741"/>
                  <a:pt x="257" y="711"/>
                  <a:pt x="363" y="635"/>
                </a:cubicBezTo>
                <a:cubicBezTo>
                  <a:pt x="469" y="559"/>
                  <a:pt x="567" y="423"/>
                  <a:pt x="635" y="317"/>
                </a:cubicBezTo>
                <a:cubicBezTo>
                  <a:pt x="703" y="211"/>
                  <a:pt x="737" y="105"/>
                  <a:pt x="77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020000" y="3068640"/>
            <a:ext cx="1728720" cy="73080"/>
          </a:xfrm>
          <a:custGeom>
            <a:avLst/>
            <a:gdLst/>
            <a:ahLst/>
            <a:rect l="l" t="t" r="r" b="b"/>
            <a:pathLst>
              <a:path w="1089" h="46">
                <a:moveTo>
                  <a:pt x="0" y="46"/>
                </a:moveTo>
                <a:cubicBezTo>
                  <a:pt x="250" y="23"/>
                  <a:pt x="500" y="0"/>
                  <a:pt x="681" y="0"/>
                </a:cubicBezTo>
                <a:cubicBezTo>
                  <a:pt x="862" y="0"/>
                  <a:pt x="975" y="23"/>
                  <a:pt x="1089" y="4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76720" y="335772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136" y="0"/>
                </a:moveTo>
                <a:cubicBezTo>
                  <a:pt x="136" y="0"/>
                  <a:pt x="68" y="90"/>
                  <a:pt x="0" y="1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5280" y="630864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 grandes villes commerç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995640" y="4941720"/>
            <a:ext cx="720720" cy="1008360"/>
          </a:xfrm>
          <a:custGeom>
            <a:avLst/>
            <a:gdLst/>
            <a:ahLst/>
            <a:rect l="l" t="t" r="r" b="b"/>
            <a:pathLst>
              <a:path w="454" h="635">
                <a:moveTo>
                  <a:pt x="0" y="0"/>
                </a:moveTo>
                <a:cubicBezTo>
                  <a:pt x="19" y="67"/>
                  <a:pt x="38" y="135"/>
                  <a:pt x="91" y="226"/>
                </a:cubicBezTo>
                <a:cubicBezTo>
                  <a:pt x="144" y="317"/>
                  <a:pt x="257" y="476"/>
                  <a:pt x="318" y="544"/>
                </a:cubicBezTo>
                <a:cubicBezTo>
                  <a:pt x="379" y="612"/>
                  <a:pt x="416" y="623"/>
                  <a:pt x="454" y="6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067280" y="4005360"/>
            <a:ext cx="649080" cy="503280"/>
          </a:xfrm>
          <a:custGeom>
            <a:avLst/>
            <a:gdLst/>
            <a:ahLst/>
            <a:rect l="l" t="t" r="r" b="b"/>
            <a:pathLst>
              <a:path w="409" h="317">
                <a:moveTo>
                  <a:pt x="409" y="0"/>
                </a:moveTo>
                <a:cubicBezTo>
                  <a:pt x="307" y="19"/>
                  <a:pt x="205" y="38"/>
                  <a:pt x="137" y="91"/>
                </a:cubicBezTo>
                <a:cubicBezTo>
                  <a:pt x="69" y="144"/>
                  <a:pt x="34" y="230"/>
                  <a:pt x="0" y="31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43280" y="2708280"/>
            <a:ext cx="1008000" cy="1800360"/>
          </a:xfrm>
          <a:custGeom>
            <a:avLst/>
            <a:gdLst/>
            <a:ahLst/>
            <a:rect l="l" t="t" r="r" b="b"/>
            <a:pathLst>
              <a:path w="635" h="1134">
                <a:moveTo>
                  <a:pt x="635" y="1134"/>
                </a:moveTo>
                <a:cubicBezTo>
                  <a:pt x="484" y="934"/>
                  <a:pt x="333" y="734"/>
                  <a:pt x="227" y="545"/>
                </a:cubicBezTo>
                <a:cubicBezTo>
                  <a:pt x="121" y="356"/>
                  <a:pt x="60" y="17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26920" y="1844640"/>
            <a:ext cx="1584360" cy="720720"/>
          </a:xfrm>
          <a:custGeom>
            <a:avLst/>
            <a:gdLst/>
            <a:ahLst/>
            <a:rect l="l" t="t" r="r" b="b"/>
            <a:pathLst>
              <a:path w="998" h="454">
                <a:moveTo>
                  <a:pt x="998" y="0"/>
                </a:moveTo>
                <a:cubicBezTo>
                  <a:pt x="979" y="57"/>
                  <a:pt x="961" y="114"/>
                  <a:pt x="953" y="182"/>
                </a:cubicBezTo>
                <a:cubicBezTo>
                  <a:pt x="945" y="250"/>
                  <a:pt x="998" y="363"/>
                  <a:pt x="953" y="408"/>
                </a:cubicBezTo>
                <a:cubicBezTo>
                  <a:pt x="908" y="453"/>
                  <a:pt x="802" y="454"/>
                  <a:pt x="681" y="454"/>
                </a:cubicBezTo>
                <a:cubicBezTo>
                  <a:pt x="560" y="454"/>
                  <a:pt x="340" y="416"/>
                  <a:pt x="227" y="408"/>
                </a:cubicBezTo>
                <a:cubicBezTo>
                  <a:pt x="114" y="400"/>
                  <a:pt x="57" y="404"/>
                  <a:pt x="0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101080" y="4724280"/>
            <a:ext cx="792000" cy="720720"/>
          </a:xfrm>
          <a:custGeom>
            <a:avLst/>
            <a:gdLst/>
            <a:ahLst/>
            <a:rect l="l" t="t" r="r" b="b"/>
            <a:pathLst>
              <a:path w="499" h="454">
                <a:moveTo>
                  <a:pt x="0" y="0"/>
                </a:moveTo>
                <a:cubicBezTo>
                  <a:pt x="49" y="75"/>
                  <a:pt x="98" y="151"/>
                  <a:pt x="181" y="227"/>
                </a:cubicBezTo>
                <a:cubicBezTo>
                  <a:pt x="264" y="303"/>
                  <a:pt x="381" y="378"/>
                  <a:pt x="499" y="45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03640" y="1557360"/>
            <a:ext cx="216000" cy="21744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ntres commerciaux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038480" cy="259560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389320" cy="37162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2987640" y="3860640"/>
            <a:ext cx="4248360" cy="27133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24000" y="4292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y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050920" y="6093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zm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667640" y="39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o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e coeur d’une ville commerçante :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e kha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423960" cy="53262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4222800" y="1844640"/>
            <a:ext cx="4248000" cy="439272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2771640" y="58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56000" y="58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0" y="3494160"/>
            <a:ext cx="5256360" cy="33638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3851280" y="0"/>
            <a:ext cx="5292720" cy="333864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7559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Diyarbek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57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yda (« Khan des Français 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9:49:26Z</dcterms:created>
  <dc:creator>UQAM</dc:creator>
  <dc:description/>
  <dc:language>en-US</dc:language>
  <cp:lastModifiedBy>UQAM</cp:lastModifiedBy>
  <dcterms:modified xsi:type="dcterms:W3CDTF">2008-10-27T17:49:53Z</dcterms:modified>
  <cp:revision>32</cp:revision>
  <dc:subject/>
  <dc:title>Les grandes villes (3 novembre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74150140</vt:r8>
  </property>
  <property fmtid="{D5CDD505-2E9C-101B-9397-08002B2CF9AE}" pid="3" name="_AuthorEmail">
    <vt:lpwstr>winter.stefan@uqam.ca</vt:lpwstr>
  </property>
  <property fmtid="{D5CDD505-2E9C-101B-9397-08002B2CF9AE}" pid="4" name="_AuthorEmailDisplayName">
    <vt:lpwstr>Winter, Stéfan</vt:lpwstr>
  </property>
  <property fmtid="{D5CDD505-2E9C-101B-9397-08002B2CF9AE}" pid="5" name="_EmailSubject">
    <vt:lpwstr>4665</vt:lpwstr>
  </property>
</Properties>
</file>