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11.jpeg" ContentType="image/jpeg"/>
  <Override PartName="/ppt/media/image36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25.jpeg" ContentType="image/jpeg"/>
  <Override PartName="/ppt/media/image2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5.png" ContentType="image/png"/>
  <Override PartName="/ppt/media/image43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27A14-07F0-4607-A46C-223669E8D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3EEC2-67DB-49B7-BE47-AF3DCA940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24D63-8D1C-4620-9B0A-020849FDF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472A7-1C51-4C6A-B873-DA52F9055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DE035-4281-4720-8E00-77F09B7E0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96FDB-B2BC-4292-BA0A-C9119F1EF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D40F9-9078-43D0-9E80-BA74C575F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EE4C1-4BE4-4D68-98BA-6BC50B1EB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46042-4E38-48D2-AA6D-CA3704E03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565F2-CEF3-47FC-8C9A-E0AF26A22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F70C2-B875-4F68-84AE-10BAD998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EF7EB-7402-47E3-BA89-C1249FD60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FC6D1-74A2-475D-95B3-CE43030D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3B9E5-24F5-4260-B39F-5003CE3A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C380B-C6D9-4A81-8123-42A7E2E85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C9CE5-32C7-4588-A6AE-97753376B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D7590-A77A-4D6E-958E-98CD9843D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BF312-D0F0-42EC-A49C-408EAD14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03606-D16B-46BB-A8E7-32D06CA1F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F99BD-0A23-4D1E-B2C5-3B85C7638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1EB8F-0A7C-4E6C-8851-38FD06DF2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A8EFB-5E87-43CF-9951-76F62989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C81D8-687C-40F9-B590-1FCBD8B0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1581B-C7BD-4C47-A280-B64F82A7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004d4d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003b3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002626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0040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00454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005151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005151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003e3e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004949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004d4d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004d4d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004d4d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004d4d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004d4d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00454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004141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4d4d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004d4d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00707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707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00707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00605d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605d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00707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707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707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00707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00707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00707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00707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403e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605d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00605d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00605d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003635"/>
                </a:gs>
                <a:gs pos="100000">
                  <a:srgbClr val="0064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003635"/>
                </a:gs>
                <a:gs pos="100000">
                  <a:srgbClr val="0064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002726"/>
                </a:gs>
                <a:gs pos="100000">
                  <a:srgbClr val="0064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002726"/>
                </a:gs>
                <a:gs pos="100000">
                  <a:srgbClr val="0064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003635"/>
                </a:gs>
                <a:gs pos="100000">
                  <a:srgbClr val="0064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003635"/>
                </a:gs>
                <a:gs pos="100000">
                  <a:srgbClr val="0064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002726"/>
                </a:gs>
                <a:gs pos="100000">
                  <a:srgbClr val="0064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3635"/>
                </a:gs>
                <a:gs pos="100000">
                  <a:srgbClr val="0064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003635"/>
                </a:gs>
                <a:gs pos="100000">
                  <a:srgbClr val="0064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2726"/>
                </a:gs>
                <a:gs pos="100000">
                  <a:srgbClr val="0064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3635"/>
                </a:gs>
                <a:gs pos="100000">
                  <a:srgbClr val="0064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003635"/>
                </a:gs>
                <a:gs pos="100000">
                  <a:srgbClr val="0064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003635"/>
                </a:gs>
                <a:gs pos="100000">
                  <a:srgbClr val="0064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003635"/>
                </a:gs>
                <a:gs pos="100000">
                  <a:srgbClr val="0064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003635"/>
                </a:gs>
                <a:gs pos="100000">
                  <a:srgbClr val="0064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3938"/>
                </a:gs>
                <a:gs pos="100000">
                  <a:srgbClr val="0064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3938"/>
                </a:gs>
                <a:gs pos="100000">
                  <a:srgbClr val="0064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3635"/>
                </a:gs>
                <a:gs pos="100000">
                  <a:srgbClr val="0064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002726"/>
                </a:gs>
                <a:gs pos="100000">
                  <a:srgbClr val="0064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45DBC-D359-49F8-9061-C5AE4B87D6D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e3e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004d4d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003b3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002626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0040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00454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005151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005151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003e3e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004949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004d4d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004d4d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004d4d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004d4d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004d4d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00454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004141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4d4d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004d4d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00707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707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00707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00605d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605d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00707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707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707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00707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00707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00707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00707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403e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605d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00605d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00605d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00454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00454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003232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003232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00454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00454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003232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454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00454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3232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454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00454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00454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00454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00454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494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494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454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003232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DA05C-D967-4921-B99B-FFCCC54DBD6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5.pn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e3e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- cours 9 -</a:t>
            </a:r>
            <a:br>
              <a:rPr sz="18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es grandes vill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3200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812880" indent="-812880">
              <a:spcBef>
                <a:spcPts val="700"/>
              </a:spcBef>
              <a:buClr>
                <a:srgbClr val="ffcc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 archipel de vil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ffcc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tanbul : « la porte de la félicité 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ffcc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mas : la capitale du pèlerin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55640" y="573408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S 4665 L’Empire ottom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efan Win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7451640" y="5734080"/>
            <a:ext cx="792360" cy="6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2" name=""/>
          <p:cNvSpPr/>
          <p:nvPr/>
        </p:nvSpPr>
        <p:spPr>
          <a:xfrm>
            <a:off x="250920" y="616572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le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II. Istanbul : « la porte de la félicité »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xercice de le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 site du pouvo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’économie urba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mise en scène du pouvo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1"/>
          <a:stretch/>
        </p:blipFill>
        <p:spPr>
          <a:xfrm>
            <a:off x="5218200" y="1600200"/>
            <a:ext cx="289728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1. Exercice de lecture</a:t>
            </a:r>
            <a:br>
              <a:rPr sz="3200"/>
            </a:b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Bernard Lewis, </a:t>
            </a:r>
            <a:r>
              <a:rPr b="0" i="1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Istanbul et la civilisation ottomane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 (J.C. Lattès, 1990)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ecture et résumé des textes en comités de 2 ou 3 (15 m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cc3300"/>
              </a:buClr>
              <a:buSzPct val="5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es guildes (I) : pp. 124-131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cc3300"/>
              </a:buClr>
              <a:buSzPct val="5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es guildes (II) : pp. 131-13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cc3300"/>
              </a:buClr>
              <a:buSzPct val="5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es autorités (I) : pp. 141-14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cc3300"/>
              </a:buClr>
              <a:buSzPct val="5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es autorités (II) : pp. 149-15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iscussion en groupe de 8-10 (15 minut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 quoi vivait la ville d'Istanbul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mment la société était-elle organisée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mment le pouvoir ottoman se représentait-il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y avait-il une identité commune d'istanbouliote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iscussion plénière (10 minut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2. Le site du pouvoir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capitale impéria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ymbolisme impé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ésidence du sultan « </a:t>
            </a:r>
            <a:r>
              <a:rPr b="0" i="1" lang="fr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abü's-saadet </a:t>
            </a:r>
            <a:r>
              <a:rPr b="0" lang="fr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econstruction sous Mehmed 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oulevards représentatif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onstruction de mosquées par les not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ville garn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hippodrome des Janissai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7308720" y="333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99"/>
                </a:solidFill>
                <a:latin typeface="Arial"/>
              </a:rPr>
              <a:t>Kad</a:t>
            </a:r>
            <a:r>
              <a:rPr b="1" lang="en-US" sz="1800" spc="-1" strike="noStrike">
                <a:solidFill>
                  <a:srgbClr val="ffff99"/>
                </a:solidFill>
                <a:latin typeface="Arial"/>
                <a:ea typeface="Arial"/>
              </a:rPr>
              <a:t>ı-Ask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95280" y="2602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Janissai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2" name="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3841920" cy="5832720"/>
          </a:xfrm>
          <a:prstGeom prst="rect">
            <a:avLst/>
          </a:prstGeom>
          <a:ln w="0">
            <a:noFill/>
          </a:ln>
        </p:spPr>
      </p:pic>
      <p:pic>
        <p:nvPicPr>
          <p:cNvPr id="623" name="" descr=""/>
          <p:cNvPicPr/>
          <p:nvPr/>
        </p:nvPicPr>
        <p:blipFill>
          <a:blip r:embed="rId2"/>
          <a:stretch/>
        </p:blipFill>
        <p:spPr>
          <a:xfrm>
            <a:off x="4867200" y="765000"/>
            <a:ext cx="384192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Times New Roman"/>
              </a:rPr>
              <a:t> 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23640" y="836280"/>
            <a:ext cx="482436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stanbul, Pera, Eyüb, Üsküd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euplement selon origines géographiq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ivision en </a:t>
            </a:r>
            <a:r>
              <a:rPr b="0" i="1" lang="fr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ahalle</a:t>
            </a:r>
            <a:r>
              <a:rPr b="0" lang="fr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(quarti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osquée (ou église ou synagogue), bain, fontaine publiq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700 : 600 000-700 000 habit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5"/>
          <a:stretch/>
        </p:blipFill>
        <p:spPr>
          <a:xfrm>
            <a:off x="5330880" y="765000"/>
            <a:ext cx="3379680" cy="525636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/>
          <p:nvPr/>
        </p:nvSpPr>
        <p:spPr>
          <a:xfrm>
            <a:off x="7920000" y="573408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ffffff"/>
                </a:solidFill>
                <a:latin typeface="Arial"/>
              </a:rPr>
              <a:t>Eyü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4859280" y="765000"/>
            <a:ext cx="3840120" cy="583272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468360" y="765000"/>
            <a:ext cx="3841560" cy="583092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468360" y="26028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« Médecin Juif 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6012000" y="33336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99"/>
                </a:solidFill>
                <a:latin typeface="Arial"/>
              </a:rPr>
              <a:t>« Fille de Joye Turque 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Times New Roman"/>
              </a:rPr>
              <a:t>3. L’économie urbain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marché central : artisanat et fin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outiques, khans, </a:t>
            </a:r>
            <a:r>
              <a:rPr b="0" i="1" lang="fr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ezest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marché-entrepôt : commerce internat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financement par les </a:t>
            </a:r>
            <a:r>
              <a:rPr b="0" i="1" lang="fr-CA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vakıf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privé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y’avait-il un secteur publique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rotection contre les incen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églementation du marc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pprovisionnement de la ville, des janissai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468360" y="26028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« Marchant Raguse 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012000" y="33336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99"/>
                </a:solidFill>
                <a:latin typeface="Arial"/>
              </a:rPr>
              <a:t>« Esclave m[au]re 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3840120" cy="5832720"/>
          </a:xfrm>
          <a:prstGeom prst="rect">
            <a:avLst/>
          </a:prstGeom>
          <a:ln w="0">
            <a:noFill/>
          </a:ln>
        </p:spPr>
      </p:pic>
      <p:pic>
        <p:nvPicPr>
          <p:cNvPr id="637" name="" descr=""/>
          <p:cNvPicPr/>
          <p:nvPr/>
        </p:nvPicPr>
        <p:blipFill>
          <a:blip r:embed="rId2"/>
          <a:stretch/>
        </p:blipFill>
        <p:spPr>
          <a:xfrm>
            <a:off x="4913280" y="765000"/>
            <a:ext cx="384192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4. La mise en scène du pouvoir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778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processions militaro-commerci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fêtes et réjouissances publiq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intronisations, circonci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architecture représenta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adoption du style baroq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« culte » du pala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fêtes roy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culture des tulip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5"/>
          <a:stretch/>
        </p:blipFill>
        <p:spPr>
          <a:xfrm>
            <a:off x="4284720" y="4076640"/>
            <a:ext cx="403704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I. Un archipel de villes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755280" y="2060280"/>
            <a:ext cx="793116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ville ottomane : définition et problématiq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 types de vil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structure interne des vil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468360" y="26028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« Turque allant au Bain 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6227640" y="333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« Marchant Arabe 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3833640" cy="5820120"/>
          </a:xfrm>
          <a:prstGeom prst="rect">
            <a:avLst/>
          </a:prstGeom>
          <a:ln w="0">
            <a:noFill/>
          </a:ln>
        </p:spPr>
      </p:pic>
      <p:pic>
        <p:nvPicPr>
          <p:cNvPr id="644" name="" descr=""/>
          <p:cNvPicPr/>
          <p:nvPr/>
        </p:nvPicPr>
        <p:blipFill>
          <a:blip r:embed="rId2"/>
          <a:stretch/>
        </p:blipFill>
        <p:spPr>
          <a:xfrm>
            <a:off x="4775040" y="765000"/>
            <a:ext cx="384192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III. Damas : la capitale du pèlerinage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4020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ntégration ou autonomie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La dynastie 'Az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L'identité religie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5148360" y="2060640"/>
            <a:ext cx="367164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" descr=""/>
          <p:cNvPicPr/>
          <p:nvPr/>
        </p:nvPicPr>
        <p:blipFill>
          <a:blip r:embed="rId1"/>
          <a:stretch/>
        </p:blipFill>
        <p:spPr>
          <a:xfrm>
            <a:off x="3851280" y="3068640"/>
            <a:ext cx="5292720" cy="3780000"/>
          </a:xfrm>
          <a:prstGeom prst="rect">
            <a:avLst/>
          </a:prstGeom>
          <a:ln w="0">
            <a:noFill/>
          </a:ln>
        </p:spPr>
      </p:pic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 algn="ctr">
              <a:buClr>
                <a:srgbClr val="fff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Intégration ou autonomie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38836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e tombeau du maître soufie Ibn al-‘Arabi : une raison pour la conquête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tégration des émirs mamlou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restige religie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ondation de</a:t>
            </a:r>
            <a:r>
              <a:rPr b="0" i="1" lang="fr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medre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oute des pèler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19280" y="6237360"/>
            <a:ext cx="24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osquée Sinan Pach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6597720" y="1700280"/>
            <a:ext cx="2546280" cy="3960720"/>
          </a:xfrm>
          <a:prstGeom prst="rect">
            <a:avLst/>
          </a:prstGeom>
          <a:ln w="0">
            <a:noFill/>
          </a:ln>
        </p:spPr>
      </p:pic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2. La dynastie 'Azm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71276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famille d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aya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(notables) par excell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rigines turkmènes ; service militai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otables locaux à Ha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5" name="" descr=""/>
          <p:cNvPicPr/>
          <p:nvPr/>
        </p:nvPicPr>
        <p:blipFill>
          <a:blip r:embed="rId3"/>
          <a:stretch/>
        </p:blipFill>
        <p:spPr>
          <a:xfrm>
            <a:off x="1042920" y="3789360"/>
            <a:ext cx="4392720" cy="2822400"/>
          </a:xfrm>
          <a:prstGeom prst="rect">
            <a:avLst/>
          </a:prstGeom>
          <a:ln w="0">
            <a:noFill/>
          </a:ln>
        </p:spPr>
      </p:pic>
      <p:sp>
        <p:nvSpPr>
          <p:cNvPr id="656" name=""/>
          <p:cNvSpPr/>
          <p:nvPr/>
        </p:nvSpPr>
        <p:spPr>
          <a:xfrm>
            <a:off x="6156360" y="6237360"/>
            <a:ext cx="25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ffffff"/>
                </a:solidFill>
                <a:latin typeface="Arial"/>
              </a:rPr>
              <a:t>palais ‘Azm, Hama (199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domination du poste de gouverneur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1704-1785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50560" y="1773000"/>
            <a:ext cx="58338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977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investissements commerciaux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977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présence loca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977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monopole sur les gouvernorats de la rég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ripoli, Sayda, Alep, Raqq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977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germe d'une identité nationale syrienne 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9" name="" descr=""/>
          <p:cNvPicPr/>
          <p:nvPr/>
        </p:nvPicPr>
        <p:blipFill>
          <a:blip r:embed="rId5"/>
          <a:stretch/>
        </p:blipFill>
        <p:spPr>
          <a:xfrm>
            <a:off x="6229440" y="1484280"/>
            <a:ext cx="29145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08560" cy="6858000"/>
          </a:xfrm>
          <a:prstGeom prst="rect">
            <a:avLst/>
          </a:prstGeom>
          <a:ln w="0">
            <a:noFill/>
          </a:ln>
        </p:spPr>
      </p:pic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3. L'identité religieuse à Dama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779640" y="1413000"/>
            <a:ext cx="51130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éparation de la hiérarchie militaire, 18e siè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ouverneur de Damas = </a:t>
            </a:r>
            <a:r>
              <a:rPr b="1" i="1" lang="fr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mir el-hac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evenue de toute la Syrie réservé pour l'organisation du pèlerin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restige religie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émi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ondation de </a:t>
            </a:r>
            <a:r>
              <a:rPr b="0" i="1" lang="fr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akı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2195640" y="6308640"/>
            <a:ext cx="21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ffffff"/>
                </a:solidFill>
                <a:latin typeface="Arial"/>
              </a:rPr>
              <a:t>Takiyya Sulaymaniyy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ermeture à l'extéri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terdit aux Europée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eu de commerce internat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omination économique par les villes portuai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yda, Beyrou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5" name="" descr="oum.gif (117532 bytes)"/>
          <p:cNvPicPr/>
          <p:nvPr/>
        </p:nvPicPr>
        <p:blipFill>
          <a:blip r:embed="rId3"/>
          <a:stretch/>
        </p:blipFill>
        <p:spPr>
          <a:xfrm>
            <a:off x="0" y="836640"/>
            <a:ext cx="4572000" cy="3006720"/>
          </a:xfrm>
          <a:prstGeom prst="rect">
            <a:avLst/>
          </a:prstGeom>
          <a:ln w="0">
            <a:noFill/>
          </a:ln>
        </p:spPr>
      </p:pic>
      <p:pic>
        <p:nvPicPr>
          <p:cNvPr id="666" name="" descr=""/>
          <p:cNvPicPr/>
          <p:nvPr/>
        </p:nvPicPr>
        <p:blipFill>
          <a:blip r:embed="rId4"/>
          <a:stretch/>
        </p:blipFill>
        <p:spPr>
          <a:xfrm>
            <a:off x="3059280" y="3645000"/>
            <a:ext cx="189864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4859280" y="3789360"/>
            <a:ext cx="4038480" cy="258120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11564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(IV. Alep : le terminus de la route de soie)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refour ethniq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abes, Kurdes, Arméniens, Turcs, Franc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refour commerc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inus pour les caravanes de l’Anatolie, de Mosul, de l’Iraq, de Damas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ébouché sur la Méditerrané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éveloppement du port d’Iskenderun, années 159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1125360" y="1600200"/>
            <a:ext cx="2702160" cy="4533840"/>
          </a:xfrm>
          <a:prstGeom prst="rect">
            <a:avLst/>
          </a:prstGeom>
          <a:ln w="0">
            <a:noFill/>
          </a:ln>
        </p:spPr>
      </p:pic>
      <p:pic>
        <p:nvPicPr>
          <p:cNvPr id="671" name="" descr=""/>
          <p:cNvPicPr/>
          <p:nvPr/>
        </p:nvPicPr>
        <p:blipFill>
          <a:blip r:embed="rId2"/>
          <a:stretch/>
        </p:blipFill>
        <p:spPr>
          <a:xfrm>
            <a:off x="4648320" y="252108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3629160" cy="6048360"/>
          </a:xfrm>
          <a:prstGeom prst="rect">
            <a:avLst/>
          </a:prstGeom>
          <a:ln w="0">
            <a:noFill/>
          </a:ln>
        </p:spPr>
      </p:pic>
      <p:pic>
        <p:nvPicPr>
          <p:cNvPr id="673" name="" descr=""/>
          <p:cNvPicPr/>
          <p:nvPr/>
        </p:nvPicPr>
        <p:blipFill>
          <a:blip r:embed="rId2"/>
          <a:stretch/>
        </p:blipFill>
        <p:spPr>
          <a:xfrm>
            <a:off x="4284720" y="2133720"/>
            <a:ext cx="485928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1. Définition et problématiqu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’est-ce qui fait une vil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tomane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lamique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lle importance eurent les villes dans l’Empire ottoman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u de fondations de nouvelles vil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lles « fonctions » avaient les villes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885080" y="638172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ffffff"/>
                </a:solidFill>
                <a:latin typeface="Arial"/>
              </a:rPr>
              <a:t>Nev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şehi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4176720" cy="5445360"/>
          </a:xfrm>
          <a:prstGeom prst="rect">
            <a:avLst/>
          </a:prstGeom>
          <a:ln w="0">
            <a:noFill/>
          </a:ln>
        </p:spPr>
      </p:pic>
      <p:pic>
        <p:nvPicPr>
          <p:cNvPr id="675" name="" descr=""/>
          <p:cNvPicPr/>
          <p:nvPr/>
        </p:nvPicPr>
        <p:blipFill>
          <a:blip r:embed="rId2"/>
          <a:stretch/>
        </p:blipFill>
        <p:spPr>
          <a:xfrm>
            <a:off x="4722840" y="981000"/>
            <a:ext cx="44211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7680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3780000" y="508464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012000" y="191628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476360" y="33336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187280" y="62064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948360" y="378936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716360" y="292428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148360" y="393372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867280" y="227664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258920" y="765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Bosna Sar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859280" y="4076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m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372360" y="4005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g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651640" y="24922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Diyarbeki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203640" y="1844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tanb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564000" y="5300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Cai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11280" y="630864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Les types de villes : Les centres religieux et militai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227640" y="19162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zur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067280" y="2565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a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763640" y="2602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lgra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556000" y="134136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700360" y="1197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ir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203640" y="1557360"/>
            <a:ext cx="216000" cy="217440"/>
          </a:xfrm>
          <a:prstGeom prst="star5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entres militaire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35640" cy="326880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2"/>
          <a:stretch/>
        </p:blipFill>
        <p:spPr>
          <a:xfrm>
            <a:off x="324000" y="3852720"/>
            <a:ext cx="3382920" cy="2175120"/>
          </a:xfrm>
          <a:prstGeom prst="rect">
            <a:avLst/>
          </a:prstGeom>
          <a:ln w="0">
            <a:noFill/>
          </a:ln>
        </p:spPr>
      </p:pic>
      <p:sp>
        <p:nvSpPr>
          <p:cNvPr id="549" name=""/>
          <p:cNvSpPr/>
          <p:nvPr/>
        </p:nvSpPr>
        <p:spPr>
          <a:xfrm>
            <a:off x="1908000" y="3068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ff"/>
                </a:solidFill>
                <a:latin typeface="Arial"/>
              </a:rPr>
              <a:t>Diyarbeki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619280" y="3645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dir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076720" y="43657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3"/>
          <a:stretch/>
        </p:blipFill>
        <p:spPr>
          <a:xfrm>
            <a:off x="5796000" y="836640"/>
            <a:ext cx="33066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7680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3995640" y="465300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219640" y="314172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411280" y="1628640"/>
            <a:ext cx="14472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476360" y="33336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900000" y="69228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885080" y="4508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771640" y="2349360"/>
            <a:ext cx="14472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859280" y="378936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6659640" y="3068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971640" y="836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g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627280" y="4581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exandr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843280" y="2421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zmi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763640" y="260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lgra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643280" y="4005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y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788000" y="2708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e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187280" y="148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loniq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451640" y="4076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372360" y="2708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24000" y="2637000"/>
            <a:ext cx="2305080" cy="576000"/>
          </a:xfrm>
          <a:custGeom>
            <a:avLst/>
            <a:gdLst/>
            <a:ahLst/>
            <a:rect l="l" t="t" r="r" b="b"/>
            <a:pathLst>
              <a:path w="1452" h="363">
                <a:moveTo>
                  <a:pt x="1452" y="0"/>
                </a:moveTo>
                <a:cubicBezTo>
                  <a:pt x="1278" y="83"/>
                  <a:pt x="1104" y="166"/>
                  <a:pt x="862" y="226"/>
                </a:cubicBezTo>
                <a:cubicBezTo>
                  <a:pt x="620" y="286"/>
                  <a:pt x="143" y="340"/>
                  <a:pt x="0" y="36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763640" y="3789360"/>
            <a:ext cx="2879640" cy="299880"/>
          </a:xfrm>
          <a:custGeom>
            <a:avLst/>
            <a:gdLst/>
            <a:ahLst/>
            <a:rect l="l" t="t" r="r" b="b"/>
            <a:pathLst>
              <a:path w="1814" h="189">
                <a:moveTo>
                  <a:pt x="1814" y="45"/>
                </a:moveTo>
                <a:cubicBezTo>
                  <a:pt x="1693" y="117"/>
                  <a:pt x="1572" y="189"/>
                  <a:pt x="1270" y="181"/>
                </a:cubicBezTo>
                <a:cubicBezTo>
                  <a:pt x="968" y="173"/>
                  <a:pt x="484" y="86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580000" y="3057480"/>
            <a:ext cx="936720" cy="155520"/>
          </a:xfrm>
          <a:custGeom>
            <a:avLst/>
            <a:gdLst/>
            <a:ahLst/>
            <a:rect l="l" t="t" r="r" b="b"/>
            <a:pathLst>
              <a:path w="590" h="98">
                <a:moveTo>
                  <a:pt x="0" y="98"/>
                </a:moveTo>
                <a:cubicBezTo>
                  <a:pt x="87" y="56"/>
                  <a:pt x="174" y="14"/>
                  <a:pt x="272" y="7"/>
                </a:cubicBezTo>
                <a:cubicBezTo>
                  <a:pt x="370" y="0"/>
                  <a:pt x="537" y="45"/>
                  <a:pt x="590" y="5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435640" y="3357720"/>
            <a:ext cx="2305080" cy="1223640"/>
          </a:xfrm>
          <a:custGeom>
            <a:avLst/>
            <a:gdLst/>
            <a:ahLst/>
            <a:rect l="l" t="t" r="r" b="b"/>
            <a:pathLst>
              <a:path w="1452" h="771">
                <a:moveTo>
                  <a:pt x="0" y="0"/>
                </a:moveTo>
                <a:cubicBezTo>
                  <a:pt x="242" y="185"/>
                  <a:pt x="484" y="371"/>
                  <a:pt x="726" y="499"/>
                </a:cubicBezTo>
                <a:cubicBezTo>
                  <a:pt x="968" y="627"/>
                  <a:pt x="1210" y="699"/>
                  <a:pt x="1452" y="77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419640" y="1844640"/>
            <a:ext cx="1657080" cy="1297080"/>
          </a:xfrm>
          <a:custGeom>
            <a:avLst/>
            <a:gdLst/>
            <a:ahLst/>
            <a:rect l="l" t="t" r="r" b="b"/>
            <a:pathLst>
              <a:path w="1044" h="817">
                <a:moveTo>
                  <a:pt x="1044" y="817"/>
                </a:moveTo>
                <a:cubicBezTo>
                  <a:pt x="923" y="767"/>
                  <a:pt x="802" y="718"/>
                  <a:pt x="681" y="635"/>
                </a:cubicBezTo>
                <a:cubicBezTo>
                  <a:pt x="560" y="552"/>
                  <a:pt x="431" y="424"/>
                  <a:pt x="318" y="318"/>
                </a:cubicBezTo>
                <a:cubicBezTo>
                  <a:pt x="205" y="212"/>
                  <a:pt x="102" y="106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987640" y="1844640"/>
            <a:ext cx="216000" cy="432000"/>
          </a:xfrm>
          <a:custGeom>
            <a:avLst/>
            <a:gdLst/>
            <a:ahLst/>
            <a:rect l="l" t="t" r="r" b="b"/>
            <a:pathLst>
              <a:path w="136" h="272">
                <a:moveTo>
                  <a:pt x="0" y="272"/>
                </a:moveTo>
                <a:cubicBezTo>
                  <a:pt x="0" y="272"/>
                  <a:pt x="68" y="136"/>
                  <a:pt x="136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627280" y="1546200"/>
            <a:ext cx="504720" cy="82440"/>
          </a:xfrm>
          <a:custGeom>
            <a:avLst/>
            <a:gdLst/>
            <a:ahLst/>
            <a:rect l="l" t="t" r="r" b="b"/>
            <a:pathLst>
              <a:path w="318" h="52">
                <a:moveTo>
                  <a:pt x="318" y="52"/>
                </a:moveTo>
                <a:cubicBezTo>
                  <a:pt x="253" y="33"/>
                  <a:pt x="189" y="14"/>
                  <a:pt x="136" y="7"/>
                </a:cubicBezTo>
                <a:cubicBezTo>
                  <a:pt x="83" y="0"/>
                  <a:pt x="41" y="3"/>
                  <a:pt x="0" y="7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692360" y="549360"/>
            <a:ext cx="1511280" cy="1008000"/>
          </a:xfrm>
          <a:custGeom>
            <a:avLst/>
            <a:gdLst/>
            <a:ahLst/>
            <a:rect l="l" t="t" r="r" b="b"/>
            <a:pathLst>
              <a:path w="952" h="635">
                <a:moveTo>
                  <a:pt x="952" y="635"/>
                </a:moveTo>
                <a:cubicBezTo>
                  <a:pt x="880" y="559"/>
                  <a:pt x="808" y="484"/>
                  <a:pt x="725" y="408"/>
                </a:cubicBezTo>
                <a:cubicBezTo>
                  <a:pt x="642" y="332"/>
                  <a:pt x="574" y="249"/>
                  <a:pt x="453" y="181"/>
                </a:cubicBezTo>
                <a:cubicBezTo>
                  <a:pt x="332" y="113"/>
                  <a:pt x="166" y="56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042920" y="476280"/>
            <a:ext cx="289080" cy="144360"/>
          </a:xfrm>
          <a:custGeom>
            <a:avLst/>
            <a:gdLst/>
            <a:ahLst/>
            <a:rect l="l" t="t" r="r" b="b"/>
            <a:pathLst>
              <a:path w="182" h="91">
                <a:moveTo>
                  <a:pt x="182" y="0"/>
                </a:moveTo>
                <a:cubicBezTo>
                  <a:pt x="182" y="0"/>
                  <a:pt x="91" y="45"/>
                  <a:pt x="0" y="9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08000" y="549360"/>
            <a:ext cx="718920" cy="358560"/>
          </a:xfrm>
          <a:custGeom>
            <a:avLst/>
            <a:gdLst/>
            <a:ahLst/>
            <a:rect l="l" t="t" r="r" b="b"/>
            <a:pathLst>
              <a:path w="453" h="226">
                <a:moveTo>
                  <a:pt x="453" y="226"/>
                </a:moveTo>
                <a:cubicBezTo>
                  <a:pt x="354" y="200"/>
                  <a:pt x="256" y="174"/>
                  <a:pt x="181" y="136"/>
                </a:cubicBezTo>
                <a:cubicBezTo>
                  <a:pt x="106" y="98"/>
                  <a:pt x="53" y="49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716360" y="1341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bz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435640" y="170028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492360" y="1557360"/>
            <a:ext cx="1873440" cy="239760"/>
          </a:xfrm>
          <a:custGeom>
            <a:avLst/>
            <a:gdLst/>
            <a:ahLst/>
            <a:rect l="l" t="t" r="r" b="b"/>
            <a:pathLst>
              <a:path w="1180" h="151">
                <a:moveTo>
                  <a:pt x="0" y="60"/>
                </a:moveTo>
                <a:cubicBezTo>
                  <a:pt x="174" y="30"/>
                  <a:pt x="348" y="0"/>
                  <a:pt x="545" y="15"/>
                </a:cubicBezTo>
                <a:cubicBezTo>
                  <a:pt x="742" y="30"/>
                  <a:pt x="961" y="90"/>
                  <a:pt x="1180" y="15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724360" y="549360"/>
            <a:ext cx="1224000" cy="1224000"/>
          </a:xfrm>
          <a:custGeom>
            <a:avLst/>
            <a:gdLst/>
            <a:ahLst/>
            <a:rect l="l" t="t" r="r" b="b"/>
            <a:pathLst>
              <a:path w="771" h="771">
                <a:moveTo>
                  <a:pt x="0" y="771"/>
                </a:moveTo>
                <a:cubicBezTo>
                  <a:pt x="128" y="741"/>
                  <a:pt x="257" y="711"/>
                  <a:pt x="363" y="635"/>
                </a:cubicBezTo>
                <a:cubicBezTo>
                  <a:pt x="469" y="559"/>
                  <a:pt x="567" y="423"/>
                  <a:pt x="635" y="317"/>
                </a:cubicBezTo>
                <a:cubicBezTo>
                  <a:pt x="703" y="211"/>
                  <a:pt x="737" y="105"/>
                  <a:pt x="77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7020000" y="3068640"/>
            <a:ext cx="1728720" cy="73080"/>
          </a:xfrm>
          <a:custGeom>
            <a:avLst/>
            <a:gdLst/>
            <a:ahLst/>
            <a:rect l="l" t="t" r="r" b="b"/>
            <a:pathLst>
              <a:path w="1089" h="46">
                <a:moveTo>
                  <a:pt x="0" y="46"/>
                </a:moveTo>
                <a:cubicBezTo>
                  <a:pt x="250" y="23"/>
                  <a:pt x="500" y="0"/>
                  <a:pt x="681" y="0"/>
                </a:cubicBezTo>
                <a:cubicBezTo>
                  <a:pt x="862" y="0"/>
                  <a:pt x="975" y="23"/>
                  <a:pt x="1089" y="4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076720" y="3357720"/>
            <a:ext cx="216000" cy="287280"/>
          </a:xfrm>
          <a:custGeom>
            <a:avLst/>
            <a:gdLst/>
            <a:ahLst/>
            <a:rect l="l" t="t" r="r" b="b"/>
            <a:pathLst>
              <a:path w="136" h="181">
                <a:moveTo>
                  <a:pt x="136" y="0"/>
                </a:moveTo>
                <a:cubicBezTo>
                  <a:pt x="136" y="0"/>
                  <a:pt x="68" y="90"/>
                  <a:pt x="0" y="18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95280" y="630864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s grandes villes commerçan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995640" y="4941720"/>
            <a:ext cx="720720" cy="1008360"/>
          </a:xfrm>
          <a:custGeom>
            <a:avLst/>
            <a:gdLst/>
            <a:ahLst/>
            <a:rect l="l" t="t" r="r" b="b"/>
            <a:pathLst>
              <a:path w="454" h="635">
                <a:moveTo>
                  <a:pt x="0" y="0"/>
                </a:moveTo>
                <a:cubicBezTo>
                  <a:pt x="19" y="67"/>
                  <a:pt x="38" y="135"/>
                  <a:pt x="91" y="226"/>
                </a:cubicBezTo>
                <a:cubicBezTo>
                  <a:pt x="144" y="317"/>
                  <a:pt x="257" y="476"/>
                  <a:pt x="318" y="544"/>
                </a:cubicBezTo>
                <a:cubicBezTo>
                  <a:pt x="379" y="612"/>
                  <a:pt x="416" y="623"/>
                  <a:pt x="454" y="63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4067280" y="4005360"/>
            <a:ext cx="649080" cy="503280"/>
          </a:xfrm>
          <a:custGeom>
            <a:avLst/>
            <a:gdLst/>
            <a:ahLst/>
            <a:rect l="l" t="t" r="r" b="b"/>
            <a:pathLst>
              <a:path w="409" h="317">
                <a:moveTo>
                  <a:pt x="409" y="0"/>
                </a:moveTo>
                <a:cubicBezTo>
                  <a:pt x="307" y="19"/>
                  <a:pt x="205" y="38"/>
                  <a:pt x="137" y="91"/>
                </a:cubicBezTo>
                <a:cubicBezTo>
                  <a:pt x="69" y="144"/>
                  <a:pt x="34" y="230"/>
                  <a:pt x="0" y="317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843280" y="2708280"/>
            <a:ext cx="1008000" cy="1800360"/>
          </a:xfrm>
          <a:custGeom>
            <a:avLst/>
            <a:gdLst/>
            <a:ahLst/>
            <a:rect l="l" t="t" r="r" b="b"/>
            <a:pathLst>
              <a:path w="635" h="1134">
                <a:moveTo>
                  <a:pt x="635" y="1134"/>
                </a:moveTo>
                <a:cubicBezTo>
                  <a:pt x="484" y="934"/>
                  <a:pt x="333" y="734"/>
                  <a:pt x="227" y="545"/>
                </a:cubicBezTo>
                <a:cubicBezTo>
                  <a:pt x="121" y="356"/>
                  <a:pt x="60" y="17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826920" y="1844640"/>
            <a:ext cx="1584360" cy="720720"/>
          </a:xfrm>
          <a:custGeom>
            <a:avLst/>
            <a:gdLst/>
            <a:ahLst/>
            <a:rect l="l" t="t" r="r" b="b"/>
            <a:pathLst>
              <a:path w="998" h="454">
                <a:moveTo>
                  <a:pt x="998" y="0"/>
                </a:moveTo>
                <a:cubicBezTo>
                  <a:pt x="979" y="57"/>
                  <a:pt x="961" y="114"/>
                  <a:pt x="953" y="182"/>
                </a:cubicBezTo>
                <a:cubicBezTo>
                  <a:pt x="945" y="250"/>
                  <a:pt x="998" y="363"/>
                  <a:pt x="953" y="408"/>
                </a:cubicBezTo>
                <a:cubicBezTo>
                  <a:pt x="908" y="453"/>
                  <a:pt x="802" y="454"/>
                  <a:pt x="681" y="454"/>
                </a:cubicBezTo>
                <a:cubicBezTo>
                  <a:pt x="560" y="454"/>
                  <a:pt x="340" y="416"/>
                  <a:pt x="227" y="408"/>
                </a:cubicBezTo>
                <a:cubicBezTo>
                  <a:pt x="114" y="400"/>
                  <a:pt x="57" y="404"/>
                  <a:pt x="0" y="4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8101080" y="4724280"/>
            <a:ext cx="792000" cy="720720"/>
          </a:xfrm>
          <a:custGeom>
            <a:avLst/>
            <a:gdLst/>
            <a:ahLst/>
            <a:rect l="l" t="t" r="r" b="b"/>
            <a:pathLst>
              <a:path w="499" h="454">
                <a:moveTo>
                  <a:pt x="0" y="0"/>
                </a:moveTo>
                <a:cubicBezTo>
                  <a:pt x="49" y="75"/>
                  <a:pt x="98" y="151"/>
                  <a:pt x="181" y="227"/>
                </a:cubicBezTo>
                <a:cubicBezTo>
                  <a:pt x="264" y="303"/>
                  <a:pt x="381" y="378"/>
                  <a:pt x="499" y="45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203640" y="1557360"/>
            <a:ext cx="216000" cy="217440"/>
          </a:xfrm>
          <a:prstGeom prst="star5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entres commerciaux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4038480" cy="2595600"/>
          </a:xfrm>
          <a:prstGeom prst="rect">
            <a:avLst/>
          </a:prstGeom>
          <a:ln w="0">
            <a:noFill/>
          </a:ln>
        </p:spPr>
      </p:pic>
      <p:pic>
        <p:nvPicPr>
          <p:cNvPr id="597" name="" descr=""/>
          <p:cNvPicPr/>
          <p:nvPr/>
        </p:nvPicPr>
        <p:blipFill>
          <a:blip r:embed="rId2"/>
          <a:stretch/>
        </p:blipFill>
        <p:spPr>
          <a:xfrm>
            <a:off x="6227640" y="0"/>
            <a:ext cx="2389320" cy="371628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3"/>
          <a:stretch/>
        </p:blipFill>
        <p:spPr>
          <a:xfrm>
            <a:off x="2987640" y="3860640"/>
            <a:ext cx="4248360" cy="271332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324000" y="429264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y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050920" y="60930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zmi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667640" y="3933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ipol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le coeur d’une ville commerçante :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le khan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3423960" cy="5326200"/>
          </a:xfrm>
          <a:prstGeom prst="rect">
            <a:avLst/>
          </a:prstGeom>
          <a:ln w="0">
            <a:noFill/>
          </a:ln>
        </p:spPr>
      </p:pic>
      <p:pic>
        <p:nvPicPr>
          <p:cNvPr id="604" name="" descr=""/>
          <p:cNvPicPr/>
          <p:nvPr/>
        </p:nvPicPr>
        <p:blipFill>
          <a:blip r:embed="rId2"/>
          <a:stretch/>
        </p:blipFill>
        <p:spPr>
          <a:xfrm>
            <a:off x="4222800" y="1844640"/>
            <a:ext cx="4248000" cy="439272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/>
          <p:nvPr/>
        </p:nvSpPr>
        <p:spPr>
          <a:xfrm>
            <a:off x="2771640" y="5805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m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356000" y="5805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e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" descr=""/>
          <p:cNvPicPr/>
          <p:nvPr/>
        </p:nvPicPr>
        <p:blipFill>
          <a:blip r:embed="rId1"/>
          <a:stretch/>
        </p:blipFill>
        <p:spPr>
          <a:xfrm>
            <a:off x="0" y="3494160"/>
            <a:ext cx="5256360" cy="3363840"/>
          </a:xfrm>
          <a:prstGeom prst="rect">
            <a:avLst/>
          </a:prstGeom>
          <a:ln w="0">
            <a:noFill/>
          </a:ln>
        </p:spPr>
      </p:pic>
      <p:pic>
        <p:nvPicPr>
          <p:cNvPr id="608" name="" descr=""/>
          <p:cNvPicPr/>
          <p:nvPr/>
        </p:nvPicPr>
        <p:blipFill>
          <a:blip r:embed="rId2"/>
          <a:stretch/>
        </p:blipFill>
        <p:spPr>
          <a:xfrm>
            <a:off x="3851280" y="0"/>
            <a:ext cx="5292720" cy="3338640"/>
          </a:xfrm>
          <a:prstGeom prst="rect">
            <a:avLst/>
          </a:prstGeom>
          <a:ln w="0">
            <a:noFill/>
          </a:ln>
        </p:spPr>
      </p:pic>
      <p:sp>
        <p:nvSpPr>
          <p:cNvPr id="609" name=""/>
          <p:cNvSpPr/>
          <p:nvPr/>
        </p:nvSpPr>
        <p:spPr>
          <a:xfrm>
            <a:off x="7559640" y="29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ff"/>
                </a:solidFill>
                <a:latin typeface="Arial"/>
              </a:rPr>
              <a:t>Diyarbeki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0" y="357336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yda (« Khan des Français »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9T19:49:26Z</dcterms:created>
  <dc:creator>UQAM</dc:creator>
  <dc:description/>
  <dc:language>en-US</dc:language>
  <cp:lastModifiedBy>UQAM</cp:lastModifiedBy>
  <dcterms:modified xsi:type="dcterms:W3CDTF">2008-10-27T17:49:53Z</dcterms:modified>
  <cp:revision>32</cp:revision>
  <dc:subject/>
  <dc:title>Les grandes villes (3 novembre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74150140</vt:r8>
  </property>
  <property fmtid="{D5CDD505-2E9C-101B-9397-08002B2CF9AE}" pid="3" name="_AuthorEmail">
    <vt:lpwstr>winter.stefan@uqam.ca</vt:lpwstr>
  </property>
  <property fmtid="{D5CDD505-2E9C-101B-9397-08002B2CF9AE}" pid="4" name="_AuthorEmailDisplayName">
    <vt:lpwstr>Winter, Stéfan</vt:lpwstr>
  </property>
  <property fmtid="{D5CDD505-2E9C-101B-9397-08002B2CF9AE}" pid="5" name="_EmailSubject">
    <vt:lpwstr>4665</vt:lpwstr>
  </property>
</Properties>
</file>