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54A-0E2E-4EE3-B38E-14052FB5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71A-C104-467F-BD01-0148CF41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6A6-C4F2-4EC4-B6C9-706731D6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17D-3E4A-4AC5-9A30-40C5AF6C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6A7-D7FF-40BC-9DEB-492A42F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A8C-D238-4735-B95D-A1832F77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11F-7E68-4CB3-B620-8227B0A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369-5DF1-466C-B8A0-5FF6AD2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CB0-E84C-4B08-A127-270473D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F3D-CFBA-4B51-875A-8E1E219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08-671F-4C68-AB88-0AA14FC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D23-6D32-44AA-9C28-0189BDB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423-744B-4DD4-A7E3-523BC1D3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427400">
            <a:off x="2755440" y="1036440"/>
            <a:ext cx="49770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endokumentasi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8098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.Reka Bentuk dan Teknolo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Pendokumenta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00200" y="533160"/>
            <a:ext cx="5943600" cy="5592600"/>
          </a:xfrm>
          <a:prstGeom prst="rect">
            <a:avLst/>
          </a:prstGeom>
          <a:gradFill rotWithShape="0">
            <a:gsLst>
              <a:gs pos="0">
                <a:srgbClr val="e8041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.Proses Ke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otong 2 batang kayu joran berukuran 2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ambung kayu joran itu dengan penyam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asang penarik kabel brek pada pemegang g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sang pencengkam brek di bahagian hujung g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sang kabel krek di antara penarik dan pencengkan b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Pasangkan mata pemotong dipencengkam b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Pasangkan jaring seperti dalam gambar raja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.Ulasan Mu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.Ulasan Gu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h Projek daripada botol plas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724280"/>
            <a:ext cx="12189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90720" y="205704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905120" y="205704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676520"/>
            <a:ext cx="7617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962520"/>
            <a:ext cx="76212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81480" y="2057040"/>
            <a:ext cx="533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77120" y="205704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981080"/>
            <a:ext cx="16765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715000" y="3581280"/>
            <a:ext cx="761760" cy="152388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05120"/>
            <a:ext cx="39621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23880" y="2666520"/>
            <a:ext cx="4343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2880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6720" y="55990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Projek : Gelas Pla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648320"/>
            <a:ext cx="1523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228600"/>
            <a:ext cx="533520" cy="1371600"/>
          </a:xfrm>
          <a:prstGeom prst="ellipse">
            <a:avLst/>
          </a:prstGeom>
          <a:noFill/>
          <a:ln w="763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600200"/>
            <a:ext cx="685800" cy="2209680"/>
          </a:xfrm>
          <a:prstGeom prst="can">
            <a:avLst>
              <a:gd name="adj" fmla="val 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219320" y="3885840"/>
            <a:ext cx="838080" cy="1600200"/>
          </a:xfrm>
          <a:prstGeom prst="can">
            <a:avLst>
              <a:gd name="adj" fmla="val 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143000" y="914040"/>
            <a:ext cx="914400" cy="609480"/>
          </a:xfrm>
          <a:prstGeom prst="can">
            <a:avLst>
              <a:gd name="adj" fmla="val 16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562720"/>
            <a:ext cx="990720" cy="533160"/>
          </a:xfrm>
          <a:prstGeom prst="can">
            <a:avLst>
              <a:gd name="adj" fmla="val 26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685800" cy="2209680"/>
          </a:xfrm>
          <a:prstGeom prst="can">
            <a:avLst>
              <a:gd name="adj" fmla="val 7083"/>
            </a:avLst>
          </a:prstGeom>
          <a:solidFill>
            <a:srgbClr val="f7fbf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6095520" y="3733560"/>
            <a:ext cx="838440" cy="1600200"/>
          </a:xfrm>
          <a:prstGeom prst="can">
            <a:avLst>
              <a:gd name="adj" fmla="val 7083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838440" cy="533520"/>
          </a:xfrm>
          <a:prstGeom prst="can">
            <a:avLst>
              <a:gd name="adj" fmla="val 4166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6095520" y="1218960"/>
            <a:ext cx="838440" cy="609480"/>
          </a:xfrm>
          <a:prstGeom prst="can">
            <a:avLst>
              <a:gd name="adj" fmla="val 2601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0" cy="2514600"/>
          </a:xfrm>
          <a:prstGeom prst="line">
            <a:avLst/>
          </a:prstGeom>
          <a:ln w="889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07120" y="39225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ang p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C ¾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83080" y="52182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utup p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C ¾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219320"/>
            <a:ext cx="0" cy="5029200"/>
          </a:xfrm>
          <a:prstGeom prst="line">
            <a:avLst/>
          </a:prstGeom>
          <a:ln w="889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da8a1"/>
              </a:gs>
              <a:gs pos="100000">
                <a:srgbClr val="fdf3f2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8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genalan kreativi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3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ajian reka bentuk dan kefungsian prod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4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ngumpul dan merekod maklu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yimpan maklumat dalam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733920"/>
            <a:ext cx="533520" cy="304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cafdc7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7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Kajian reka bentuk dan kefungsian prod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enyelesaian 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enyatakan keperluan pendokumentasian dalam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Mengumpul dan merekod maklu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Membuat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yimpan maklumat dalam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6576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f0f941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enghasilan projek Reka c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6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nyatakan keperluan pendokumentasian dalam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Mengumpul dan merekod maklu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Membuat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yimpan maklumat dalam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e9786"/>
              </a:gs>
              <a:gs pos="100000">
                <a:srgbClr val="75453d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00400"/>
            <a:ext cx="381240" cy="457200"/>
          </a:xfrm>
          <a:custGeom>
            <a:avLst/>
            <a:gdLst>
              <a:gd name="textAreaLeft" fmla="*/ 59400 w 381240"/>
              <a:gd name="textAreaRight" fmla="*/ 333720 w 381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68580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52480" y="914400"/>
            <a:ext cx="5562720" cy="866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443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f941"/>
                    </a:gs>
                    <a:gs pos="100000">
                      <a:srgbClr val="ff66cc"/>
                    </a:gs>
                  </a:gsLst>
                  <a:lin ang="8100000"/>
                </a:gradFill>
                <a:latin typeface="Arial Black"/>
              </a:rPr>
              <a:t>CONTO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f941"/>
                    </a:gs>
                    <a:gs pos="100000">
                      <a:srgbClr val="ff66cc"/>
                    </a:gs>
                  </a:gsLst>
                  <a:lin ang="8100000"/>
                </a:gradFill>
                <a:latin typeface="Arial Black"/>
              </a:rPr>
              <a:t>BUKU ID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639720"/>
          </a:xfrm>
          <a:prstGeom prst="rect">
            <a:avLst/>
          </a:prstGeom>
          <a:solidFill>
            <a:srgbClr val="f0f941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KU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041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iap hasil haruslah direkodkan dalam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ku I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tan perihal projek hendaklah dilakukan dari peringkat permulaan la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danga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at Buku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proj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rangan projek ( masalah,keperluan,kegun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elamatan,faedah,fungsi,kos projek dan maklumat tamba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isan projek serta dim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kah-langkah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isan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asan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asan 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6705720" cy="792000"/>
          </a:xfrm>
          <a:prstGeom prst="rect">
            <a:avLst/>
          </a:prstGeom>
          <a:blipFill rotWithShape="0">
            <a:blip r:embed="rId1"/>
            <a:stretch/>
          </a:blip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Buku Id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670572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a8a1"/>
              </a:gs>
            </a:gsLst>
            <a:lin ang="5400000"/>
          </a:gradFill>
          <a:ln w="381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k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Nama: Rozana Yus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Tahun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Nama Projek : Pemetik Bu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Penerangan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 ini direka untuk menyelesaikan masal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etik buah supaya buah yang dipetik tid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alami kerosakan akibat jatuh dari pokok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inggi.Apabila menggunakan alat ini bu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dipetik tidak mengalami kerosakan.Al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 selamat digunakan bagi kanak-kanak ya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umur 10 tahun ke atas dan alat ini tid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erlukan kos yang tinggi kerana 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gunakan bahan terbuang.Anggaran k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 ini ialah RM 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gradFill rotWithShape="0">
            <a:gsLst>
              <a:gs pos="0">
                <a:srgbClr val="f0f94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Lukisan Projek : Pemetik Bu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1907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228600"/>
            <a:ext cx="5334120" cy="64008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Bah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Penarik kabel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Wayar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Pencengkam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Batang joran yang boleh disam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2 Bilah mata pis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Gelung daw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J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Skru dan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 Getah pemegang handle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Pelaras wa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Alat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emutar sk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layar ga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Gergaji t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emutar skru tang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4:05:19Z</dcterms:created>
  <dc:creator>sk seri kota (zum )</dc:creator>
  <dc:description/>
  <dc:language>en-US</dc:language>
  <cp:lastModifiedBy>Poh</cp:lastModifiedBy>
  <dcterms:modified xsi:type="dcterms:W3CDTF">2005-08-13T13:50:42Z</dcterms:modified>
  <cp:revision>14</cp:revision>
  <dc:subject/>
  <dc:title>PENDOKUMENTASIAN</dc:title>
</cp:coreProperties>
</file>