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45AD-364B-46A8-B542-5F14B1485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9FB4-F738-4A8F-AD75-C073E7B2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87DB-8295-4545-92CA-8C7D48FC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10EC-36DE-4572-BD1C-4E1597177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6E24-73E4-4606-974E-47B7D1BA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7204-60D8-4161-B7CB-4DCC5AA2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5E51-4D60-4C69-93E8-0D9A29A0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C597-C9D8-49FD-9A7D-EBE4D18E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FA8E-0074-4F32-86DD-815D8633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995D-29B7-47FE-B1B7-A7DD6705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2B44-F1F9-484B-9350-AD713307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9E62-4BF5-4686-94C8-7547E661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6374-723D-4213-9771-AF3935317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2819520" cy="5257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1427400">
            <a:off x="2755440" y="1036440"/>
            <a:ext cx="497700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Pendokumentasi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809880"/>
            <a:ext cx="4343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.Reka Bentuk dan Teknolo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 Kreativiti dan Reka Cip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Pendokumenta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Tahu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Tahun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Tahun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600200" y="533160"/>
            <a:ext cx="5943600" cy="5592600"/>
          </a:xfrm>
          <a:prstGeom prst="rect">
            <a:avLst/>
          </a:prstGeom>
          <a:gradFill rotWithShape="0">
            <a:gsLst>
              <a:gs pos="0">
                <a:srgbClr val="e8041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.Proses Kerj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Potong 2 batang kayu joran berukuran 2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Sambung kayu joran itu dengan penyambu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Pasang penarik kabel brek pada pemegang ga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Pasang pencengkam brek di bahagian hujung ga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Pasang kabel krek di antara penarik dan pencengkan b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Pasangkan mata pemotong dipencengkam br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Pasangkan jaring seperti dalam gambar raja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.Ulasan Mu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0.Ulasan Gur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h Projek daripada botol plas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4724280"/>
            <a:ext cx="121896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3200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09680" y="3200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90720" y="2057040"/>
            <a:ext cx="3045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1905120" y="2057040"/>
            <a:ext cx="3045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19320" y="1676520"/>
            <a:ext cx="761760" cy="3808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15000" y="3962520"/>
            <a:ext cx="762120" cy="3808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181480" y="2057040"/>
            <a:ext cx="53352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477120" y="2057040"/>
            <a:ext cx="38088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81480" y="1981080"/>
            <a:ext cx="167652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5715000" y="3581280"/>
            <a:ext cx="761760" cy="1523880"/>
          </a:xfrm>
          <a:prstGeom prst="flowChartDelay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05120" y="1905120"/>
            <a:ext cx="396216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523880" y="2666520"/>
            <a:ext cx="4343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828800" y="4495680"/>
            <a:ext cx="3733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96720" y="559908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a Projek : Gelas Plast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4120" y="4648320"/>
            <a:ext cx="15238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172200" y="228600"/>
            <a:ext cx="533520" cy="1371600"/>
          </a:xfrm>
          <a:prstGeom prst="ellipse">
            <a:avLst/>
          </a:prstGeom>
          <a:noFill/>
          <a:ln w="76320">
            <a:solidFill>
              <a:srgbClr val="fe97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1600200"/>
            <a:ext cx="685800" cy="2209680"/>
          </a:xfrm>
          <a:prstGeom prst="can">
            <a:avLst>
              <a:gd name="adj" fmla="val 70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1219320" y="3885840"/>
            <a:ext cx="838080" cy="1600200"/>
          </a:xfrm>
          <a:prstGeom prst="can">
            <a:avLst>
              <a:gd name="adj" fmla="val 70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1143000" y="914040"/>
            <a:ext cx="914400" cy="609480"/>
          </a:xfrm>
          <a:prstGeom prst="can">
            <a:avLst>
              <a:gd name="adj" fmla="val 169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5562720"/>
            <a:ext cx="990720" cy="533160"/>
          </a:xfrm>
          <a:prstGeom prst="can">
            <a:avLst>
              <a:gd name="adj" fmla="val 260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1676520"/>
            <a:ext cx="685800" cy="2209680"/>
          </a:xfrm>
          <a:prstGeom prst="can">
            <a:avLst>
              <a:gd name="adj" fmla="val 7083"/>
            </a:avLst>
          </a:prstGeom>
          <a:solidFill>
            <a:srgbClr val="f7fbf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0800000">
            <a:off x="6095520" y="3733560"/>
            <a:ext cx="838440" cy="1600200"/>
          </a:xfrm>
          <a:prstGeom prst="can">
            <a:avLst>
              <a:gd name="adj" fmla="val 7083"/>
            </a:avLst>
          </a:prstGeom>
          <a:solidFill>
            <a:srgbClr val="f1f8f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81480"/>
            <a:ext cx="838440" cy="533520"/>
          </a:xfrm>
          <a:prstGeom prst="can">
            <a:avLst>
              <a:gd name="adj" fmla="val 4166"/>
            </a:avLst>
          </a:prstGeom>
          <a:solidFill>
            <a:srgbClr val="f1f8f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6095520" y="1218960"/>
            <a:ext cx="838440" cy="609480"/>
          </a:xfrm>
          <a:prstGeom prst="can">
            <a:avLst>
              <a:gd name="adj" fmla="val 2601"/>
            </a:avLst>
          </a:prstGeom>
          <a:solidFill>
            <a:srgbClr val="f1f8f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1219320"/>
            <a:ext cx="0" cy="2514600"/>
          </a:xfrm>
          <a:prstGeom prst="line">
            <a:avLst/>
          </a:prstGeom>
          <a:ln w="88920">
            <a:solidFill>
              <a:srgbClr val="fe97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07120" y="392256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tang pa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VC ¾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83080" y="521820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utup pa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VC ¾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1219320"/>
            <a:ext cx="0" cy="5029200"/>
          </a:xfrm>
          <a:prstGeom prst="line">
            <a:avLst/>
          </a:prstGeom>
          <a:ln w="88920">
            <a:solidFill>
              <a:srgbClr val="fe97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da8a1"/>
              </a:gs>
              <a:gs pos="100000">
                <a:srgbClr val="fdf3f2"/>
              </a:gs>
            </a:gsLst>
            <a:lin ang="5400000"/>
          </a:gra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HU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2 Kreativiti dan Reka Cip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cadangan peruntukan masa ialah 8 minggu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ngenalan kreativi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Cadangan peruntukan masa 3 minggu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ajian reka bentuk dan kefungsian prod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Cadangan peruntukan masa 4 minggu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ndokumentas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Cadangan peruntukan masa 1 minggu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as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Mengumpul dan merekod maklu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dangan aktiviti pembelajara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yimpan maklumat dalam 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3733920"/>
            <a:ext cx="533520" cy="304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HU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gradFill rotWithShape="0">
            <a:gsLst>
              <a:gs pos="0">
                <a:srgbClr val="cafdc7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2 Kreativiti dan Reka Cip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cadangan peruntukan masa ialah 7 minggu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Kajian reka bentuk dan kefungsian prod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Cadangan peruntukan masa ialah 3 minggu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. Penyelesaian masala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Cadangan peruntukan masa ialah 3 minggu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endokumentasi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Cadangan peruntukan masa 1 minggu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ras 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Menyatakan keperluan pendokumentasian dalam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ku id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Mengumpul dan merekod maklu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Membuat buku id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adangan aktiviti pembelajaran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yimpan maklumat dalam buku id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657600"/>
            <a:ext cx="380880" cy="304920"/>
          </a:xfrm>
          <a:custGeom>
            <a:avLst/>
            <a:gdLst>
              <a:gd name="textAreaLeft" fmla="*/ 4752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gradFill rotWithShape="0">
            <a:gsLst>
              <a:gs pos="0">
                <a:srgbClr val="f0f941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2 Kreativiti dan Reka Cip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cadangan peruntukan masa ialah 3 minggu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enghasilan projek Reka cip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Cadangan peruntukan masa ialah 6 minggu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ndokumentas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Cadangan peruntukan masa 1 minggu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as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Menyatakan keperluan pendokumentasian dalam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buku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Mengumpul dan merekod maklu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Membuat buku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dangan aktiviti pembelajara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yimpan maklumat dalam buku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e9786"/>
              </a:gs>
              <a:gs pos="100000">
                <a:srgbClr val="75453d"/>
              </a:gs>
            </a:gsLst>
            <a:lin ang="5400000"/>
          </a:gra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HU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3200400"/>
            <a:ext cx="381240" cy="457200"/>
          </a:xfrm>
          <a:custGeom>
            <a:avLst/>
            <a:gdLst>
              <a:gd name="textAreaLeft" fmla="*/ 59400 w 381240"/>
              <a:gd name="textAreaRight" fmla="*/ 333720 w 3812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685800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752480" y="914400"/>
            <a:ext cx="5562720" cy="866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443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0f941"/>
                    </a:gs>
                    <a:gs pos="100000">
                      <a:srgbClr val="ff66cc"/>
                    </a:gs>
                  </a:gsLst>
                  <a:lin ang="8100000"/>
                </a:gradFill>
                <a:latin typeface="Arial Black"/>
              </a:rPr>
              <a:t>CONTOH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0f941"/>
                  </a:gs>
                  <a:gs pos="100000">
                    <a:srgbClr val="ff66cc"/>
                  </a:gs>
                </a:gsLst>
                <a:lin ang="81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0f941"/>
                    </a:gs>
                    <a:gs pos="100000">
                      <a:srgbClr val="ff66cc"/>
                    </a:gs>
                  </a:gsLst>
                  <a:lin ang="8100000"/>
                </a:gradFill>
                <a:latin typeface="Arial Black"/>
              </a:rPr>
              <a:t>BUKU IDE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0f941"/>
                  </a:gs>
                  <a:gs pos="100000">
                    <a:srgbClr val="ff66cc"/>
                  </a:gs>
                </a:gsLst>
                <a:lin ang="81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0f941"/>
                  </a:gs>
                  <a:gs pos="100000">
                    <a:srgbClr val="ff66cc"/>
                  </a:gs>
                </a:gsLst>
                <a:lin ang="81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0f941"/>
                  </a:gs>
                  <a:gs pos="100000">
                    <a:srgbClr val="ff66cc"/>
                  </a:gs>
                </a:gsLst>
                <a:lin ang="81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0f941"/>
                  </a:gs>
                  <a:gs pos="100000">
                    <a:srgbClr val="ff66cc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639720"/>
          </a:xfrm>
          <a:prstGeom prst="rect">
            <a:avLst/>
          </a:prstGeom>
          <a:solidFill>
            <a:srgbClr val="f0f941"/>
          </a:soli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KU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5486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8041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prstDash val="sysDot"/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iap hasil haruslah direkodkan dalam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ku Id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atan perihal projek hendaklah dilakukan dari peringkat permulaan lag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dangan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ormat Buku 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a mu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h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a proj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erangan projek ( masalah,keperluan,kegunaa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selamatan,faedah,fungsi,kos projek dan maklumat tambah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kisan projek serta dimen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a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ses ker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kah-langkah ker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kisan ker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lasan mu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lasan gu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6705720" cy="792000"/>
          </a:xfrm>
          <a:prstGeom prst="rect">
            <a:avLst/>
          </a:prstGeom>
          <a:blipFill rotWithShape="0">
            <a:blip r:embed="rId1"/>
            <a:stretch/>
          </a:blip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oh Buku Ide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6705720" cy="533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da8a1"/>
              </a:gs>
            </a:gsLst>
            <a:lin ang="5400000"/>
          </a:gradFill>
          <a:ln w="38160">
            <a:solidFill>
              <a:srgbClr val="0000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jek Reka Cip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Nama: Rozana Yus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Tahun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Mer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Nama Projek : Pemetik Bu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Penerangan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k ini direka untuk menyelesaikan masala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etik buah supaya buah yang dipetik tida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galami kerosakan akibat jatuh dari pokok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ang tinggi.Apabila menggunakan alat ini bua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ang dipetik tidak mengalami kerosakan.Ala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 selamat digunakan bagi kanak-kanak ya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umur 10 tahun ke atas dan alat ini tida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erlukan kos yang tinggi kerana i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ggunakan bahan terbuang.Anggaran ko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k ini ialah RM 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gradFill rotWithShape="0">
            <a:gsLst>
              <a:gs pos="0">
                <a:srgbClr val="f0f94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Lukisan Projek : Pemetik Bua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362320" y="1981080"/>
            <a:ext cx="419076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057040" y="228600"/>
            <a:ext cx="5334120" cy="6400800"/>
          </a:xfrm>
          <a:prstGeom prst="rect">
            <a:avLst/>
          </a:prstGeom>
          <a:blipFill rotWithShape="0">
            <a:blip r:embed="rId1"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Bah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 Penarik kabel brek basik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 Wayar brek basik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Pencengkam brek basik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Batang joran yang boleh disamb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  2 Bilah mata pis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Gelung daw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  J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Skru dan n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    Getah pemegang handle basik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  Pelaras way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Alat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emutar sk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Playar gab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Gergaji tan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emutar skru tang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14:05:19Z</dcterms:created>
  <dc:creator>sk seri kota (zum )</dc:creator>
  <dc:description/>
  <dc:language>en-US</dc:language>
  <cp:lastModifiedBy>Poh</cp:lastModifiedBy>
  <dcterms:modified xsi:type="dcterms:W3CDTF">2005-08-13T13:50:42Z</dcterms:modified>
  <cp:revision>14</cp:revision>
  <dc:subject/>
  <dc:title>PENDOKUMENTASIAN</dc:title>
</cp:coreProperties>
</file>