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772C-5078-439F-BF56-A1B581A8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73B-7EAD-4A9A-95F5-C2174ED2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370-5F76-4862-8F7A-676372C2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E86-F7F0-4118-AC80-DB18AA84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5A2-A0D5-4F97-B4CD-69FD578D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5CD-8B02-4424-89A1-16DB92E2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F97-2A54-40A3-82FD-898FCFA5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4BC1-2875-430C-A93C-870C8321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0C7-6B71-408F-8274-1AA95A48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94A-C1DA-4051-8DF1-DB08F33E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C6A-FBFC-43BA-98B2-33B89C86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4DF-C1E6-4847-BB21-4F4D758D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C53D-C3BD-4CE6-BA46-F247DB6178E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1pc1.jpg"/>
          <p:cNvPicPr/>
          <p:nvPr/>
        </p:nvPicPr>
        <p:blipFill>
          <a:blip r:embed="rId1"/>
          <a:stretch/>
        </p:blipFill>
        <p:spPr>
          <a:xfrm>
            <a:off x="2819520" y="838080"/>
            <a:ext cx="4267080" cy="5105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380880" y="-243000"/>
            <a:ext cx="939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900" spc="-1" strike="noStrike">
                <a:solidFill>
                  <a:srgbClr val="ffffff"/>
                </a:solidFill>
                <a:latin typeface="Arial"/>
              </a:rPr>
              <a:t>أعداء الخير إتلمواوغيظهم زى الشوك فى النار       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76320" y="6019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نصبوا لى الفخ إحتالوا علىَّ وكانوا علىَّ كتار</a:t>
            </a:r>
            <a:r>
              <a:rPr b="0" lang="ar-EG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-169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Arial"/>
              </a:rPr>
              <a:t>إنكسر الفخ ووقعوا فى بير والبير ده ملهوش قرار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1597680" y="5927760"/>
            <a:ext cx="125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Arial"/>
              </a:rPr>
              <a:t>وأهو شاول وسط جنوده ماتا ما بقاش لسيرته وجو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71560" y="914400"/>
            <a:ext cx="5695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107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الرب نورى وخلاصى ورافع راسى على الأعداء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6320" y="606420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ffff"/>
                </a:solidFill>
                <a:latin typeface="Arial"/>
              </a:rPr>
              <a:t>لو جيش الشر حاربنى عمرى ما أخاف دا أنا عندى رجاء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519588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90680" y="457200"/>
            <a:ext cx="6610320" cy="5751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7448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Arial"/>
              </a:rPr>
              <a:t>وإن سرت في  وادي ظل الموت مباخافش وأنا المقصود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-763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لو حتى الحوت يبلعني ولو ينفوني عن الأبنا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76320" y="-169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Arial"/>
              </a:rPr>
              <a:t>طوبى للرجل الذى لم يسلك فى مشورة الأشرار     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095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  لكن فى ناموس الرب مسرته يلهج ليل ونهار</a:t>
            </a: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162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245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ff"/>
                </a:solidFill>
                <a:latin typeface="Arial"/>
              </a:rPr>
              <a:t>فيكون كالشجره المغروسه تثمر على مجرى الانها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958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وكل ما يصنع ينجح فيه ومافيش لنجاحه حدود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1480" y="914400"/>
            <a:ext cx="7340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320" y="-3661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Arial"/>
              </a:rPr>
              <a:t>رتل مزاميرك وإفرح .. إفرح ويانا يا داود</a:t>
            </a: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5731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Arial"/>
              </a:rPr>
              <a:t>وأهتف من قلبك أهتف وأعزف ألحانك عل العود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7-24T09:20:1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