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60A-182B-43F7-9523-0646FB1D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652-9C63-4E65-B437-0B724AA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031-8352-4EE2-BBC6-4E3D25E0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04B-63EA-43CA-8714-6F29DEB7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E6A-F8E4-45EA-A7BA-FFEA61D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DB2-44DE-472D-94ED-0042195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61E-E7D6-49CE-A193-30B06766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FAE-AA8D-41F0-91F9-DDAF6BAF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895-E0BF-47F4-8C4F-8A78B644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98D-728A-4592-8071-22CAE7B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CD5-8651-42F1-9590-BB64C2FC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0F4-8DBB-4F45-ADE0-3790B0B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7CF3-4C18-4222-907D-DBC97281C3C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1pc1.jpg"/>
          <p:cNvPicPr/>
          <p:nvPr/>
        </p:nvPicPr>
        <p:blipFill>
          <a:blip r:embed="rId1"/>
          <a:stretch/>
        </p:blipFill>
        <p:spPr>
          <a:xfrm>
            <a:off x="2819520" y="838080"/>
            <a:ext cx="4267080" cy="5105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80880" y="-243000"/>
            <a:ext cx="939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900" spc="-1" strike="noStrike">
                <a:solidFill>
                  <a:srgbClr val="ffffff"/>
                </a:solidFill>
                <a:latin typeface="Arial"/>
              </a:rPr>
              <a:t>أعداء الخير إتلمواوغيظهم زى الشوك فى النار       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6320" y="6019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نصبوا لى الفخ إحتالوا علىَّ وكانوا علىَّ كتار</a:t>
            </a:r>
            <a:r>
              <a:rPr b="0" lang="ar-EG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169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إنكسر الفخ ووقعوا فى بير والبير ده ملهوش قر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597680" y="5927760"/>
            <a:ext cx="125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وأهو شاول وسط جنوده ماتا ما بقاش لسيرته وجو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71560" y="914400"/>
            <a:ext cx="569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107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الرب نورى وخلاصى ورافع راسى على الأعداء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60642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ffff"/>
                </a:solidFill>
                <a:latin typeface="Arial"/>
              </a:rPr>
              <a:t>لو جيش الشر حاربنى عمرى ما أخاف دا أنا عندى رجاء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1958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90680" y="457200"/>
            <a:ext cx="6610320" cy="5751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744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وإن سرت في  وادي ظل الموت مباخافش وأنا المقصود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-76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لو حتى الحوت يبلعني ولو ينفوني عن الأبن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76320" y="-169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طوبى للرجل الذى لم يسلك فى مشورة الأشرار  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095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  لكن فى ناموس الرب مسرته يلهج ليل ونهار</a:t>
            </a: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45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فيكون كالشجره المغروسه تثمر على مجرى الانها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58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وكل ما يصنع ينجح فيه ومافيش لنجاحه حدو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1480" y="914400"/>
            <a:ext cx="734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24T09:2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