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25.gif" ContentType="image/gif"/>
  <Override PartName="/ppt/media/image12.jpeg" ContentType="image/jpeg"/>
  <Override PartName="/ppt/media/image7.jpeg" ContentType="image/jpeg"/>
  <Override PartName="/ppt/media/image6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3.jpeg" ContentType="image/jpeg"/>
  <Override PartName="/ppt/media/image15.jpeg" ContentType="image/jpeg"/>
  <Override PartName="/ppt/media/148-NewOrleansDixielandJazzBand-Charleston.wav" ContentType="audio/x-wav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4149-11D2-4F82-874B-4D5E8B870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EBE0-E99F-495B-8FCB-C69BB1E7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3B0F-AC46-4C33-A462-37A8E13333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4082-26C4-439B-9AFB-15923B43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5A091-93EA-47CA-BB15-55C03908F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119C-6895-4C06-B0E5-0720E45FB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60B8-5230-4507-8A0B-E518F2248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149-2867-4E0A-83DC-98434839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5521-9512-4779-B1D5-7AB35E2B3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9088-26AE-4712-B507-BBECDA6E5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166FE-9E78-4A96-8D73-01372C3E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01F2-7818-423D-9522-F8189B2B1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B666-6DA5-4FE7-B935-93DF007B7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48-NewOrleansDixielandJazzBand-Charleston.wav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28600" y="1981080"/>
            <a:ext cx="868680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700" spc="-1" strike="noStrike">
                <a:solidFill>
                  <a:srgbClr val="ff3300"/>
                </a:solidFill>
                <a:latin typeface="Trebuchet MS"/>
              </a:rPr>
              <a:t>Too pretty…</a:t>
            </a:r>
            <a:endParaRPr b="0" lang="en-US" sz="1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7000">
    <p:dissolve/>
    <p:sndAc>
      <p:stSnd>
        <p:snd r:embed="rId2" name="148-NewOrleansDixielandJazzBand-Charleston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008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2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172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61722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0" y="0"/>
            <a:ext cx="9144000" cy="205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0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900" spc="-1" strike="noStrike">
                <a:solidFill>
                  <a:srgbClr val="ff3300"/>
                </a:solidFill>
                <a:latin typeface="Trebuchet MS"/>
              </a:rPr>
              <a:t>…</a:t>
            </a:r>
            <a:r>
              <a:rPr b="1" lang="en-US" sz="12900" spc="-1" strike="noStrike">
                <a:solidFill>
                  <a:srgbClr val="ff3300"/>
                </a:solidFill>
                <a:latin typeface="Trebuchet MS"/>
              </a:rPr>
              <a:t>too eat?</a:t>
            </a:r>
            <a:endParaRPr b="0" lang="en-US" sz="1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617220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248520" y="6324480"/>
            <a:ext cx="247680" cy="243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 txBox="1"/>
          <p:nvPr/>
        </p:nvSpPr>
        <p:spPr>
          <a:xfrm>
            <a:off x="2340000" y="616572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dissolv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000"/>
                            </p:stCondLst>
                            <p:childTnLst>
                              <p:par>
                                <p:cTn id="24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" dur="500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424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9T15:00:57Z</dcterms:created>
  <dc:creator/>
  <dc:description/>
  <dc:language>en-US</dc:language>
  <cp:lastModifiedBy>Smets</cp:lastModifiedBy>
  <dcterms:modified xsi:type="dcterms:W3CDTF">2008-10-04T06:08:59Z</dcterms:modified>
  <cp:revision>13</cp:revision>
  <dc:subject/>
  <dc:title>Dia 1</dc:title>
</cp:coreProperties>
</file>