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15.jpeg" ContentType="image/jpeg"/>
  <Override PartName="/ppt/media/148-NewOrleansDixielandJazzBand-Charleston.wav" ContentType="audio/x-wav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FD17-4A47-4C98-AD5A-942F6C01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E3E4-A52A-4244-8FEA-0DB81211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45DD-17A7-4EBA-B96B-48181AE6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1206-0C22-4F81-ACB1-12EF4B2F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1C12-19D8-47F8-B95D-D0870EB0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CA3F-A887-48BE-A90F-F9EF54EE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5F2E-BC2C-4BDF-A4EB-2DC242B2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D161-FEF3-41E9-85F8-CF923F7E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27B6-42A8-4325-9B7A-4B45F0B5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EE76-BBBD-47C7-B7AE-9DEA172D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4433-83FB-4E23-BA79-5967FE6C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6EFC-EE02-4C72-8F57-54ABABD3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54BC-70F7-4DB3-9ECB-970BDC99C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48-NewOrleansDixielandJazzBand-Charlesto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981080"/>
            <a:ext cx="8686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3300"/>
                </a:solidFill>
                <a:latin typeface="Trebuchet MS"/>
              </a:rPr>
              <a:t>Too pretty…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dissolve/>
    <p:sndAc>
      <p:stSnd>
        <p:snd r:embed="rId2" name="148-NewOrleansDixielandJazzBand-Charlest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172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6172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0"/>
            <a:ext cx="91440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3300"/>
                </a:solidFill>
                <a:latin typeface="Trebuchet MS"/>
              </a:rPr>
              <a:t>…</a:t>
            </a:r>
            <a:r>
              <a:rPr b="1" lang="en-US" sz="12900" spc="-1" strike="noStrike">
                <a:solidFill>
                  <a:srgbClr val="ff3300"/>
                </a:solidFill>
                <a:latin typeface="Trebuchet MS"/>
              </a:rPr>
              <a:t>too eat?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6172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248520" y="6324480"/>
            <a:ext cx="247680" cy="243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340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500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15:00:57Z</dcterms:created>
  <dc:creator/>
  <dc:description/>
  <dc:language>en-US</dc:language>
  <cp:lastModifiedBy>Smets</cp:lastModifiedBy>
  <dcterms:modified xsi:type="dcterms:W3CDTF">2008-10-04T06:08:59Z</dcterms:modified>
  <cp:revision>13</cp:revision>
  <dc:subject/>
  <dc:title>Dia 1</dc:title>
</cp:coreProperties>
</file>