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A2A5-3FCB-4B4B-8377-D829A23D6F4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69C-95A8-4D03-A856-8F538CF75E2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7EBE-487F-4E6B-A969-5A52279C447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101-3591-47D0-B304-50B51D109FA2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D74F-9B56-492A-BDB9-B87CFD428072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9F5-BE53-46BD-A086-E4945226872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B260-1DBC-4AAE-BE1A-F6DB200E9A9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965-BD3A-480B-BFB3-24522B845BD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E019-E228-4C73-9F4A-D5AF3911256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71E-6754-4D38-B51E-A4470031EE0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1D45-7906-4899-A780-70DA7BB5AF5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F75-BD31-4C01-B7A0-03AAC2ED638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975-5471-4565-AA87-B2FB575E618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15F-5904-4E60-A761-C8591582DAF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736-F142-42D8-ACF6-856306DCA0A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28E6-69F5-49F8-9C97-E386FAEEA45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075-69A2-4506-A1CF-06C74E76949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D0F6-F288-4891-AB85-FE3387CE008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C3FC-5A41-4638-A3CC-BB0B4F475B4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92B-A373-4100-941C-5A1E8250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106-8B84-4F62-80A8-25B3E6E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70D-363E-4DE1-82A5-29189786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BCE-0A65-4304-BC7B-E0681544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6A2-23A1-4251-A93C-563CABD5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31C-ABB5-4ADD-9B38-9F4A723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7D0-D792-4D87-A724-E3D55E5C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F10-6DA9-4F3E-B9EA-47218693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801-C7D5-477C-8C04-31AD4067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ACC-E252-4A20-BC19-C721D10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814-3C43-456A-8624-17B2C05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56C-6AED-4B68-B2FA-3A21E15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3230-3D2A-484E-BCAE-F2833E71D9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5480" y="2438280"/>
            <a:ext cx="425124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. Mitocondrias</a:t>
            </a: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Respiración celular</a:t>
            </a:r>
            <a:br>
              <a:rPr sz="3800"/>
            </a:b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. Peroxisoma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66680" y="12193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iología Celular y Molecula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irac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468360" y="1700280"/>
            <a:ext cx="8280360" cy="3530880"/>
            <a:chOff x="468360" y="1700280"/>
            <a:chExt cx="8280360" cy="3530880"/>
          </a:xfrm>
        </p:grpSpPr>
        <p:pic>
          <p:nvPicPr>
            <p:cNvPr id="108" name="Picture 3" descr="Resp Gluco color"/>
            <p:cNvPicPr/>
            <p:nvPr/>
          </p:nvPicPr>
          <p:blipFill>
            <a:blip r:embed="rId1"/>
            <a:stretch/>
          </p:blipFill>
          <p:spPr>
            <a:xfrm>
              <a:off x="468360" y="2060640"/>
              <a:ext cx="3816360" cy="2730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Line 4"/>
            <p:cNvSpPr/>
            <p:nvPr/>
          </p:nvSpPr>
          <p:spPr>
            <a:xfrm flipV="1">
              <a:off x="4284720" y="2060280"/>
              <a:ext cx="13669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4284720" y="3500280"/>
              <a:ext cx="136692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4500720" y="2565360"/>
              <a:ext cx="187164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usencia de O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n la cél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4500720" y="3789360"/>
              <a:ext cx="19429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resencia de O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n la cél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5724360" y="1700280"/>
              <a:ext cx="3024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Respiración Anaeróbica o fermentació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5724360" y="4832280"/>
              <a:ext cx="288000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Respiración Aerób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1042920" y="4653000"/>
              <a:ext cx="136836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Glu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piración Celular Aeróbica: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752400" y="1066680"/>
            <a:ext cx="7477200" cy="5410080"/>
            <a:chOff x="752400" y="1066680"/>
            <a:chExt cx="7477200" cy="5410080"/>
          </a:xfrm>
        </p:grpSpPr>
        <p:sp>
          <p:nvSpPr>
            <p:cNvPr id="118" name="Oval 4"/>
            <p:cNvSpPr/>
            <p:nvPr/>
          </p:nvSpPr>
          <p:spPr>
            <a:xfrm>
              <a:off x="761760" y="2590560"/>
              <a:ext cx="7467840" cy="3886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"/>
            <p:cNvSpPr/>
            <p:nvPr/>
          </p:nvSpPr>
          <p:spPr>
            <a:xfrm>
              <a:off x="3504960" y="1066680"/>
              <a:ext cx="19814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ucó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3733560" y="3276360"/>
              <a:ext cx="1524240" cy="1371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2438280" y="5410080"/>
              <a:ext cx="411480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adena  Respirato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4495680" y="1904760"/>
              <a:ext cx="0" cy="1371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4495680" y="47242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 rot="19746000">
              <a:off x="1221120" y="332856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9933"/>
                  </a:solidFill>
                  <a:latin typeface="Arial"/>
                </a:rPr>
                <a:t>MITOCOND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 rot="19685400">
              <a:off x="740160" y="2713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66ff"/>
                  </a:solidFill>
                  <a:latin typeface="Arial"/>
                </a:rPr>
                <a:t>CITOSO</a:t>
              </a:r>
              <a:r>
                <a:rPr b="1" lang="es-ES_tradnl" sz="1800" spc="-1" strike="noStrike">
                  <a:solidFill>
                    <a:srgbClr val="cc66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cesos de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1752480"/>
            <a:ext cx="8001000" cy="2850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ólisi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uptura de una glucosa en dos moléculas de tres carbonos cada una (ácido pirúvico), liberando la energía neta como para producir dos ATP. Ocurre en el cito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termina de degradar lo que queda del ácido pirúvico. Ocurre en la matriz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os productos del ciclo de Krebs so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oxida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s crestas de las mitocondrias.  Se libera la energía que permite formar ATP  (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28760" y="1357200"/>
            <a:ext cx="391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eacciones de 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glucóli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vierten a las moléculas de glucosa (6 átomos de carbono) en dos moléculas de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 tres átomos de carbono, las cuales aún contienen  la mayor parte de la energía que se puede obtener de la oxidación de los azúc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http://www.arrakis.es/~lluengo/glucoli.gif"/>
          <p:cNvPicPr/>
          <p:nvPr/>
        </p:nvPicPr>
        <p:blipFill>
          <a:blip r:embed="rId1"/>
          <a:stretch/>
        </p:blipFill>
        <p:spPr>
          <a:xfrm>
            <a:off x="5029200" y="571680"/>
            <a:ext cx="3378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ción de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Resp Acetilación color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4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4"/>
          <p:cNvSpPr/>
          <p:nvPr/>
        </p:nvSpPr>
        <p:spPr>
          <a:xfrm>
            <a:off x="1835280" y="5586480"/>
            <a:ext cx="5761080" cy="824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a mitocondria, el ácido pirúvico pierde un CO2 y H+, se une a una molécula de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enzima 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forma 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cetil Co-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sustancia clave para el metabolis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Resp"/>
          <p:cNvPicPr/>
          <p:nvPr/>
        </p:nvPicPr>
        <p:blipFill>
          <a:blip r:embed="rId1"/>
          <a:stretch/>
        </p:blipFill>
        <p:spPr>
          <a:xfrm>
            <a:off x="762120" y="836640"/>
            <a:ext cx="6553080" cy="585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 Box 4"/>
          <p:cNvSpPr/>
          <p:nvPr/>
        </p:nvSpPr>
        <p:spPr>
          <a:xfrm>
            <a:off x="6477120" y="5661000"/>
            <a:ext cx="23619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clo de Krebs produce CO2, NADH+H+ y FADH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80880" y="1523880"/>
            <a:ext cx="8381880" cy="4646160"/>
            <a:chOff x="380880" y="1523880"/>
            <a:chExt cx="8381880" cy="4646160"/>
          </a:xfrm>
        </p:grpSpPr>
        <p:grpSp>
          <p:nvGrpSpPr>
            <p:cNvPr id="138" name="Group 4"/>
            <p:cNvGrpSpPr/>
            <p:nvPr/>
          </p:nvGrpSpPr>
          <p:grpSpPr>
            <a:xfrm>
              <a:off x="380880" y="1523880"/>
              <a:ext cx="8305920" cy="4646160"/>
              <a:chOff x="380880" y="1523880"/>
              <a:chExt cx="8305920" cy="4646160"/>
            </a:xfrm>
          </p:grpSpPr>
          <p:pic>
            <p:nvPicPr>
              <p:cNvPr id="139" name="Picture 5" descr="Resp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523880"/>
                <a:ext cx="8305920" cy="373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40" name="AutoShape 6"/>
              <p:cNvSpPr/>
              <p:nvPr/>
            </p:nvSpPr>
            <p:spPr>
              <a:xfrm>
                <a:off x="7391160" y="4873320"/>
                <a:ext cx="381240" cy="685800"/>
              </a:xfrm>
              <a:prstGeom prst="upArrow">
                <a:avLst>
                  <a:gd name="adj1" fmla="val 50000"/>
                  <a:gd name="adj2" fmla="val 44972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7"/>
              <p:cNvSpPr/>
              <p:nvPr/>
            </p:nvSpPr>
            <p:spPr>
              <a:xfrm>
                <a:off x="5562360" y="5527440"/>
                <a:ext cx="304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xígeno gaseoso proveniente de los capilar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8"/>
            <p:cNvSpPr/>
            <p:nvPr/>
          </p:nvSpPr>
          <p:spPr>
            <a:xfrm>
              <a:off x="8076960" y="4416120"/>
              <a:ext cx="685800" cy="68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611280" y="5084640"/>
            <a:ext cx="424800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una cadena de proteinas mitocondriales transportadoras de electrones que catalizan la transferencia de los mismos hacia el oxi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Partículas F1-F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685800" y="1066680"/>
            <a:ext cx="7547040" cy="5371920"/>
            <a:chOff x="685800" y="1066680"/>
            <a:chExt cx="7547040" cy="5371920"/>
          </a:xfrm>
        </p:grpSpPr>
        <p:pic>
          <p:nvPicPr>
            <p:cNvPr id="146" name="Picture 4" descr="Resp"/>
            <p:cNvPicPr/>
            <p:nvPr/>
          </p:nvPicPr>
          <p:blipFill>
            <a:blip r:embed="rId1"/>
            <a:stretch/>
          </p:blipFill>
          <p:spPr>
            <a:xfrm>
              <a:off x="685800" y="1066680"/>
              <a:ext cx="6781680" cy="5371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7" name="Text Box 5"/>
            <p:cNvSpPr/>
            <p:nvPr/>
          </p:nvSpPr>
          <p:spPr>
            <a:xfrm>
              <a:off x="5715000" y="137124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4343400" y="12952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1066680" y="15238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rtículas F1-F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5943600" y="3809880"/>
            <a:ext cx="2819520" cy="246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talle de una cr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partículas F1-F0 son complejos de proteínas de la membrana interna de las mitocondrias, donde se produce la energía en el proceso respir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una Partícula F1-F0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ATPsintet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304920" y="914400"/>
            <a:ext cx="8152920" cy="5562720"/>
            <a:chOff x="304920" y="914400"/>
            <a:chExt cx="8152920" cy="5562720"/>
          </a:xfrm>
        </p:grpSpPr>
        <p:grpSp>
          <p:nvGrpSpPr>
            <p:cNvPr id="153" name="Group 9"/>
            <p:cNvGrpSpPr/>
            <p:nvPr/>
          </p:nvGrpSpPr>
          <p:grpSpPr>
            <a:xfrm>
              <a:off x="1447920" y="914400"/>
              <a:ext cx="7009920" cy="5562720"/>
              <a:chOff x="1447920" y="914400"/>
              <a:chExt cx="7009920" cy="5562720"/>
            </a:xfrm>
          </p:grpSpPr>
          <p:pic>
            <p:nvPicPr>
              <p:cNvPr id="154" name="Picture 4" descr="Resp"/>
              <p:cNvPicPr/>
              <p:nvPr/>
            </p:nvPicPr>
            <p:blipFill>
              <a:blip r:embed="rId1"/>
              <a:stretch/>
            </p:blipFill>
            <p:spPr>
              <a:xfrm>
                <a:off x="2178000" y="914400"/>
                <a:ext cx="4620960" cy="556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55" name="Line 5"/>
              <p:cNvSpPr/>
              <p:nvPr/>
            </p:nvSpPr>
            <p:spPr>
              <a:xfrm flipH="1">
                <a:off x="2742840" y="2819520"/>
                <a:ext cx="137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"/>
              <p:cNvSpPr/>
              <p:nvPr/>
            </p:nvSpPr>
            <p:spPr>
              <a:xfrm>
                <a:off x="5943600" y="5257800"/>
                <a:ext cx="12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086600" y="5013360"/>
                <a:ext cx="137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Partícu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F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8"/>
              <p:cNvSpPr/>
              <p:nvPr/>
            </p:nvSpPr>
            <p:spPr>
              <a:xfrm>
                <a:off x="1447920" y="2575080"/>
                <a:ext cx="137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Partícu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F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0"/>
            <p:cNvSpPr/>
            <p:nvPr/>
          </p:nvSpPr>
          <p:spPr>
            <a:xfrm flipH="1">
              <a:off x="1828440" y="5029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304920" y="4724280"/>
              <a:ext cx="1752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P-sinte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Resp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52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40"/>
          <p:cNvGrpSpPr/>
          <p:nvPr/>
        </p:nvGrpSpPr>
        <p:grpSpPr>
          <a:xfrm>
            <a:off x="900000" y="1143000"/>
            <a:ext cx="7024680" cy="4952880"/>
            <a:chOff x="900000" y="1143000"/>
            <a:chExt cx="7024680" cy="4952880"/>
          </a:xfrm>
        </p:grpSpPr>
        <p:grpSp>
          <p:nvGrpSpPr>
            <p:cNvPr id="52" name="Group 3"/>
            <p:cNvGrpSpPr/>
            <p:nvPr/>
          </p:nvGrpSpPr>
          <p:grpSpPr>
            <a:xfrm>
              <a:off x="1295280" y="1143000"/>
              <a:ext cx="6629400" cy="4952880"/>
              <a:chOff x="1295280" y="1143000"/>
              <a:chExt cx="6629400" cy="4952880"/>
            </a:xfrm>
          </p:grpSpPr>
          <p:grpSp>
            <p:nvGrpSpPr>
              <p:cNvPr id="53" name="Group 4"/>
              <p:cNvGrpSpPr/>
              <p:nvPr/>
            </p:nvGrpSpPr>
            <p:grpSpPr>
              <a:xfrm>
                <a:off x="6248160" y="1904760"/>
                <a:ext cx="1676160" cy="990720"/>
                <a:chOff x="6248160" y="1904760"/>
                <a:chExt cx="1676160" cy="990720"/>
              </a:xfrm>
            </p:grpSpPr>
            <p:sp>
              <p:nvSpPr>
                <p:cNvPr id="54" name="Oval 5"/>
                <p:cNvSpPr/>
                <p:nvPr/>
              </p:nvSpPr>
              <p:spPr>
                <a:xfrm>
                  <a:off x="6248160" y="1904760"/>
                  <a:ext cx="1676160" cy="9907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Text Box 6"/>
                <p:cNvSpPr/>
                <p:nvPr/>
              </p:nvSpPr>
              <p:spPr>
                <a:xfrm>
                  <a:off x="6324120" y="213336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RESPIRACIÓN EXTERN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7"/>
              <p:cNvGrpSpPr/>
              <p:nvPr/>
            </p:nvGrpSpPr>
            <p:grpSpPr>
              <a:xfrm>
                <a:off x="1295280" y="1218960"/>
                <a:ext cx="4190040" cy="4799880"/>
                <a:chOff x="1295280" y="1218960"/>
                <a:chExt cx="4190040" cy="4799880"/>
              </a:xfrm>
            </p:grpSpPr>
            <p:grpSp>
              <p:nvGrpSpPr>
                <p:cNvPr id="57" name="Group 8"/>
                <p:cNvGrpSpPr/>
                <p:nvPr/>
              </p:nvGrpSpPr>
              <p:grpSpPr>
                <a:xfrm>
                  <a:off x="1399680" y="1627560"/>
                  <a:ext cx="1571400" cy="3983040"/>
                  <a:chOff x="1399680" y="1627560"/>
                  <a:chExt cx="1571400" cy="3983040"/>
                </a:xfrm>
              </p:grpSpPr>
              <p:sp>
                <p:nvSpPr>
                  <p:cNvPr id="58" name="Line 9"/>
                  <p:cNvSpPr/>
                  <p:nvPr/>
                </p:nvSpPr>
                <p:spPr>
                  <a:xfrm>
                    <a:off x="2342520" y="1627560"/>
                    <a:ext cx="62820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0"/>
                  <p:cNvSpPr/>
                  <p:nvPr/>
                </p:nvSpPr>
                <p:spPr>
                  <a:xfrm>
                    <a:off x="2971080" y="1627560"/>
                    <a:ext cx="0" cy="91908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1"/>
                  <p:cNvSpPr/>
                  <p:nvPr/>
                </p:nvSpPr>
                <p:spPr>
                  <a:xfrm flipH="1">
                    <a:off x="1399680" y="2954880"/>
                    <a:ext cx="83772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2"/>
                  <p:cNvSpPr/>
                  <p:nvPr/>
                </p:nvSpPr>
                <p:spPr>
                  <a:xfrm>
                    <a:off x="1400040" y="2954880"/>
                    <a:ext cx="0" cy="265572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3"/>
                  <p:cNvSpPr/>
                  <p:nvPr/>
                </p:nvSpPr>
                <p:spPr>
                  <a:xfrm>
                    <a:off x="1400040" y="5610600"/>
                    <a:ext cx="837720" cy="0"/>
                  </a:xfrm>
                  <a:prstGeom prst="line">
                    <a:avLst/>
                  </a:prstGeom>
                  <a:ln w="5724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14"/>
                <p:cNvGrpSpPr/>
                <p:nvPr/>
              </p:nvGrpSpPr>
              <p:grpSpPr>
                <a:xfrm>
                  <a:off x="1295280" y="1218960"/>
                  <a:ext cx="4190040" cy="4799880"/>
                  <a:chOff x="1295280" y="1218960"/>
                  <a:chExt cx="4190040" cy="4799880"/>
                </a:xfrm>
              </p:grpSpPr>
              <p:sp>
                <p:nvSpPr>
                  <p:cNvPr id="64" name="Rectangle 15"/>
                  <p:cNvSpPr/>
                  <p:nvPr/>
                </p:nvSpPr>
                <p:spPr>
                  <a:xfrm>
                    <a:off x="2238120" y="2546640"/>
                    <a:ext cx="2304720" cy="919080"/>
                  </a:xfrm>
                  <a:prstGeom prst="rect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Rectangle 16"/>
                  <p:cNvSpPr/>
                  <p:nvPr/>
                </p:nvSpPr>
                <p:spPr>
                  <a:xfrm>
                    <a:off x="2238120" y="5099760"/>
                    <a:ext cx="2304720" cy="919080"/>
                  </a:xfrm>
                  <a:prstGeom prst="rect">
                    <a:avLst/>
                  </a:prstGeom>
                  <a:solidFill>
                    <a:srgbClr val="ffbb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Text Box 17"/>
                  <p:cNvSpPr/>
                  <p:nvPr/>
                </p:nvSpPr>
                <p:spPr>
                  <a:xfrm>
                    <a:off x="2342880" y="2750760"/>
                    <a:ext cx="2199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LM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Text Box 18"/>
                  <p:cNvSpPr/>
                  <p:nvPr/>
                </p:nvSpPr>
                <p:spPr>
                  <a:xfrm>
                    <a:off x="2342880" y="5202000"/>
                    <a:ext cx="219996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ÉLULAS DEL CUER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" name="Group 19"/>
                  <p:cNvGrpSpPr/>
                  <p:nvPr/>
                </p:nvGrpSpPr>
                <p:grpSpPr>
                  <a:xfrm>
                    <a:off x="1295280" y="1218960"/>
                    <a:ext cx="1047240" cy="714600"/>
                    <a:chOff x="1295280" y="1218960"/>
                    <a:chExt cx="1047240" cy="714600"/>
                  </a:xfrm>
                </p:grpSpPr>
                <p:sp>
                  <p:nvSpPr>
                    <p:cNvPr id="69" name="AutoShape 20"/>
                    <p:cNvSpPr/>
                    <p:nvPr/>
                  </p:nvSpPr>
                  <p:spPr>
                    <a:xfrm>
                      <a:off x="1295280" y="1218960"/>
                      <a:ext cx="1047240" cy="7146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ff99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Text Box 21"/>
                    <p:cNvSpPr/>
                    <p:nvPr/>
                  </p:nvSpPr>
                  <p:spPr>
                    <a:xfrm>
                      <a:off x="1400040" y="1321200"/>
                      <a:ext cx="732960" cy="440640"/>
                    </a:xfrm>
                    <a:prstGeom prst="rect">
                      <a:avLst/>
                    </a:prstGeom>
                    <a:solidFill>
                      <a:srgbClr val="00ff99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Group 22"/>
                  <p:cNvGrpSpPr/>
                  <p:nvPr/>
                </p:nvGrpSpPr>
                <p:grpSpPr>
                  <a:xfrm>
                    <a:off x="4438080" y="1218960"/>
                    <a:ext cx="1047240" cy="714600"/>
                    <a:chOff x="4438080" y="1218960"/>
                    <a:chExt cx="1047240" cy="714600"/>
                  </a:xfrm>
                </p:grpSpPr>
                <p:sp>
                  <p:nvSpPr>
                    <p:cNvPr id="72" name="AutoShape 23"/>
                    <p:cNvSpPr/>
                    <p:nvPr/>
                  </p:nvSpPr>
                  <p:spPr>
                    <a:xfrm>
                      <a:off x="4438080" y="1218960"/>
                      <a:ext cx="1047240" cy="7146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9999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Text Box 24"/>
                    <p:cNvSpPr/>
                    <p:nvPr/>
                  </p:nvSpPr>
                  <p:spPr>
                    <a:xfrm>
                      <a:off x="4438080" y="1321200"/>
                      <a:ext cx="10472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Group 25"/>
                  <p:cNvGrpSpPr/>
                  <p:nvPr/>
                </p:nvGrpSpPr>
                <p:grpSpPr>
                  <a:xfrm>
                    <a:off x="3600000" y="1627200"/>
                    <a:ext cx="1780200" cy="3983040"/>
                    <a:chOff x="3600000" y="1627200"/>
                    <a:chExt cx="1780200" cy="3983040"/>
                  </a:xfrm>
                </p:grpSpPr>
                <p:sp>
                  <p:nvSpPr>
                    <p:cNvPr id="75" name="Line 26"/>
                    <p:cNvSpPr/>
                    <p:nvPr/>
                  </p:nvSpPr>
                  <p:spPr>
                    <a:xfrm flipH="1">
                      <a:off x="4542120" y="561024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7"/>
                    <p:cNvSpPr/>
                    <p:nvPr/>
                  </p:nvSpPr>
                  <p:spPr>
                    <a:xfrm>
                      <a:off x="5380200" y="2954520"/>
                      <a:ext cx="0" cy="265536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8"/>
                    <p:cNvSpPr/>
                    <p:nvPr/>
                  </p:nvSpPr>
                  <p:spPr>
                    <a:xfrm flipH="1">
                      <a:off x="4542120" y="295452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29"/>
                    <p:cNvSpPr/>
                    <p:nvPr/>
                  </p:nvSpPr>
                  <p:spPr>
                    <a:xfrm flipV="1">
                      <a:off x="3600000" y="1627200"/>
                      <a:ext cx="0" cy="91908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0"/>
                    <p:cNvSpPr/>
                    <p:nvPr/>
                  </p:nvSpPr>
                  <p:spPr>
                    <a:xfrm>
                      <a:off x="3600000" y="1627560"/>
                      <a:ext cx="837720" cy="0"/>
                    </a:xfrm>
                    <a:prstGeom prst="line">
                      <a:avLst/>
                    </a:prstGeom>
                    <a:ln w="57240">
                      <a:solidFill>
                        <a:srgbClr val="9933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0" name="AutoShape 31"/>
              <p:cNvSpPr/>
              <p:nvPr/>
            </p:nvSpPr>
            <p:spPr>
              <a:xfrm>
                <a:off x="5790960" y="1143000"/>
                <a:ext cx="228600" cy="24382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63360 h 2438280"/>
                  <a:gd name="textAreaBottom" fmla="*/ 2374920 h 243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32"/>
              <p:cNvSpPr/>
              <p:nvPr/>
            </p:nvSpPr>
            <p:spPr>
              <a:xfrm>
                <a:off x="5790960" y="502920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33"/>
              <p:cNvGrpSpPr/>
              <p:nvPr/>
            </p:nvGrpSpPr>
            <p:grpSpPr>
              <a:xfrm>
                <a:off x="6248160" y="5029200"/>
                <a:ext cx="1676520" cy="914400"/>
                <a:chOff x="6248160" y="5029200"/>
                <a:chExt cx="1676520" cy="914400"/>
              </a:xfrm>
            </p:grpSpPr>
            <p:sp>
              <p:nvSpPr>
                <p:cNvPr id="83" name="Oval 34"/>
                <p:cNvSpPr/>
                <p:nvPr/>
              </p:nvSpPr>
              <p:spPr>
                <a:xfrm>
                  <a:off x="6248160" y="5029200"/>
                  <a:ext cx="1676520" cy="9144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35"/>
                <p:cNvSpPr/>
                <p:nvPr/>
              </p:nvSpPr>
              <p:spPr>
                <a:xfrm>
                  <a:off x="6248160" y="5257800"/>
                  <a:ext cx="1676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RESPIRACIÓN CELULA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" name="Text Box 36"/>
            <p:cNvSpPr/>
            <p:nvPr/>
          </p:nvSpPr>
          <p:spPr>
            <a:xfrm>
              <a:off x="900000" y="4076640"/>
              <a:ext cx="1008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ang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7"/>
            <p:cNvSpPr/>
            <p:nvPr/>
          </p:nvSpPr>
          <p:spPr>
            <a:xfrm>
              <a:off x="4859280" y="4076640"/>
              <a:ext cx="1008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ang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8"/>
            <p:cNvSpPr/>
            <p:nvPr/>
          </p:nvSpPr>
          <p:spPr>
            <a:xfrm>
              <a:off x="4643280" y="5445000"/>
              <a:ext cx="57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CO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9"/>
            <p:cNvSpPr/>
            <p:nvPr/>
          </p:nvSpPr>
          <p:spPr>
            <a:xfrm>
              <a:off x="5076720" y="3141720"/>
              <a:ext cx="57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CO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1"/>
          <p:cNvSpPr/>
          <p:nvPr/>
        </p:nvSpPr>
        <p:spPr>
          <a:xfrm>
            <a:off x="1583640" y="51339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40480" y="22860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adena de transporte de electrones acoplada a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http://www.uc.cl/sw_educ/biologia/bio100/imagenes/6803dc349f2filenameD241typeimagegif.gif"/>
          <p:cNvPicPr/>
          <p:nvPr/>
        </p:nvPicPr>
        <p:blipFill>
          <a:blip r:embed="rId1"/>
          <a:stretch/>
        </p:blipFill>
        <p:spPr>
          <a:xfrm>
            <a:off x="304920" y="838080"/>
            <a:ext cx="5624280" cy="338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791320" y="2357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rilación Oxidativa: obtención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57200" y="4191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os electrones de alta energía de los hidrógenos del NADH y del FADH2 son transferidos a lo largo de la cadena respiratoria de la membrana mitocondrial interna, la energía que se libera cada vez que pasan de una molécula transportadora a otra, es utilizada para bombear protones (H+) a través de la membrana interna desde la matriz al espacio intermembrana. Esto genera un gradiente electroquímico de protones a través de la membrana mitocondrial interna, y el flujo de H+ a favor de gradiente es utilizado, por la ATP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nta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sintetizar ATP a partir de ADP y P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www.uc.cl/sw_educ/biologia/bio100/imagenes/72b3dc34a9dfilenameFA230typeimagejpeg.jpg"/>
          <p:cNvPicPr/>
          <p:nvPr/>
        </p:nvPicPr>
        <p:blipFill>
          <a:blip r:embed="rId1"/>
          <a:stretch/>
        </p:blipFill>
        <p:spPr>
          <a:xfrm>
            <a:off x="4800600" y="2857680"/>
            <a:ext cx="4343400" cy="2954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http://www.uc.cl/sw_educ/biologia/bio100/imagenes/67f3dc349f1filenameD240typeimagegif.gif"/>
          <p:cNvPicPr/>
          <p:nvPr/>
        </p:nvPicPr>
        <p:blipFill>
          <a:blip r:embed="rId2"/>
          <a:stretch/>
        </p:blipFill>
        <p:spPr>
          <a:xfrm>
            <a:off x="214200" y="857160"/>
            <a:ext cx="4500720" cy="572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Ganancia energética por molécula de 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7440" cy="210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Nudo  metabólic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929040" y="214200"/>
            <a:ext cx="471492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240" y="2590560"/>
            <a:ext cx="4343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 Peroxis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y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5715000" y="1676520"/>
            <a:ext cx="2895480" cy="3571200"/>
            <a:chOff x="5715000" y="1676520"/>
            <a:chExt cx="2895480" cy="3571200"/>
          </a:xfrm>
        </p:grpSpPr>
        <p:pic>
          <p:nvPicPr>
            <p:cNvPr id="175" name="Picture 4" descr="Peroxisomas"/>
            <p:cNvPicPr/>
            <p:nvPr/>
          </p:nvPicPr>
          <p:blipFill>
            <a:blip r:embed="rId1"/>
            <a:stretch/>
          </p:blipFill>
          <p:spPr>
            <a:xfrm>
              <a:off x="5900760" y="1676520"/>
              <a:ext cx="259092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5715000" y="4667040"/>
              <a:ext cx="289548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Arial"/>
                </a:rPr>
                <a:t>Micrografía electrónica de peroxisom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6"/>
          <p:cNvSpPr/>
          <p:nvPr/>
        </p:nvSpPr>
        <p:spPr>
          <a:xfrm>
            <a:off x="685800" y="1066680"/>
            <a:ext cx="4724280" cy="2241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organelas limitadas por membrana, presentes solo en células ani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n una zona de alta densidad en su interior, llamada cristalo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enen enzimas oxidativas como la catalasa y la peroxidasa, entre ot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85800" y="3581280"/>
            <a:ext cx="4800600" cy="2061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gradación de óxidos, con la consecuente formación de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Neutralización del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enzima catalasa, en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y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85800" y="5791320"/>
            <a:ext cx="7924680" cy="703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producen independientemente de la célula que los contiene.  Al igual que las mitocondrias, se dividen por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iparti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2000160"/>
            <a:ext cx="6934320" cy="254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las organelas en las que se produce la respiración celular, obteniéndose la mayor parte de la energía necesaria para 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producen en forma independiente, por fisión binaria, en forma no sincronizada con la célula a la que pertene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Resp Mitoc color"/>
          <p:cNvPicPr/>
          <p:nvPr/>
        </p:nvPicPr>
        <p:blipFill>
          <a:blip r:embed="rId1"/>
          <a:stretch/>
        </p:blipFill>
        <p:spPr>
          <a:xfrm>
            <a:off x="533520" y="1041480"/>
            <a:ext cx="7696080" cy="54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mponentes Mitocondriale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812960"/>
          <a:ext cx="7993080" cy="2781360"/>
        </p:xfrm>
        <a:graphic>
          <a:graphicData uri="http://schemas.openxmlformats.org/drawingml/2006/table">
            <a:tbl>
              <a:tblPr/>
              <a:tblGrid>
                <a:gridCol w="2663640"/>
                <a:gridCol w="2057400"/>
                <a:gridCol w="32720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crom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electr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lip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meabilidad de membrana in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canales para transporte de molécu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685800" y="1219320"/>
            <a:ext cx="7848720" cy="5123520"/>
            <a:chOff x="685800" y="1219320"/>
            <a:chExt cx="7848720" cy="5123520"/>
          </a:xfrm>
        </p:grpSpPr>
        <p:pic>
          <p:nvPicPr>
            <p:cNvPr id="98" name="Picture 4" descr="Resp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7543800" cy="4059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9" name="Text Box 10"/>
            <p:cNvSpPr/>
            <p:nvPr/>
          </p:nvSpPr>
          <p:spPr>
            <a:xfrm>
              <a:off x="685800" y="5334120"/>
              <a:ext cx="784872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a membrana interna está plegada en crestas. Estas crestas contienen partículas proteicas que producen la energía en el proceso de respiración celula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igen de las Mitocond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Evol Mitoc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Text Box 4"/>
          <p:cNvSpPr/>
          <p:nvPr/>
        </p:nvSpPr>
        <p:spPr>
          <a:xfrm>
            <a:off x="468360" y="3429000"/>
            <a:ext cx="8229600" cy="33271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ipótesis Endosimbiótic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stiene que las mitocondrias pudieron ser procariontes primitivos de vida libre, que fueron incorporados por células eucariontes primitivas permaneciendo en estado de simbi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as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N circular, desnudo, una sola molé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bosomas de 7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stas similares a mes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ena respiratoria ubicada en la misma 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rigen de las Mitocond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84360" y="1979640"/>
            <a:ext cx="77738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304920"/>
            <a:ext cx="845820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GLUCÓLISI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el citosol, donde cada molécul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n sus 6 átomos de carbono, se oxida parcialmente dando lugar a dos molécula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e 3 átomos de carbono). Se invierten dos ATP pero se gener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RESPIRACIÓN CELULA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l ambiente es </a:t>
            </a:r>
            <a:r>
              <a:rPr b="0" lang="es-ES" sz="1800" spc="-1" strike="noStrike">
                <a:solidFill>
                  <a:srgbClr val="cc0099"/>
                </a:solidFill>
                <a:latin typeface="Arial"/>
              </a:rPr>
              <a:t>aerob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 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 el piruvato se oxida totalmente a dióxido de Carbono (C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, liberando la energía almacenada en los enlaces piruvato y atrapándola en el ATP. Se subdivide en etapa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iclo de los ác. tricarboxílicos (o del ác. Cítrico ó ciclo de Kreb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curre en la matriz de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Cadena respira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lleva a cabo en las membranas mitocond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*FER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el 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 ausente (ambiente anaerobio), el piruvato no produce CO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2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o que se forman otras moléculas como el ác. láctico o el etanol. Siendo el balance neto de 2 ATP mucho menor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1:57:24Z</dcterms:created>
  <dc:creator>Familia</dc:creator>
  <dc:description/>
  <dc:language>en-US</dc:language>
  <cp:lastModifiedBy>WinuE</cp:lastModifiedBy>
  <dcterms:modified xsi:type="dcterms:W3CDTF">2009-10-13T19:49:12Z</dcterms:modified>
  <cp:revision>59</cp:revision>
  <dc:subject/>
  <dc:title>Presentación de PowerPoint</dc:title>
</cp:coreProperties>
</file>