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94C-6436-464C-894C-37B1FCFA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017-7001-407D-9DD2-505AC7FE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E2D-5D3F-434A-9D42-7BAD8DDD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50D-896F-4D3B-BEED-9CE00C1D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9D9-090A-4CAB-BDA5-5B88AEB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C19-6FAE-4D88-9D73-56E474DF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B57-DE2D-4638-A233-B8C98C4C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DF2-750C-4AB6-B177-8393CCDB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6C1-68FB-4F5B-ABB0-1F49EA2B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B8A-B759-4D2E-9055-9E166C52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BD6-2683-4524-84E6-4AE01B00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E5B-C5BE-4702-8210-3E4CCE41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11C2-7F16-4606-B157-4534DF1DFD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 Sociologie de l’environnement et problématique forestière. Quelle(s) contribution(s) ? 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atherine Delho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stitut Polytechnique LaSalle 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Les recherches françaises sur la forêt. Des dynamiques pluri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mergence d’une vision de la forêt aux intérêts multipl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rôle économique : fournir du bo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rôle écologique : maintenir les sols et protéger contre les risques d’éro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rôle « social » : l’accueil des promene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rôle « Développement durable » : des services environnementau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 valeurs marchandes et quantifiables, d’autres non marchandes et plus « qualitatives 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Nouveau contexte et renforcement d’axes de recher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changement des « utilités forestières » [Buttoud, 2003]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émergence d’une nouvelle forme de ruralité liée à la défense de l’environnement et à la création de liens nouveaux entre villes et campag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onnaissance de l’intérêt écologique, économique et culturel de la forê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forte demande de nature de la part de la population péri-urba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volonté d’assurer une biodiversité rich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stat : la structure des espaces boisés évolue en fonction de l’utilisation qu’en fait l’homme, ainsi que de sa perception de la forê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Les recherches françaises sur la forêt. Des dynamiques pluri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vironnement, société et services non marchand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« Pour apprécier toute la valeur d’une forêt, il faut tenir compte à la fois de l’ensemble des services qu’elle rend (et qui sont susceptibles de disparaître) et des avantages potentiels 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récréation : la forêt péri-urbaine. Un « désir » de nature exprimé par les citoy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ransformation des pratiques sylvico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grammes d’accueil du publ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Les recherches françaises sur la forêt. Des dynamiques pluri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services environnementaux : la biodiversité en ques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éserver la richesse écologique de certaines forê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elles modalités de gestion choisir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promis : une intervention humaine pour accompagner des processus natur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directive « Habitats, faune, flore » (Natura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s des limites à cette gestion de la biodiversité en France, et des pratiques qui évoluent lent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volution dans les années 1990 : une plus grande prise en compte des demandes soci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ysage et aménagement forest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Les recherches françaises sur la forêt. Des dynamiques pluri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veloppement durable et forê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e prise en compte conjointe de problématique écologiques et socioéconomiq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ocier de nouveaux acteurs aux processus de déc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fonctionnalité et ris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 gérer la forêt où l’avenir apparaît incertai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érer la production de bois avec d’autres fon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iser les risques en montag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nouvelles normes de gestion à élabor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Demandes sociales et forêt. Différentes phases dans la ré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ois grandes périodes [N.Lewis, 2006]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960-1980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forêt perçue comme un objet de consom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années 1980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ergence du « souci » environnemen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années 1990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forêt, un espace qui doit être protég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 répercussions sur la recherch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aractériser la société pour mieux connaître la demande soci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enquêtes quantitatives mais aussi qualitati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lier l’imaginaire social, les représentations, les perceptions et l’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aspects immatériels et matériels liés à l’étude de la forê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Exemples de recherche sur la forê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lace de la fonction récréative dans les forêts de la région Aquitaine, aussi bien publiques que privées (Cemagref Bordeaux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nalyse des processus de conce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stinction des demandes des touristes et des rési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ynamiques sociales entre sociétés locales et ressources naturel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elle gestion forestière, mesurer la valeur non-marchande de la forêt (Laboratoire D’Economie Forestière, Nanc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Des recherches plus « économiques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constat : en France, « l’utilité de la production est affirmée comme prépondérante, car elle seule est considérée comme susceptible de financer le maintien des autres fonctions 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équence : trouver un compromis entre toutes les utilités de la forê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usag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la production de bois, qui a toujours primé en F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utilité marchande : la récolte de bois pour les secteur des pâtes et des papi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Des recherches plus « économiques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études plus socio-économiques, avec une perception de la forêt dans une logique « productiviste 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ux conceptions avec un angle d’attaque différen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une comme moyen d’obtenir des molécules pour l’alimentation, des matériaux de base, détachée de son territoire de pro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autre, plus patrimoniale, valorisant les externalités positives, enracinée dans un territo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. Sociologie de l’environnement et problématique forestière. Quelles convergence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luralité des fonctions attribuées à la forê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gestion des ris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 une co-gestion de la n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nt sur les services non-marchands de la forêt et émergence de nouveaux aspects sociaux de la forester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crètement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nouveaux objectifs de gestion et de gouvernance forestiè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e filière bois durablement compét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démarches « territorialisées 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 de l’interven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sociologie de l’environnement e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recherches françaises sur la forêt. Des dynamiques plurie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apports de la sociologie de l’environnement à la problématique forestiè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Sociologie de l’environnement et problématique forestiè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elles spécificités de la problématique forestièr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dynamique économique du po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forêt comme lieu d’accueil et récréati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 termes et des problématiques réapproprié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forêt « multi-bénéficiaire » plutôt que multifonctionnel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se en compte des propriétaires priv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cilier dynamique marchande et aspects immatéri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. Quels prolongements de la question environnementale liée au domaine foresti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démarche systémique pour résoudre des problèmes liés à des systèmes compl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 une approche résolution de problè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intégration du technique, du socio-économique et de l’écologi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forcement des enquêtes de terrain avec rétroaction sur les acquis théoriq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logique interdisciplinaire en constructi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xte actuel et fil conducteur de la pré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nement et attentes sociét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 impact sur la gestion forestière et sur les recherches menées en sciences social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cas frança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a sociologie de l’environnement e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« pluralité théorique » [Boudes, 2006] 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héritage du rural, et l’analyse des dynamiques sociales et de la recomposition spati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processus sociaux à l’œuvre dans les transformations et consommations de « nature 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sociologies des sciences et des controverses scientifiques autour de l’environn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interdisciplinarité et l’environn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 fil conducte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une sociologie qui s’intéresse aux rapports société /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a sociologie de l’environnement e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« rural », directement impacté par le renouvellement de ces grands axes thématiqu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elle(s) vocation(s) pour la sociologie rurale aujourd’hui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ur M.Jollivet : une forte participation des « ruralistes » aux problématiques environne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préoccupations liées à l’agriculture, les ressources naturelles renouvelables, la qualité des produits agricoles et de l’espace r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a sociologie de l’environnement e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sociologie rurale / française en étroite correspondance avec les « questions de société 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équence : une évolution du contexte social qui contribue à l’élaboration de nouvelles questions de recherch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lles recompositions spatiales à l’œuvre, pour quelles logiques territoriale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’analyse de nouveaux enjeux et de nouveaux confl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a sociologie de l’environnement e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équence : nécessité de revoir la théorie et de proposer de nouvelles grilles d’analy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milieu rural qui doit être pensé par rapport à d’autres systèmes (monde urbain, émergence de nouveaux acteurs « non agricoles » sur les scènes loca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dre les conséquences de l’activité agricole sur les ressources naturelles qu’elle exploite et sur les milieux naturels dans lesquels elle s’exe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ruralité qui s’inscrit dans une « globalité », par rapport aux recompositions territoriales à l’œuvre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’émergence de nouvelles notions et recher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 notion de « multifonctionnalité », et l’émergence de nouveaux axes thématiqu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poids de la société et d’acteurs non-agricoles dans le processus de gestion de l’environn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gestion de la biodiversi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contraintes environnementales en agricultu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emples de recherches menées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gestion locale de l’eau entre différents usag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ation des politiques environnementales loc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entretien du pay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’émergence de nouvelles notions et recher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rmi ces travaux : des recherches menées sur la forê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f le Travail de B.Kalaora [1993] sur les loisirs en forê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e influence de l’évolution du contexte social et de la recherche sur les thèmes d’étude concernant la forê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accueil du public en forê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gestion de la forêt dans une optique « Développement Durable 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rcy</cp:lastModifiedBy>
  <dcterms:modified xsi:type="dcterms:W3CDTF">2008-04-17T07:16:13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