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D47-4349-4975-8F02-C25042D5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A2E-73F2-4022-B18D-99854373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124-0038-4A10-AA03-F97437BE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812-534A-4B9A-98E7-003A9C47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1F1-8CE0-40D8-9368-61ED9DD0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D71-B8C6-436D-BB8C-4D1002C6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53DA-4D79-4795-8696-D456348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684D-C621-43C0-AC71-68A3416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B07A-3EB0-46C0-8FE6-F4AFABD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4266-C8EE-4D01-BC1C-0E54AF1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DED-ED73-4054-B840-852EA91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65C-9171-43B8-A529-35BE254B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2D02-570A-43A4-9729-1F8ED69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B75F-3801-4453-BD5F-1EAFD51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3826-D2AF-4DBC-BF1D-4CA64DA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701-6529-4E62-8579-67FB1AB7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8B08-82D8-4B76-8BF5-7764D07A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C85-E062-4984-B701-F08B553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DC5-3373-4294-98E6-85993485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0EA-C25B-4BF0-9E87-3B40C53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C19-126C-4156-B551-9F8923FD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90B-CFD8-48E6-8B69-D096C16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71A-5D37-439D-ADAA-534D44C5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69A-5620-4622-99F8-49C8BB9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1B27-7160-4E8E-938F-020D092C2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811-F74C-4630-8447-B0B1D0870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3429000"/>
            <a:ext cx="8153280" cy="16765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0952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17524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</a:rPr>
              <a:t>شرط واجب صلاة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502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228600"/>
            <a:ext cx="6400800" cy="1371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يَّ عَلَى الصَّلاّةِ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05360" y="1295280"/>
            <a:ext cx="1981080" cy="45720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شرط واجب صلا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1066680"/>
            <a:ext cx="2438280" cy="10670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إ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سل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362320"/>
            <a:ext cx="243828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بال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657600"/>
            <a:ext cx="243828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سو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خ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4952880"/>
            <a:ext cx="2438280" cy="10670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برعق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066680"/>
            <a:ext cx="2971800" cy="1067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تيدق واجب باض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يغ بوكن إسلا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362320"/>
            <a:ext cx="2971800" cy="1066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تيدق واجب باضي ي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بلوم خوكوف عمو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657600"/>
            <a:ext cx="2971800" cy="1066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سوخي درفد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ي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دان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فا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52880"/>
            <a:ext cx="2971800" cy="1067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تيدق واجب باض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اورغ ضيل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24240" y="144792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666880"/>
            <a:ext cx="30492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396252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33412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611028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381880" y="611028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62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1523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28600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3048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3809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457200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334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6095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685800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620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762120" y="6095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152388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228600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048120" y="6095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80988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457200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5334120" y="6095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609588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685800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7620120" y="6095880"/>
            <a:ext cx="761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شرط صح صلاة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5333760"/>
            <a:ext cx="3695760" cy="1066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يقين ماسوق وقت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52480" y="4723920"/>
            <a:ext cx="5562720" cy="1752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84000"/>
          </a:bodyPr>
          <a:p>
            <a:pPr marL="288000" indent="0" algn="ct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سوخي درفد نجيس فد بدان ، فاقاين دان تمفت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34308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5181120"/>
            <a:ext cx="579132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سوخي درفد حدث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79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5257440"/>
            <a:ext cx="4419720" cy="1219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منوتوف عورة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01004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520560"/>
            <a:ext cx="609624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5028840"/>
            <a:ext cx="487692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مغادف قبلة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87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4:14:55Z</dcterms:created>
  <dc:creator>Acer</dc:creator>
  <dc:description/>
  <dc:language>en-US</dc:language>
  <cp:lastModifiedBy>Aizil</cp:lastModifiedBy>
  <dcterms:modified xsi:type="dcterms:W3CDTF">2009-10-13T08:26:15Z</dcterms:modified>
  <cp:revision>15</cp:revision>
  <dc:subject/>
  <dc:title>شرط واجب صلاة</dc:title>
</cp:coreProperties>
</file>