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E33-4287-49E4-8A18-6114844A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457-C6DA-4227-961D-246C4A1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127-205F-4D99-8E44-CB196918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9B0-F727-4CCE-814A-24342B4A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EE74-9BA4-4CBA-B837-8FA4BEAB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D34C-471D-4332-B72E-7DDA70BF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F25A-A27E-44F9-ACF8-2734A874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F684-2944-460D-8C1D-DA0F43EB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01B7-DDDA-461E-8A21-FC60891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A90F-258D-4C31-96AF-2A962656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9703-E21C-4802-AE8B-68EE6A01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527-7018-4C87-A807-84BA652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990F-D1EC-410D-B09B-3C44E57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1909-7C7D-40C5-9199-1E6E0B62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CF5-40EE-48EA-BB41-6AE89A6C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7D44-6C4E-4D96-8118-F85C85E7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658F-1BB3-4D4B-AC49-9123BD60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797-A470-44E7-B00A-AE57343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0E2-E5AD-45EB-AFE2-9A60F347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E00-38BD-4EB0-8DB4-973BBBAE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57C-EDF0-4DB9-93AC-50F66CFD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260-6EA8-4275-BF93-5E4BF60D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2C8-0494-4F2F-AD91-4CEB94E5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A41-C572-46C8-936F-EABC8D05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FFA-615F-4B83-910D-921BC8E01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A34-55E0-4303-B764-89B4DD382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3429000"/>
            <a:ext cx="8153280" cy="1676520"/>
          </a:xfrm>
          <a:custGeom>
            <a:avLst/>
            <a:gdLst>
              <a:gd name="textAreaLeft" fmla="*/ 2038320 w 8153280"/>
              <a:gd name="textAreaRight" fmla="*/ 6114960 w 8153280"/>
              <a:gd name="textAreaTop" fmla="*/ 20952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7524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</a:rPr>
              <a:t>شرط واجب صلاة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502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228600"/>
            <a:ext cx="6400800" cy="1371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َيَّ عَلَى الصَّلاّةِ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5f0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05360" y="1295280"/>
            <a:ext cx="1981080" cy="4572000"/>
          </a:xfrm>
          <a:prstGeom prst="rect">
            <a:avLst/>
          </a:prstGeom>
          <a:solidFill>
            <a:srgbClr val="99cc00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شرط واجب صلا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0666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إ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سل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236232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بال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657600"/>
            <a:ext cx="243828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سو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خي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4952880"/>
            <a:ext cx="2438280" cy="106704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برعق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066680"/>
            <a:ext cx="2971800" cy="1067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يغ بوكن إسلام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362320"/>
            <a:ext cx="2971800" cy="1066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 ي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بلوم خوكوف عمو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657600"/>
            <a:ext cx="2971800" cy="106668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حي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دان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فا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952880"/>
            <a:ext cx="2971800" cy="1067040"/>
          </a:xfrm>
          <a:prstGeom prst="roundRect">
            <a:avLst>
              <a:gd name="adj" fmla="val 16667"/>
            </a:avLst>
          </a:prstGeom>
          <a:solidFill>
            <a:srgbClr val="99ff33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تيدق واجب باض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اورغ ضيل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l Hami - Jawi Traditional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24240" y="14479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666880"/>
            <a:ext cx="30492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39625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334120"/>
            <a:ext cx="30492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61102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381880" y="611028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62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1523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286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3048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3809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334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609588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858000" y="0"/>
            <a:ext cx="7621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620120" y="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762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1523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2286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048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3809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4572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5334120" y="6095880"/>
            <a:ext cx="761760" cy="838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609588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6858000" y="6095880"/>
            <a:ext cx="76212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7620120" y="6095880"/>
            <a:ext cx="761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شرط صح صلاة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5333760"/>
            <a:ext cx="3695760" cy="1066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يقين ماسوق وقتو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52480" y="4723920"/>
            <a:ext cx="5562720" cy="17528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84000"/>
          </a:bodyPr>
          <a:p>
            <a:pPr marL="288000" indent="0" algn="ctr" rtl="1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نجيس فد بدان ، فاقاين دان تمفت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3430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5181120"/>
            <a:ext cx="57913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سوخي درفد حدث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79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5257440"/>
            <a:ext cx="4419720" cy="12193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منوتوف عورة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010040" cy="4876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520560"/>
            <a:ext cx="609624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5028840"/>
            <a:ext cx="4876920" cy="11430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  <a:cs typeface="Al Hami - Jawi Traditional"/>
              </a:rPr>
              <a:t>مغادف قبلة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487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04:14:55Z</dcterms:created>
  <dc:creator>Acer</dc:creator>
  <dc:description/>
  <dc:language>en-US</dc:language>
  <cp:lastModifiedBy>Aizil</cp:lastModifiedBy>
  <dcterms:modified xsi:type="dcterms:W3CDTF">2009-10-13T08:26:15Z</dcterms:modified>
  <cp:revision>15</cp:revision>
  <dc:subject/>
  <dc:title>شرط واجب صلاة</dc:title>
</cp:coreProperties>
</file>