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7F5-4ACB-44FE-8465-A9D9CA06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A35-2FAB-49A8-B094-BE317F3F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E26-EDEE-43BA-9335-89C572F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0BC-2E2C-4C10-BF49-50F809A7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F09-00C0-489D-80A7-FC46671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CFE-AC54-46D7-8353-DAA78EE2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73F-E3EC-48BB-8717-5049156B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B64-BB60-4D90-9E2E-A8CFA257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AE7-9BC1-4C3D-9C39-69F65B9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B14-0241-4D7C-9C7A-BD80878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1AC-00AE-4FA7-BE5F-C40A121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ECF-FFFE-4EC5-ABC9-7F48655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7411-31E6-4869-80EA-758EA7806E12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NO COMMENT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371520"/>
            <a:ext cx="9144000" cy="611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825480"/>
            <a:ext cx="9144000" cy="52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98720" y="0"/>
            <a:ext cx="5145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523880" y="0"/>
            <a:ext cx="6096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27360" y="0"/>
            <a:ext cx="5487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003400" y="0"/>
            <a:ext cx="513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660240"/>
            <a:ext cx="9144000" cy="5535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287440" y="0"/>
            <a:ext cx="4569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20600"/>
            <a:ext cx="9144000" cy="661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666880" y="0"/>
            <a:ext cx="3810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541440"/>
            <a:ext cx="9144000" cy="577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176480" y="0"/>
            <a:ext cx="678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292480" y="0"/>
            <a:ext cx="4557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360360"/>
            <a:ext cx="9144000" cy="613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419040"/>
            <a:ext cx="9144000" cy="601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5" descr="mannenpret-logo3 - kopie.jpg"/>
          <p:cNvPicPr/>
          <p:nvPr/>
        </p:nvPicPr>
        <p:blipFill>
          <a:blip r:embed="rId2"/>
          <a:stretch/>
        </p:blipFill>
        <p:spPr>
          <a:xfrm>
            <a:off x="5500800" y="6000840"/>
            <a:ext cx="28573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001960" y="0"/>
            <a:ext cx="513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87480"/>
            <a:ext cx="9144000" cy="668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863640"/>
            <a:ext cx="9144000" cy="513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82480" y="0"/>
            <a:ext cx="7977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00:46Z</dcterms:created>
  <dc:creator>srdjo</dc:creator>
  <dc:description/>
  <dc:language>en-US</dc:language>
  <cp:lastModifiedBy>nico</cp:lastModifiedBy>
  <dcterms:modified xsi:type="dcterms:W3CDTF">2008-08-05T14:31:11Z</dcterms:modified>
  <cp:revision>2</cp:revision>
  <dc:subject/>
  <dc:title>NO COMMENT 25</dc:title>
</cp:coreProperties>
</file>