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09B-0424-4E40-91E4-9748CD23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672-2167-43DC-9490-F1F87D2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33E-7630-4E9D-867B-1B8E6245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1EA-9B49-4368-BC72-009C61D9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AFA-C98C-4D15-B35A-EB78253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528-65AF-441F-A08E-C917D3ED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0AB-6966-405D-A563-C601E62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E60-D569-4404-919E-507D56E6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207-3D6F-452D-B5D0-D91D072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18E-7BD3-4634-8697-50D77C5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FA2-4769-4391-9F79-79AD48C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5E1-6995-432F-9768-5F81FD3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D04-2592-4968-81F6-FEAF029EBEF2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NO COMMENT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371520"/>
            <a:ext cx="9144000" cy="611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825480"/>
            <a:ext cx="9144000" cy="52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998720" y="0"/>
            <a:ext cx="5145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523880" y="0"/>
            <a:ext cx="6096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27360" y="0"/>
            <a:ext cx="54878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003400" y="0"/>
            <a:ext cx="5137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660240"/>
            <a:ext cx="9144000" cy="5535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287440" y="0"/>
            <a:ext cx="4569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20600"/>
            <a:ext cx="9144000" cy="661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666880" y="0"/>
            <a:ext cx="3810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541440"/>
            <a:ext cx="9144000" cy="577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176480" y="0"/>
            <a:ext cx="6789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292480" y="0"/>
            <a:ext cx="4557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360360"/>
            <a:ext cx="9144000" cy="613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3240"/>
            <a:ext cx="9144000" cy="6850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419040"/>
            <a:ext cx="9144000" cy="601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5" descr="mannenpret-logo3 - kopie.jpg"/>
          <p:cNvPicPr/>
          <p:nvPr/>
        </p:nvPicPr>
        <p:blipFill>
          <a:blip r:embed="rId2"/>
          <a:stretch/>
        </p:blipFill>
        <p:spPr>
          <a:xfrm>
            <a:off x="5500800" y="6000840"/>
            <a:ext cx="28573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001960" y="0"/>
            <a:ext cx="513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87480"/>
            <a:ext cx="9144000" cy="668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863640"/>
            <a:ext cx="9144000" cy="513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82480" y="0"/>
            <a:ext cx="79772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9:00:46Z</dcterms:created>
  <dc:creator>srdjo</dc:creator>
  <dc:description/>
  <dc:language>en-US</dc:language>
  <cp:lastModifiedBy>nico</cp:lastModifiedBy>
  <dcterms:modified xsi:type="dcterms:W3CDTF">2008-08-05T14:31:11Z</dcterms:modified>
  <cp:revision>2</cp:revision>
  <dc:subject/>
  <dc:title>NO COMMENT 25</dc:title>
</cp:coreProperties>
</file>