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5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13.wmf" ContentType="image/x-wmf"/>
  <Override PartName="/ppt/media/image10.jpeg" ContentType="image/jpeg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D2C440D-0F1D-4F8E-A884-EF90D986109B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5E2D6E2-A3DA-43F8-8D14-2B79A484C49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9080" y="4570560"/>
            <a:ext cx="5050080" cy="4332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Desde los trabajos pioeros de Olds  y Miller en la década del 50 se ha podido establecer el centro de reforzamiento a las diversas sustanc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684-1CA6-4915-9A2D-9DA95E5C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F54-A685-4332-B96C-7A340191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CAA-5DBF-40DB-8003-7FE2282D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A26-501B-48DD-82C2-495C1E4D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A210-2D31-421C-876F-9B4D8F7F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0501-7D60-47EF-BE8C-5375CDDA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D2BF-ADF4-404B-BCF1-801081AA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19F8-FB20-4688-83B0-982AF0A4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0DB6-2E0E-474C-9CBE-0BE10D85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2A7C-C2E6-4FBA-AA0E-AAFC1605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C3BF-2F9C-4075-85E2-0CBB94DA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F0F5-7A07-47ED-8BB3-EF4CA1B3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7734-1859-449F-8CB1-590535CE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3F4C-DF55-45E5-9324-403D582E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ACD9-5E93-4B38-B01F-1D2177F0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3026-2901-4F5A-90B2-7A0BB210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5EAD-D6F5-4B9F-A500-026BFDFD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3F7-8AF9-4AC5-AC86-C5DE10F8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4423-37F5-4632-B047-B4AA92A9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723-1663-4A0A-ABCB-DFFC243D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3EB-638D-4E2A-A229-06C8BE1C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626-54F2-46B1-9CC6-FD68B90F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6109-CD5C-4F02-A674-F1E1D54E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D31B-EFD2-4CB9-AB8E-30647AD9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9AD4-AD38-44A3-9B2C-8174347EE5B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73DB-4808-46D3-BE3D-9165D91BD2B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280" y="1628280"/>
            <a:ext cx="730404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663300"/>
                </a:solidFill>
                <a:latin typeface="Times New Roman"/>
              </a:rPr>
              <a:t>TRASTORNOS RELACIONADOS AL USO DE SUSTANCIA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71280" y="3860280"/>
            <a:ext cx="777708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Enrique Bojórquez Giral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Profesor Principal </a:t>
            </a:r>
            <a:r>
              <a:rPr b="0" lang="es-MX" sz="24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Facultad de Medicina - UNMSM</a:t>
            </a:r>
            <a:r>
              <a:rPr b="0" lang="es-ES" sz="3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3300"/>
                </a:solidFill>
                <a:latin typeface="Arial"/>
              </a:rPr>
              <a:t>Jefe de las Asignaturas de Psiquiatría</a:t>
            </a: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 y Psicología Medica</a:t>
            </a:r>
            <a:r>
              <a:rPr b="0" lang="es-MX" sz="2400" spc="-1" strike="noStrike">
                <a:solidFill>
                  <a:srgbClr val="663300"/>
                </a:solidFill>
                <a:latin typeface="Arial"/>
              </a:rPr>
              <a:t>- Facultad de Medicina - US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539640" y="1628640"/>
            <a:ext cx="8353440" cy="4608720"/>
          </a:xfrm>
          <a:prstGeom prst="rect">
            <a:avLst/>
          </a:prstGeom>
          <a:solidFill>
            <a:srgbClr val="ffffeb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187280" y="404640"/>
            <a:ext cx="705672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971640" y="1930320"/>
          <a:ext cx="763272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30320"/>
                    <a:ext cx="76327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5"/>
          <p:cNvSpPr/>
          <p:nvPr/>
        </p:nvSpPr>
        <p:spPr>
          <a:xfrm>
            <a:off x="611280" y="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3300"/>
                </a:solidFill>
                <a:latin typeface="Times New Roman"/>
              </a:rPr>
              <a:t>PREVALENCIA DE VIDA DE USO DE DROGAS ILEGALES POR REGIONES PERU (CEDRO-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2"/>
          <p:cNvSpPr/>
          <p:nvPr/>
        </p:nvSpPr>
        <p:spPr>
          <a:xfrm>
            <a:off x="395280" y="1382760"/>
            <a:ext cx="813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395280" y="1382760"/>
            <a:ext cx="0" cy="822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8532720" y="1382760"/>
            <a:ext cx="0" cy="822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8532720" y="2638440"/>
            <a:ext cx="0" cy="1211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95280" y="2205000"/>
            <a:ext cx="0" cy="433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8532720" y="2205000"/>
            <a:ext cx="0" cy="433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395280" y="384984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395280" y="2638440"/>
            <a:ext cx="0" cy="1211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8532720" y="384984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395280" y="4365720"/>
            <a:ext cx="0" cy="493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8532720" y="4365720"/>
            <a:ext cx="0" cy="493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1763640" y="1052640"/>
            <a:ext cx="662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1763640" y="1052640"/>
            <a:ext cx="0" cy="1106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8388360" y="1052640"/>
            <a:ext cx="0" cy="1106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1763640" y="297972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1763640" y="21589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8388360" y="297972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8388360" y="21589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1763640" y="3435480"/>
            <a:ext cx="0" cy="227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2"/>
          <p:cNvSpPr/>
          <p:nvPr/>
        </p:nvSpPr>
        <p:spPr>
          <a:xfrm>
            <a:off x="8388360" y="3435480"/>
            <a:ext cx="0" cy="227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3789360"/>
          <a:ext cx="8280360" cy="2324160"/>
        </p:xfrm>
        <a:graphic>
          <a:graphicData uri="http://schemas.openxmlformats.org/drawingml/2006/table">
            <a:tbl>
              <a:tblPr/>
              <a:tblGrid>
                <a:gridCol w="3193920"/>
                <a:gridCol w="1440000"/>
                <a:gridCol w="1879560"/>
                <a:gridCol w="176688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Arial"/>
                        </a:rPr>
                        <a:t>Prevalencia de Vida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Arial"/>
                        </a:rPr>
                        <a:t>Consumidores alguna v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Arial"/>
                        </a:rPr>
                        <a:t>Depend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7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rihu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718,6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4,6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e1"/>
                    </a:solidFill>
                  </a:tcPr>
                </a:tc>
              </a:tr>
              <a:tr h="74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ogas cocaín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0033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0033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8,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0033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7,4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0033"/>
                      </a:solidFill>
                    </a:lnB>
                    <a:solidFill>
                      <a:srgbClr val="ffffe1"/>
                    </a:solidFill>
                  </a:tcPr>
                </a:tc>
              </a:tr>
            </a:tbl>
          </a:graphicData>
        </a:graphic>
      </p:graphicFrame>
      <p:sp>
        <p:nvSpPr>
          <p:cNvPr id="176" name="Rectangle 41"/>
          <p:cNvSpPr/>
          <p:nvPr/>
        </p:nvSpPr>
        <p:spPr>
          <a:xfrm>
            <a:off x="5508720" y="1484280"/>
            <a:ext cx="3240000" cy="23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324000" y="1890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3300"/>
                </a:solidFill>
                <a:latin typeface="Times New Roman"/>
              </a:rPr>
              <a:t>PREVALENCIA DE LA DEPENDENCIA A DROGAS PERU (CEDRO-200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4"/>
          <p:cNvSpPr/>
          <p:nvPr/>
        </p:nvSpPr>
        <p:spPr>
          <a:xfrm>
            <a:off x="539640" y="1557360"/>
            <a:ext cx="860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gún el National Comorbility Survey, respecto de quienes consumieron alguna vez en la vida, </a:t>
            </a: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podrían desarrollar dependencia el 9 % de los casos para la marihuana y el 17 % para las drogas cocainic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 En el presente estudio este dato se refleja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8"/>
          <p:cNvSpPr/>
          <p:nvPr/>
        </p:nvSpPr>
        <p:spPr>
          <a:xfrm>
            <a:off x="324000" y="6308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INEI 2005: Población Perú Urbano de 12 a 64 años 14`442,7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11280" y="457200"/>
            <a:ext cx="8353440" cy="54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3300"/>
                </a:solidFill>
                <a:latin typeface="Times New Roman"/>
              </a:rPr>
              <a:t>ETI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225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multifactorial</a:t>
            </a:r>
            <a:r>
              <a:rPr b="0" lang="es-E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mplejo y aún no plenamente determi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225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luyen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factores asociados al sujeto, al medio social y a la naturaleza de la drog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que se cons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225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obstante, parece constatarse que las causas que promueven los primeros consumos difieren de las que determinan el mantenimiento del uso de la dro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225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lantean diversos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Modelos Teóric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que intentan explicar el problema desde perspectivas disti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663300"/>
                </a:solidFill>
                <a:latin typeface="Times New Roman"/>
              </a:rPr>
              <a:t>MODELO INTEGR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60436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últimos años se ha reformulado el paradigma conductual de la adicción a drogas: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La conducta de búsqueda de drog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viene siendo considerada el factor princip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 conducta de búsqueda de drogas es influida p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Efectos reforzadores positivos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fectos discrimin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ímulos  condicionan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fectos aversiv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La habilidad de una droga para servir como reforzador positivo es el requerimiento mínimo para que el organismo mantenga una conducta de búsqueda de drogas</a:t>
            </a:r>
            <a:r>
              <a:rPr b="0" lang="es-E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204920" y="1971720"/>
            <a:ext cx="74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3059280" y="260280"/>
            <a:ext cx="388908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3300"/>
                </a:solidFill>
                <a:latin typeface="Times New Roman"/>
              </a:rPr>
              <a:t>CONDUCTA DE BUSQU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663300"/>
                </a:solidFill>
                <a:latin typeface="Times New Roman"/>
              </a:rPr>
              <a:t>ACTIVA   DE LA DR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92440" y="1981080"/>
            <a:ext cx="1791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os Avers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la dro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750040" y="2057400"/>
            <a:ext cx="21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os Discriminativ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una dro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908240" y="2057400"/>
            <a:ext cx="20232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Times New Roman"/>
              </a:rPr>
              <a:t>Efectos Reforz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Times New Roman"/>
              </a:rPr>
              <a:t>de una dro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6875280" y="205740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stímulos condicio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 efecto de una dro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994320" y="2895480"/>
            <a:ext cx="157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os posi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eufor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995760" y="3657600"/>
            <a:ext cx="149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iberación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nsie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994320" y="457200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umento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ncion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919080" y="5562720"/>
            <a:ext cx="200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ivio de los sínto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depre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2617920" y="4100400"/>
            <a:ext cx="136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3333ff"/>
                </a:solidFill>
                <a:latin typeface="Times New Roman"/>
              </a:rPr>
              <a:t>Mecanis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Times New Roman"/>
              </a:rPr>
              <a:t>Conduct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4232160" y="4100400"/>
            <a:ext cx="130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Times New Roman"/>
              </a:rPr>
              <a:t>Mecanism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Times New Roman"/>
              </a:rPr>
              <a:t>Neu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5608080" y="4114800"/>
            <a:ext cx="120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Times New Roman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Times New Roman"/>
              </a:rPr>
              <a:t>Modul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7545960" y="2971800"/>
            <a:ext cx="92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7622640" y="380988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ac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ené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7545240" y="4648320"/>
            <a:ext cx="111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His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ndu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7318800" y="5638680"/>
            <a:ext cx="14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Historia de u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Fárma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3355920" y="57150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onoami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5014800" y="5624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3059280" y="260280"/>
            <a:ext cx="388620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2"/>
          <p:cNvSpPr/>
          <p:nvPr/>
        </p:nvSpPr>
        <p:spPr>
          <a:xfrm>
            <a:off x="990720" y="2057400"/>
            <a:ext cx="167616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3"/>
          <p:cNvSpPr/>
          <p:nvPr/>
        </p:nvSpPr>
        <p:spPr>
          <a:xfrm>
            <a:off x="2743200" y="2057400"/>
            <a:ext cx="2057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4"/>
          <p:cNvSpPr/>
          <p:nvPr/>
        </p:nvSpPr>
        <p:spPr>
          <a:xfrm>
            <a:off x="4952880" y="2057400"/>
            <a:ext cx="1828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5"/>
          <p:cNvSpPr/>
          <p:nvPr/>
        </p:nvSpPr>
        <p:spPr>
          <a:xfrm>
            <a:off x="6915240" y="2057400"/>
            <a:ext cx="22096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6"/>
          <p:cNvSpPr/>
          <p:nvPr/>
        </p:nvSpPr>
        <p:spPr>
          <a:xfrm>
            <a:off x="1009800" y="2819520"/>
            <a:ext cx="15238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7"/>
          <p:cNvSpPr/>
          <p:nvPr/>
        </p:nvSpPr>
        <p:spPr>
          <a:xfrm>
            <a:off x="971640" y="3657600"/>
            <a:ext cx="15238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8"/>
          <p:cNvSpPr/>
          <p:nvPr/>
        </p:nvSpPr>
        <p:spPr>
          <a:xfrm>
            <a:off x="952560" y="4495680"/>
            <a:ext cx="15238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9"/>
          <p:cNvSpPr/>
          <p:nvPr/>
        </p:nvSpPr>
        <p:spPr>
          <a:xfrm>
            <a:off x="914400" y="5486400"/>
            <a:ext cx="200016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0"/>
          <p:cNvSpPr/>
          <p:nvPr/>
        </p:nvSpPr>
        <p:spPr>
          <a:xfrm>
            <a:off x="7315200" y="3733920"/>
            <a:ext cx="15238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1"/>
          <p:cNvSpPr/>
          <p:nvPr/>
        </p:nvSpPr>
        <p:spPr>
          <a:xfrm>
            <a:off x="7315200" y="2895480"/>
            <a:ext cx="15238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2"/>
          <p:cNvSpPr/>
          <p:nvPr/>
        </p:nvSpPr>
        <p:spPr>
          <a:xfrm>
            <a:off x="7315200" y="4572000"/>
            <a:ext cx="15238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3"/>
          <p:cNvSpPr/>
          <p:nvPr/>
        </p:nvSpPr>
        <p:spPr>
          <a:xfrm>
            <a:off x="7315200" y="5562720"/>
            <a:ext cx="15238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4"/>
          <p:cNvSpPr/>
          <p:nvPr/>
        </p:nvSpPr>
        <p:spPr>
          <a:xfrm>
            <a:off x="2571840" y="3981600"/>
            <a:ext cx="144756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5"/>
          <p:cNvSpPr/>
          <p:nvPr/>
        </p:nvSpPr>
        <p:spPr>
          <a:xfrm>
            <a:off x="4172040" y="4000680"/>
            <a:ext cx="129528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6"/>
          <p:cNvSpPr/>
          <p:nvPr/>
        </p:nvSpPr>
        <p:spPr>
          <a:xfrm>
            <a:off x="5600880" y="4038480"/>
            <a:ext cx="129528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4941000" y="570060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europépt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8"/>
          <p:cNvSpPr/>
          <p:nvPr/>
        </p:nvSpPr>
        <p:spPr>
          <a:xfrm>
            <a:off x="3276720" y="5657760"/>
            <a:ext cx="13716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9"/>
          <p:cNvSpPr/>
          <p:nvPr/>
        </p:nvSpPr>
        <p:spPr>
          <a:xfrm>
            <a:off x="4876920" y="5657760"/>
            <a:ext cx="15238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0"/>
          <p:cNvSpPr/>
          <p:nvPr/>
        </p:nvSpPr>
        <p:spPr>
          <a:xfrm flipV="1">
            <a:off x="2819520" y="480024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1"/>
          <p:cNvSpPr/>
          <p:nvPr/>
        </p:nvSpPr>
        <p:spPr>
          <a:xfrm flipV="1">
            <a:off x="249552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2"/>
          <p:cNvSpPr/>
          <p:nvPr/>
        </p:nvSpPr>
        <p:spPr>
          <a:xfrm>
            <a:off x="2514600" y="3962520"/>
            <a:ext cx="3049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3"/>
          <p:cNvSpPr/>
          <p:nvPr/>
        </p:nvSpPr>
        <p:spPr>
          <a:xfrm>
            <a:off x="2514600" y="3124080"/>
            <a:ext cx="6858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4"/>
          <p:cNvSpPr/>
          <p:nvPr/>
        </p:nvSpPr>
        <p:spPr>
          <a:xfrm flipV="1">
            <a:off x="3505320" y="2666520"/>
            <a:ext cx="198108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5"/>
          <p:cNvSpPr/>
          <p:nvPr/>
        </p:nvSpPr>
        <p:spPr>
          <a:xfrm flipH="1">
            <a:off x="5029200" y="266688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6"/>
          <p:cNvSpPr/>
          <p:nvPr/>
        </p:nvSpPr>
        <p:spPr>
          <a:xfrm>
            <a:off x="5486400" y="2666880"/>
            <a:ext cx="76212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7"/>
          <p:cNvSpPr/>
          <p:nvPr/>
        </p:nvSpPr>
        <p:spPr>
          <a:xfrm flipH="1">
            <a:off x="6552720" y="3276720"/>
            <a:ext cx="76212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8"/>
          <p:cNvSpPr/>
          <p:nvPr/>
        </p:nvSpPr>
        <p:spPr>
          <a:xfrm flipH="1">
            <a:off x="6858000" y="411480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9"/>
          <p:cNvSpPr/>
          <p:nvPr/>
        </p:nvSpPr>
        <p:spPr>
          <a:xfrm>
            <a:off x="6800760" y="46483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0"/>
          <p:cNvSpPr/>
          <p:nvPr/>
        </p:nvSpPr>
        <p:spPr>
          <a:xfrm>
            <a:off x="6648480" y="4800600"/>
            <a:ext cx="6094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1"/>
          <p:cNvSpPr/>
          <p:nvPr/>
        </p:nvSpPr>
        <p:spPr>
          <a:xfrm flipH="1">
            <a:off x="3886200" y="481968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2"/>
          <p:cNvSpPr/>
          <p:nvPr/>
        </p:nvSpPr>
        <p:spPr>
          <a:xfrm>
            <a:off x="4724280" y="4819680"/>
            <a:ext cx="838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3"/>
          <p:cNvSpPr/>
          <p:nvPr/>
        </p:nvSpPr>
        <p:spPr>
          <a:xfrm flipH="1">
            <a:off x="1676520" y="6858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4"/>
          <p:cNvSpPr/>
          <p:nvPr/>
        </p:nvSpPr>
        <p:spPr>
          <a:xfrm>
            <a:off x="3733920" y="12193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5"/>
          <p:cNvSpPr/>
          <p:nvPr/>
        </p:nvSpPr>
        <p:spPr>
          <a:xfrm>
            <a:off x="5791320" y="12193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6"/>
          <p:cNvSpPr/>
          <p:nvPr/>
        </p:nvSpPr>
        <p:spPr>
          <a:xfrm>
            <a:off x="6934320" y="685800"/>
            <a:ext cx="1143000" cy="137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304120" cy="17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3300"/>
                </a:solidFill>
                <a:latin typeface="Times New Roman"/>
              </a:rPr>
              <a:t>NEUROBIOLOGIA DE LOS SISTEMAS DE RECOMPENSA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45820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nivel Neuroanatómico se involucran el </a:t>
            </a: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área Ventrotegmental  anterior, Cerebro anterio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Núcleo Acumbens, Tubérculo olfatorio, Corteza frontal y la Amígdala)  </a:t>
            </a: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y los circuitos dopaminérgicos que unen estas áre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han propuesto tres sistemas de Neurotrasmi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Dopamin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obre todo a través de los sistemas Nigroestriado y Mesocorticolímbico (cocaína, anfetaminas y etanol ). Aquí es importante las experiencias relacionados con el papel que cumple el núcleo acumb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GAB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u receptor es un macrocomplejo al que se unen también las benzodiacepinas, barbituricos y alcohol; aumentando el influjo del ion clor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50920" y="1484280"/>
            <a:ext cx="8893080" cy="53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5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Péptidos Opioi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Sobre todo a través del núcleo Acumbens, Hipocampo e Hipotálamo. A estas sustancias se le atribuyen 3 grandes funcione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  Modulación de la nocicepción proveniente de estímulos dolorosos o estresant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Mecanismos de recompensa</a:t>
            </a:r>
            <a:r>
              <a:rPr b="0" lang="es-E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  Otras funciones homeostáticas diversas como la ingesta de alimento, agua y regulación de la temperatu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este sentido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los opioides tienen propiedades estimulantes de los  sistemas de recompens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tanto por su relación con la dopamina como también independiente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0"/>
            <a:ext cx="9121680" cy="6824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10960" y="152280"/>
            <a:ext cx="686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3300"/>
                </a:solidFill>
                <a:latin typeface="Verdana"/>
              </a:rPr>
              <a:t>ASPECTOS BIOLÓGICOS DE LA DEPENDENCIA A</a:t>
            </a:r>
            <a:r>
              <a:rPr b="1" lang="es-PE" sz="1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663300"/>
                </a:solidFill>
                <a:latin typeface="Verdana"/>
              </a:rPr>
              <a:t>SUSTANCIA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2280" y="4724280"/>
            <a:ext cx="8839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s-PE" sz="2400" spc="-1" strike="noStrike">
                <a:solidFill>
                  <a:srgbClr val="0000cc"/>
                </a:solidFill>
                <a:latin typeface="Arial Narrow"/>
              </a:rPr>
              <a:t>Áreas cerebrales asociadas a la adicción: Centro de Reforz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66"/>
                </a:solidFill>
                <a:latin typeface="Arial Narrow"/>
              </a:rPr>
              <a:t>	</a:t>
            </a:r>
            <a:r>
              <a:rPr b="1" lang="es-PE" sz="1800" spc="-1" strike="noStrike">
                <a:solidFill>
                  <a:srgbClr val="0000cc"/>
                </a:solidFill>
                <a:latin typeface="Arial"/>
              </a:rPr>
              <a:t>a)  Estimulación y reforzamiento: área  tegmental ventral, núcleo accumbens , haz frontal anterior (corteza orbito frontal, cíngul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cc"/>
                </a:solidFill>
                <a:latin typeface="Arial"/>
              </a:rPr>
              <a:t>b)  Memoria emocional: amígd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cc"/>
                </a:solidFill>
                <a:latin typeface="Arial"/>
              </a:rPr>
              <a:t>c)  Síndrome de abstinencia : Locus Coeru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5"/>
          <p:cNvGraphicFramePr/>
          <p:nvPr/>
        </p:nvGraphicFramePr>
        <p:xfrm>
          <a:off x="2057400" y="685800"/>
          <a:ext cx="510552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685800"/>
                    <a:ext cx="5105520" cy="4038480"/>
                  </a:xfrm>
                  <a:prstGeom prst="rect">
                    <a:avLst/>
                  </a:prstGeom>
                  <a:ln w="76320">
                    <a:solidFill>
                      <a:srgbClr val="cc00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5840" y="279360"/>
            <a:ext cx="7756560" cy="101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3300"/>
                </a:solidFill>
                <a:latin typeface="Times New Roman"/>
              </a:rPr>
              <a:t>NEUROQUIMICA DE LA COCAINA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1920" y="1844640"/>
            <a:ext cx="845172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CAMBIOS  AGU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Bloqueo de la recapt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dopamina, norepinefrina y serotonina (más o menos 85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Incremento de la disponibilida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dopamina, norepinefrina y serotonina a nivel de los espacios sináp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Sensibilización de los receptores postsináptic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dopamina, norepinefrina  y  seroton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539640" y="571680"/>
            <a:ext cx="8604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CAMBIOS CRONICOS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Hipersensibilidad prolongada e irreversible de los receptor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dopamina, norepinefrina y seroton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Incremento de los receptores postsináptic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dopamina, norepinefrina y seroton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Depauperización de los niveles metabólic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dopamina, norepinefrina y seroton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cremento de la actividad hidroxilasa tirosina y disminución de triptofan hidroxilasa y de la asimilación de triptof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umento del funcionamiento opiáceo-endógeno (endorfina/encefalin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611280" y="189000"/>
            <a:ext cx="8532720" cy="69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3300"/>
                </a:solidFill>
                <a:latin typeface="Times New Roman"/>
              </a:rPr>
              <a:t>INT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drogas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han dejado de ser un problema aislado y se han convertido en  global y grav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habiendo sido incorporado a  la agenda internacional desde la década del 7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responde al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segundo rubro del comercio mundi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solo superado por el comercio de ar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 penetrado la vida política y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 asociado a la violencia política y comú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 asociado a los accidentes de trans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 asociado a violencia famil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 asociado a una mayor morbilidad medica y psiquiátrica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04_DAbifas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850160" cy="15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3300"/>
                </a:solidFill>
                <a:latin typeface="Times New Roman"/>
              </a:rPr>
              <a:t>SEROTONINA Y COCAINA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67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cocaína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inhibe la recaptación de serotonina 2 a 4 veces más que la dopamin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serotonina produciría un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efecto de tipo amortiguación sobre la euforia asociada al uso de cocaí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uso crónico de cocaína produciría un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decrecimiento de los mecanismos autorreguladores de la serotonin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lo que se traduciría en problemas clínicos como depresión, psicos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16_hiperacCPF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324000" y="6093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urante el consumo activo de estimulantes como la cocaína o la anfetamina, el CPF está hiperactiv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17_hipoacCPF"/>
          <p:cNvPicPr/>
          <p:nvPr/>
        </p:nvPicPr>
        <p:blipFill>
          <a:blip r:embed="rId1"/>
          <a:stretch/>
        </p:blipFill>
        <p:spPr>
          <a:xfrm>
            <a:off x="0" y="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250920" y="6237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urante la abstinencia la CPF es hipofuncion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21_emoneuroimag"/>
          <p:cNvPicPr/>
          <p:nvPr/>
        </p:nvPicPr>
        <p:blipFill>
          <a:blip r:embed="rId1"/>
          <a:stretch/>
        </p:blipFill>
        <p:spPr>
          <a:xfrm>
            <a:off x="0" y="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0" y="602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s regiones limbicas se activaban al mismo tiempo que el sujeto experimentaba deseo de consumo (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craving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3"/>
          <p:cNvSpPr/>
          <p:nvPr/>
        </p:nvSpPr>
        <p:spPr>
          <a:xfrm>
            <a:off x="250920" y="404640"/>
            <a:ext cx="88930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3300"/>
                </a:solidFill>
                <a:latin typeface="Times New Roman"/>
              </a:rPr>
              <a:t>FACTORES FAMILIARES QUE DISMINUYEN LA PROBABILIDAD DE  F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just">
              <a:lnSpc>
                <a:spcPct val="100000"/>
              </a:lnSpc>
              <a:spcAft>
                <a:spcPts val="700"/>
              </a:spcAft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hijos perciben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más amo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ambos progenitores,   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particularmente del padr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just">
              <a:lnSpc>
                <a:spcPct val="100000"/>
              </a:lnSpc>
              <a:spcAft>
                <a:spcPts val="700"/>
              </a:spcAft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padres tienen una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buena relación con los amigos de sus hijos</a:t>
            </a:r>
            <a:r>
              <a:rPr b="0" lang="es-ES" sz="2800" spc="-1" strike="noStrike">
                <a:solidFill>
                  <a:srgbClr val="3333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just">
              <a:lnSpc>
                <a:spcPct val="100000"/>
              </a:lnSpc>
              <a:spcAft>
                <a:spcPts val="700"/>
              </a:spcAft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observa un acuerdo más espontáneo en lo referente a la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solución de problem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just">
              <a:lnSpc>
                <a:spcPct val="100000"/>
              </a:lnSpc>
              <a:spcAft>
                <a:spcPts val="700"/>
              </a:spcAft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ncionan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más democráticament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con autoridad compartida y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mejor 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just">
              <a:lnSpc>
                <a:spcPct val="100000"/>
              </a:lnSpc>
              <a:spcAft>
                <a:spcPts val="700"/>
              </a:spcAft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Times New Roman"/>
              </a:rPr>
              <a:t>Son más capaces de preparar a sus hijos para la vida adu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3"/>
          <p:cNvSpPr/>
          <p:nvPr/>
        </p:nvSpPr>
        <p:spPr>
          <a:xfrm>
            <a:off x="0" y="189000"/>
            <a:ext cx="9144000" cy="65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3300"/>
                </a:solidFill>
                <a:latin typeface="Times New Roman"/>
              </a:rPr>
              <a:t>DISFUNCION MARITAL Y FARMACODEPEND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457200" algn="just">
              <a:lnSpc>
                <a:spcPct val="100000"/>
              </a:lnSpc>
              <a:spcAft>
                <a:spcPts val="349"/>
              </a:spcAft>
              <a:buClr>
                <a:srgbClr val="3333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parejas de padre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 FD muestran un grado de cohesión variable, pero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fracasan en su adaptabilida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s decir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en la capacidad de cambi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n respuesta a la crisis del ciclo vital familiar y a las situaciones de estrés provenientes del medio social. Se trata de parejas con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liderazgo ineficaz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de lo que resultan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fallas en el ejercicio de la disciplin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2800" spc="-1" strike="noStrike">
                <a:solidFill>
                  <a:srgbClr val="0000cc"/>
                </a:solidFill>
                <a:latin typeface="Times New Roman"/>
              </a:rPr>
              <a:t>en la adopción de decisiones adecuadas y en el establecimiento de regl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457200"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suma,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 la dificultad mayor se hall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en el eje de cohesión (ligazón afectiva), sino </a:t>
            </a:r>
            <a:r>
              <a:rPr b="1" lang="es-ES" sz="2800" spc="-1" strike="noStrike">
                <a:solidFill>
                  <a:srgbClr val="0000cc"/>
                </a:solidFill>
                <a:latin typeface="Times New Roman"/>
              </a:rPr>
              <a:t>e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l de </a:t>
            </a:r>
            <a:r>
              <a:rPr b="1" lang="es-ES" sz="2800" spc="-1" strike="noStrike">
                <a:solidFill>
                  <a:srgbClr val="0000cc"/>
                </a:solidFill>
                <a:latin typeface="Times New Roman"/>
              </a:rPr>
              <a:t>la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 adaptabilidad (capacidad para cambi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250920" y="1557360"/>
            <a:ext cx="88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2.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os miembros de la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díada marital se encuentran afectivamente muy distantes</a:t>
            </a:r>
            <a:r>
              <a:rPr b="0" lang="es-E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cc"/>
                </a:solidFill>
                <a:latin typeface="Times New Roman"/>
              </a:rPr>
              <a:t>pero se cohesionan una vez conocido el problema del hij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 Ello explica el que en esta dimensión (cohesión), la disfuncionalidad sea me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3.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os sistemas familiares con un hijo dependiente. se encuentran sometidos a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presiones intern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– producto de la crisis de la adolescencia -, tanto como a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presiones extern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sto es, aquella que tienen que ver con un medio social que no aporta lo necesario para la realización de las expectativas legítimas del gru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050"/>
          <p:cNvSpPr/>
          <p:nvPr/>
        </p:nvSpPr>
        <p:spPr>
          <a:xfrm>
            <a:off x="517680" y="0"/>
            <a:ext cx="840888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3300"/>
                </a:solidFill>
                <a:latin typeface="Times New Roman"/>
              </a:rPr>
              <a:t>CLASIFICACION DE LAS DROGAS CAPACES DE PRODUCIR DEPENDENCIA (Según su acción farmacológica</a:t>
            </a: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A) DROGAS ESTIMULANTES DEL S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 Coca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 Nico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 Cafe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 Anfetamina y deri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B) DROGAS DEPRESORAS DEL S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 Tranquilizantes men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 Opi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 Solventes volátiles o inhal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C) DROGAS DE EFECTOS MIX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 Canna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 Alucinóg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 MDMA o éxt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880920" y="141120"/>
            <a:ext cx="7696440" cy="477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189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1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663300"/>
                </a:solidFill>
                <a:latin typeface="Arial Black"/>
              </a:rPr>
              <a:t>PATRONES DE CONSUM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1150920" y="4076640"/>
            <a:ext cx="2709720" cy="1687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264" name="AutoShape 4"/>
          <p:cNvSpPr/>
          <p:nvPr/>
        </p:nvSpPr>
        <p:spPr>
          <a:xfrm>
            <a:off x="0" y="662760"/>
            <a:ext cx="2971800" cy="437400"/>
          </a:xfrm>
          <a:prstGeom prst="downArrowCallout">
            <a:avLst>
              <a:gd name="adj1" fmla="val 0"/>
              <a:gd name="adj2" fmla="val 0"/>
              <a:gd name="adj3" fmla="val 1353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cc"/>
                </a:solidFill>
                <a:latin typeface="Arial Black"/>
              </a:rPr>
              <a:t>1. CONSUMO EXPERIMEN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5824440" y="623880"/>
            <a:ext cx="3319560" cy="414360"/>
          </a:xfrm>
          <a:prstGeom prst="downArrowCallout">
            <a:avLst>
              <a:gd name="adj1" fmla="val 0"/>
              <a:gd name="adj2" fmla="val 0"/>
              <a:gd name="adj3" fmla="val 0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cc"/>
                </a:solidFill>
                <a:latin typeface="Arial Black"/>
              </a:rPr>
              <a:t>3. CONSUMO SOCIAL U OCAS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3048120" y="586440"/>
            <a:ext cx="2979720" cy="437400"/>
          </a:xfrm>
          <a:prstGeom prst="downArrowCallout">
            <a:avLst>
              <a:gd name="adj1" fmla="val 0"/>
              <a:gd name="adj2" fmla="val 0"/>
              <a:gd name="adj3" fmla="val 1353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cc"/>
                </a:solidFill>
                <a:latin typeface="Arial Black"/>
              </a:rPr>
              <a:t>2. </a:t>
            </a:r>
            <a:r>
              <a:rPr b="0" lang="es-PE" sz="1200" spc="-1" strike="noStrike">
                <a:solidFill>
                  <a:srgbClr val="0000cc"/>
                </a:solidFill>
                <a:latin typeface="Arial Black"/>
              </a:rPr>
              <a:t>CONSUMO CIRCUNSTAN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>
            <a:off x="838080" y="3710520"/>
            <a:ext cx="3997440" cy="437400"/>
          </a:xfrm>
          <a:prstGeom prst="downArrowCallout">
            <a:avLst>
              <a:gd name="adj1" fmla="val 0"/>
              <a:gd name="adj2" fmla="val 0"/>
              <a:gd name="adj3" fmla="val 1353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cc"/>
                </a:solidFill>
                <a:latin typeface="Arial Black"/>
              </a:rPr>
              <a:t>4. ABUSO O CONSUMO PERJUDIC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68400" y="2673360"/>
            <a:ext cx="2641320" cy="8431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Por curiosidad o moda 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consume en una o poc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ocasiones sin continua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6156360" y="2781360"/>
            <a:ext cx="2708280" cy="7729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En fiestas, celebraciones o po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presión de amigos, de grupos s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consume la sustanc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2913120" y="2673360"/>
            <a:ext cx="3030480" cy="9716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8"/>
                </a:solidFill>
                <a:latin typeface="Arial"/>
              </a:rPr>
              <a:t>Consumo eventual determinado p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8"/>
                </a:solidFill>
                <a:latin typeface="Arial"/>
              </a:rPr>
              <a:t>circunstancias específicas. Ejem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8"/>
                </a:solidFill>
                <a:latin typeface="Arial"/>
              </a:rPr>
              <a:t>Consumo de anfetaminas x estudian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8"/>
                </a:solidFill>
                <a:latin typeface="Arial"/>
              </a:rPr>
              <a:t>tes o choferes para suprimir sueñ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826920" y="5992920"/>
            <a:ext cx="3614760" cy="820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8"/>
                </a:solidFill>
                <a:latin typeface="Arial"/>
              </a:rPr>
              <a:t>Se presentan problemas personales, físicos 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8"/>
                </a:solidFill>
                <a:latin typeface="Arial"/>
              </a:rPr>
              <a:t>mentales debido a excesos en el consum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8"/>
                </a:solidFill>
                <a:latin typeface="Arial"/>
              </a:rPr>
              <a:t> </a:t>
            </a:r>
            <a:r>
              <a:rPr b="1" lang="es-ES_tradnl" sz="1300" spc="-1" strike="noStrike">
                <a:solidFill>
                  <a:srgbClr val="000008"/>
                </a:solidFill>
                <a:latin typeface="Arial"/>
              </a:rPr>
              <a:t>sin llegar a criterios de dependencia</a:t>
            </a:r>
            <a:r>
              <a:rPr b="0" lang="es-ES_tradnl" sz="1300" spc="-1" strike="noStrike">
                <a:solidFill>
                  <a:srgbClr val="000008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2" descr="BD10825_"/>
          <p:cNvPicPr/>
          <p:nvPr/>
        </p:nvPicPr>
        <p:blipFill>
          <a:blip r:embed="rId2"/>
          <a:stretch/>
        </p:blipFill>
        <p:spPr>
          <a:xfrm>
            <a:off x="5940360" y="4005360"/>
            <a:ext cx="1897200" cy="1969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273" name="AutoShape 13"/>
          <p:cNvSpPr/>
          <p:nvPr/>
        </p:nvSpPr>
        <p:spPr>
          <a:xfrm>
            <a:off x="5410080" y="3710520"/>
            <a:ext cx="3048120" cy="437400"/>
          </a:xfrm>
          <a:prstGeom prst="downArrowCallout">
            <a:avLst>
              <a:gd name="adj1" fmla="val 0"/>
              <a:gd name="adj2" fmla="val 0"/>
              <a:gd name="adj3" fmla="val 1353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cc"/>
                </a:solidFill>
                <a:latin typeface="Arial Black"/>
              </a:rPr>
              <a:t>5. CONSUMO DEPENDIE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5003640" y="6162840"/>
            <a:ext cx="3889440" cy="5583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8"/>
                </a:solidFill>
                <a:latin typeface="Arial"/>
              </a:rPr>
              <a:t>Cumple con Criterios Diagnósticos de Dependencia ICD-10/DSM-IV (uso compulsivo e incapacidad de controlar su consumo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5" descr="HM00363_"/>
          <p:cNvPicPr/>
          <p:nvPr/>
        </p:nvPicPr>
        <p:blipFill>
          <a:blip r:embed="rId3"/>
          <a:stretch/>
        </p:blipFill>
        <p:spPr>
          <a:xfrm>
            <a:off x="304920" y="914400"/>
            <a:ext cx="2361960" cy="1600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6" descr="BS00559_"/>
          <p:cNvPicPr/>
          <p:nvPr/>
        </p:nvPicPr>
        <p:blipFill>
          <a:blip r:embed="rId4"/>
          <a:stretch/>
        </p:blipFill>
        <p:spPr>
          <a:xfrm>
            <a:off x="3200400" y="1066680"/>
            <a:ext cx="2590920" cy="1447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7" descr="j0168498"/>
          <p:cNvPicPr/>
          <p:nvPr/>
        </p:nvPicPr>
        <p:blipFill>
          <a:blip r:embed="rId5"/>
          <a:stretch/>
        </p:blipFill>
        <p:spPr>
          <a:xfrm>
            <a:off x="6629400" y="990720"/>
            <a:ext cx="16747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39640" y="838080"/>
            <a:ext cx="8223480" cy="5653080"/>
          </a:xfrm>
          <a:prstGeom prst="rect">
            <a:avLst/>
          </a:prstGeom>
          <a:solidFill>
            <a:srgbClr val="ffff00"/>
          </a:solidFill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PRIMEROS ESTUDIOS (ALCOH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RIATEGUI ET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NC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2.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OTONDO ET A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NDOCI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OTONDO ET A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CHACAMAC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9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RAVEDO Y ALMEID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BLACIO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D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STANEDA J.F.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SAGRAND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25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1973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AUS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RIEVENOW W.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OP. AZUCA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1975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OTONDO Y BAZA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ITART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6.2% D.A</a:t>
            </a:r>
            <a:r>
              <a:rPr b="1" lang="es-ES_tradnl" sz="1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1976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OBREROS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11.4% I.E</a:t>
            </a:r>
            <a:r>
              <a:rPr b="1" lang="es-ES_tradnl" sz="1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HRISTIANSEN Y MALC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UJ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Pueblo Joven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9.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539640" y="1484280"/>
            <a:ext cx="8229600" cy="0"/>
          </a:xfrm>
          <a:prstGeom prst="line">
            <a:avLst/>
          </a:prstGeom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210400" y="0"/>
            <a:ext cx="49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3300"/>
                </a:solidFill>
                <a:latin typeface="Times New Roman"/>
              </a:rPr>
              <a:t>EPIDEMI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533520" y="2286000"/>
            <a:ext cx="8229600" cy="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533520" y="2819520"/>
            <a:ext cx="8229600" cy="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539640" y="3284640"/>
            <a:ext cx="8229600" cy="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 flipV="1">
            <a:off x="611280" y="4005000"/>
            <a:ext cx="8151840" cy="4284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539640" y="4653000"/>
            <a:ext cx="8229600" cy="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>
            <a:off x="539640" y="5300640"/>
            <a:ext cx="8229600" cy="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539640" y="5877000"/>
            <a:ext cx="8229600" cy="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4500720" y="1413000"/>
            <a:ext cx="0" cy="510516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7162920" y="1371600"/>
            <a:ext cx="0" cy="510552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026"/>
          <p:cNvSpPr/>
          <p:nvPr/>
        </p:nvSpPr>
        <p:spPr>
          <a:xfrm>
            <a:off x="533520" y="189000"/>
            <a:ext cx="867096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33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CRITERIOS DE DEPENDENCIA DE SUSTANCIAS (DSM-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patrón desadaptativo de consumo de la sustanc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conlleva un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deterioro o malestar clínicamente significativ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xpresado por tres o más de los ítems siguientes en algún momento de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un periodo continuado de 12 mes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1.-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Tolerancia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finida por cualquiera de los siguientes í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a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Uso de cantidades marcadamente crecientes de la sustanci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conseguir la intoxicación o los efect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b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l efecto de las mismas cantidades de sustancia disminu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ramente con su consumo continu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2.-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Abstinenc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definida por cualquiera de los siguientes í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a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l Síndrome de Abstinencia característico para la susta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b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e toma la misma sustancia o una muy parecida para aliviar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itar los síntomas de abstin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539640" y="189000"/>
            <a:ext cx="8604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3333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sustancia es tomada con frecuencia en </a:t>
            </a: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cantidades mayores o durante un periodo más larg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lo que inicialmente se pretend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3333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 un deseo persistente o </a:t>
            </a: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esfuerzos infructuosos de controlar o interrumpir el consum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3333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mplea mucho </a:t>
            </a: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tiemp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actividades relacionadas con la obtención y el consumo de la sustancia o en la recuperación de los efectos de la susta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3333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Reducción de importantes actividad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sociales, laborales o recreativas debido al consumo de la susta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3333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Se continua tomando la susta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a pesar de tener conciencia de problemas psicológicos o físicos recidivantes o persistentes que parecen causados o exacerbados por el consumo de la susta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468360" y="304920"/>
            <a:ext cx="867564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CRITERIOS PARA ABUSO DE SUSTANCIAS (DSM-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A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patrón desadaptativo de consumo de la sustanc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conlleva un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deterioro o malestar clínicamente significativ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xpresado por uno o más de los ítems siguientes en algún momento de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un periodo continuado de 12 mes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1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sumo recurrente de sustancias, que da lugar al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incumplimiento de obligacion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 el trabajo, la escuela o en su c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2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sumo recurrente de la sustancia en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situaciones en las que hacerlo es físicamente peligr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3.-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Problemas lega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repetidos relacionados con la susta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4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sumo continuado de la sustancia a pesar de tener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problemas sociales continuos o recurrentes o problemas interpersona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ausados o exacerbados por los efectos de la susta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B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os síntomas no han cumplido nunca los criterios para la dependencia de sustancias de esa clase de dro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52880" y="193680"/>
            <a:ext cx="79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DIAGNOSTICOS ASOCIADOS A USO DE SUST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2760" y="803160"/>
            <a:ext cx="8626320" cy="5580360"/>
          </a:xfrm>
          <a:prstGeom prst="rect">
            <a:avLst/>
          </a:prstGeom>
          <a:solidFill>
            <a:srgbClr val="ffff00"/>
          </a:solidFill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Dependencia     Abuso    Intoxicación    Abstin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ucinógen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fetami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feí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nnabi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nciclidi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halant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coti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io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siolit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523880"/>
            <a:ext cx="8534520" cy="0"/>
          </a:xfrm>
          <a:prstGeom prst="line">
            <a:avLst/>
          </a:prstGeom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09680" y="838080"/>
            <a:ext cx="0" cy="5486400"/>
          </a:xfrm>
          <a:prstGeom prst="line">
            <a:avLst/>
          </a:prstGeom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23623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30481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33526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37339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41148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44956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48769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52578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56386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60199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67280" y="765000"/>
            <a:ext cx="0" cy="5639040"/>
          </a:xfrm>
          <a:prstGeom prst="line">
            <a:avLst/>
          </a:prstGeom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05520" y="762120"/>
            <a:ext cx="0" cy="5638680"/>
          </a:xfrm>
          <a:prstGeom prst="line">
            <a:avLst/>
          </a:prstGeom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10280" y="762120"/>
            <a:ext cx="0" cy="5638680"/>
          </a:xfrm>
          <a:prstGeom prst="line">
            <a:avLst/>
          </a:prstGeom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28600" y="1066680"/>
            <a:ext cx="8610480" cy="6311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Delirium  Delirium  Demencia   Trastorno    Psic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Intox.       Abst.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      Amnésico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I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ucinógen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fetaminas    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fe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nnabis         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caína           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nciclidina             I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halantes       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co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iodes          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sioliticos    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09680" y="1066680"/>
            <a:ext cx="0" cy="556272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2200" y="304920"/>
            <a:ext cx="79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DIAGNOSTICOS ASOCIADOS A USO DE SUST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25909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29718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3276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3657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4038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4419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51055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54864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58672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2057400"/>
            <a:ext cx="8610480" cy="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29000" y="1066680"/>
            <a:ext cx="0" cy="556272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48320" y="1066680"/>
            <a:ext cx="0" cy="556272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84720" y="1052640"/>
            <a:ext cx="0" cy="556236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1066680"/>
            <a:ext cx="0" cy="556272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04920" y="1066680"/>
            <a:ext cx="8610480" cy="5580360"/>
          </a:xfrm>
          <a:prstGeom prst="rect">
            <a:avLst/>
          </a:prstGeom>
          <a:solidFill>
            <a:srgbClr val="ffff00"/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Trastorno      Trastorno    Disfunción    Tras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del Humor     Ansiedad.       Sexual        del Sueño</a:t>
            </a: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cohol                      I/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I/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I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ucinógen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fetami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I/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I/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feí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nnabi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/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/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I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nciclidi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halant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co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io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I/A Ansiolit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/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I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/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/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I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11280" y="1052640"/>
            <a:ext cx="0" cy="548640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92200" y="228600"/>
            <a:ext cx="79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DIAGNOSTICOS ASOCIADOS A USO DE SUST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25909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32767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3657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4038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44197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1055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54864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58672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62485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1066680"/>
            <a:ext cx="0" cy="548640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1066680"/>
            <a:ext cx="0" cy="556272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162920" y="1066680"/>
            <a:ext cx="0" cy="548640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457200" y="620640"/>
            <a:ext cx="8686800" cy="62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3300"/>
                </a:solidFill>
                <a:latin typeface="Times New Roman"/>
              </a:rPr>
              <a:t>COCA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1.- INTOXICACION AGU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2.- INTOXICACION CR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ff"/>
                </a:solidFill>
                <a:latin typeface="Times New Roman"/>
              </a:rPr>
              <a:t>FASES DE LA INTOXICACION AGUDA POR PASTA DE CO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ase de la Aparición de la A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ase de la Euforia-disf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ase de predominio disf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ase de la “bajada” o “resa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611280" y="380880"/>
            <a:ext cx="853272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Times New Roman"/>
              </a:rPr>
              <a:t>FASE DE LA APARICION DE LA A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Se instala muy rápidament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semanas a me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ínicamente se encuentra: </a:t>
            </a: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ansiedad cada vez mas intensa y crecient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con gran inquietud psicomotora,  ideas obsesivas y actos compulsivos e impulsivos relacionados con los rituales del cons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apetencia aparece cuando el sujeto es expuesto a diversos </a:t>
            </a: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estímulos discriminativos asociados al consum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tales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 La hora del 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 El aburr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 El disponer tiempo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 el disponer de dinero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 instala un </a:t>
            </a: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Síndrome de Abstinencia condicio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304920" y="380880"/>
            <a:ext cx="8839080" cy="60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Times New Roman"/>
              </a:rPr>
              <a:t>FASE DE LA EUFORIA-DISF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ff"/>
                </a:solidFill>
                <a:latin typeface="Times New Roman"/>
              </a:rPr>
              <a:t>1.-</a:t>
            </a:r>
            <a:r>
              <a:rPr b="1" lang="es-MX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primera </a:t>
            </a: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aspirada del primer “tabacazo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produce 02 efectos import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Reducción brusca e inmediata de la angusti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y los otros síntomas de abstin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) Una </a:t>
            </a: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sensación de euforia y expansividad intens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pero muy breve (segun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2. -</a:t>
            </a:r>
            <a:r>
              <a:rPr b="0" lang="es-MX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mediatamente </a:t>
            </a: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vuelve a reaparecer la angustia con más intensidad y esto obliga al usuario a continuar consumiend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generándose un 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sube y baja” entre la sensación de angustia y la  sensación de euforia y place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pero en las que estas últimas sensaciones van desapareciendo progresivamente cediendo ante la angustia (disforia). Esto ocurre hasta el cuarto o quinto tabacazo en pro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304920" y="457200"/>
            <a:ext cx="84582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ff"/>
                </a:solidFill>
                <a:latin typeface="Times New Roman"/>
              </a:rPr>
              <a:t>3.-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Desde un punto de vista clínico hay un </a:t>
            </a: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síndrome vegetativo sensoria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taquicardia, hiperhidrosis, deseos de miccionar y defecar, parestesias, temblor digital, hipersensibilidad auditiva y olfatoria, etc. También ideas parano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DISF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(Ansie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EUF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9"/>
          <p:cNvSpPr/>
          <p:nvPr/>
        </p:nvSpPr>
        <p:spPr>
          <a:xfrm>
            <a:off x="1066680" y="1828800"/>
            <a:ext cx="7543800" cy="4432320"/>
          </a:xfrm>
          <a:custGeom>
            <a:avLst/>
            <a:gdLst/>
            <a:ahLst/>
            <a:rect l="l" t="t" r="r" b="b"/>
            <a:pathLst>
              <a:path w="4752" h="3944">
                <a:moveTo>
                  <a:pt x="0" y="2144"/>
                </a:moveTo>
                <a:cubicBezTo>
                  <a:pt x="100" y="1376"/>
                  <a:pt x="200" y="608"/>
                  <a:pt x="336" y="896"/>
                </a:cubicBezTo>
                <a:cubicBezTo>
                  <a:pt x="472" y="1184"/>
                  <a:pt x="648" y="3944"/>
                  <a:pt x="816" y="3872"/>
                </a:cubicBezTo>
                <a:cubicBezTo>
                  <a:pt x="984" y="3800"/>
                  <a:pt x="1192" y="504"/>
                  <a:pt x="1344" y="464"/>
                </a:cubicBezTo>
                <a:cubicBezTo>
                  <a:pt x="1496" y="424"/>
                  <a:pt x="1648" y="3656"/>
                  <a:pt x="1728" y="3632"/>
                </a:cubicBezTo>
                <a:cubicBezTo>
                  <a:pt x="1808" y="3608"/>
                  <a:pt x="1752" y="344"/>
                  <a:pt x="1824" y="320"/>
                </a:cubicBezTo>
                <a:cubicBezTo>
                  <a:pt x="1896" y="296"/>
                  <a:pt x="2048" y="3496"/>
                  <a:pt x="2160" y="3488"/>
                </a:cubicBezTo>
                <a:cubicBezTo>
                  <a:pt x="2272" y="3480"/>
                  <a:pt x="2384" y="352"/>
                  <a:pt x="2496" y="272"/>
                </a:cubicBezTo>
                <a:cubicBezTo>
                  <a:pt x="2608" y="192"/>
                  <a:pt x="2728" y="3024"/>
                  <a:pt x="2832" y="3008"/>
                </a:cubicBezTo>
                <a:cubicBezTo>
                  <a:pt x="2936" y="2992"/>
                  <a:pt x="3032" y="240"/>
                  <a:pt x="3120" y="176"/>
                </a:cubicBezTo>
                <a:cubicBezTo>
                  <a:pt x="3208" y="112"/>
                  <a:pt x="3256" y="2616"/>
                  <a:pt x="3360" y="2624"/>
                </a:cubicBezTo>
                <a:cubicBezTo>
                  <a:pt x="3464" y="2632"/>
                  <a:pt x="3632" y="280"/>
                  <a:pt x="3744" y="224"/>
                </a:cubicBezTo>
                <a:cubicBezTo>
                  <a:pt x="3856" y="168"/>
                  <a:pt x="3928" y="2272"/>
                  <a:pt x="4032" y="2288"/>
                </a:cubicBezTo>
                <a:cubicBezTo>
                  <a:pt x="4136" y="2304"/>
                  <a:pt x="4280" y="352"/>
                  <a:pt x="4368" y="320"/>
                </a:cubicBezTo>
                <a:cubicBezTo>
                  <a:pt x="4456" y="288"/>
                  <a:pt x="4504" y="2104"/>
                  <a:pt x="4560" y="2096"/>
                </a:cubicBezTo>
                <a:cubicBezTo>
                  <a:pt x="4616" y="2088"/>
                  <a:pt x="4672" y="544"/>
                  <a:pt x="4704" y="272"/>
                </a:cubicBezTo>
                <a:cubicBezTo>
                  <a:pt x="4736" y="0"/>
                  <a:pt x="4744" y="408"/>
                  <a:pt x="4752" y="4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1066680" y="4191120"/>
            <a:ext cx="8077320" cy="0"/>
          </a:xfrm>
          <a:prstGeom prst="line">
            <a:avLst/>
          </a:prstGeom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026"/>
          <p:cNvSpPr/>
          <p:nvPr/>
        </p:nvSpPr>
        <p:spPr>
          <a:xfrm>
            <a:off x="365040" y="193680"/>
            <a:ext cx="80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PREVALENCIA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1986 -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29"/>
          <p:cNvSpPr/>
          <p:nvPr/>
        </p:nvSpPr>
        <p:spPr>
          <a:xfrm>
            <a:off x="533520" y="1143000"/>
            <a:ext cx="8229600" cy="5386680"/>
          </a:xfrm>
          <a:prstGeom prst="rect">
            <a:avLst/>
          </a:prstGeom>
          <a:noFill/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SUSTANCIAS     1986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1988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  1992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        2003     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       87.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83.5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92.0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         87,9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87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       67.4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57.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66.0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         63,4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67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SEDANTE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       18.5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3.2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  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ANALGESICO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         9.9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21.6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1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HIPNOTICO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         0.9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0.8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 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ESTIMULANTE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         3.7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1.3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  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INHALANTE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         3.6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2.4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  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MARIHUANA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             8.3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5.3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      7.8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              10,3           1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ALUCINOGENOS            3.0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1.4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      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PBC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             4.0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2.8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      5.6                    4,1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3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COCAINA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             2.6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1.3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      2.0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3,9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30"/>
          <p:cNvSpPr/>
          <p:nvPr/>
        </p:nvSpPr>
        <p:spPr>
          <a:xfrm>
            <a:off x="539640" y="1628640"/>
            <a:ext cx="8229600" cy="0"/>
          </a:xfrm>
          <a:prstGeom prst="line">
            <a:avLst/>
          </a:prstGeom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31"/>
          <p:cNvSpPr/>
          <p:nvPr/>
        </p:nvSpPr>
        <p:spPr>
          <a:xfrm>
            <a:off x="2700360" y="1125360"/>
            <a:ext cx="0" cy="5334120"/>
          </a:xfrm>
          <a:prstGeom prst="line">
            <a:avLst/>
          </a:prstGeom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32"/>
          <p:cNvSpPr/>
          <p:nvPr/>
        </p:nvSpPr>
        <p:spPr>
          <a:xfrm>
            <a:off x="4067280" y="1125360"/>
            <a:ext cx="0" cy="5334120"/>
          </a:xfrm>
          <a:prstGeom prst="line">
            <a:avLst/>
          </a:prstGeom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33"/>
          <p:cNvSpPr/>
          <p:nvPr/>
        </p:nvSpPr>
        <p:spPr>
          <a:xfrm>
            <a:off x="5219640" y="1197000"/>
            <a:ext cx="0" cy="5334120"/>
          </a:xfrm>
          <a:prstGeom prst="line">
            <a:avLst/>
          </a:prstGeom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34"/>
          <p:cNvSpPr/>
          <p:nvPr/>
        </p:nvSpPr>
        <p:spPr>
          <a:xfrm>
            <a:off x="6443640" y="1197000"/>
            <a:ext cx="0" cy="532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35"/>
          <p:cNvSpPr/>
          <p:nvPr/>
        </p:nvSpPr>
        <p:spPr>
          <a:xfrm>
            <a:off x="7667640" y="1125360"/>
            <a:ext cx="0" cy="539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457200" y="380880"/>
            <a:ext cx="8381880" cy="65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Times New Roman"/>
              </a:rPr>
              <a:t>FASE DE PREDOMINIO DISFO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esta fase </a:t>
            </a: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desaparece la sensación eufórica y placentera y el sujeto vive una experiencia disfórica que se prolong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hasta que termine su cons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sde el punto de vista clínico podemos distin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a)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Un síndrome psicomotor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caracterizada por lentificación motora, rigidez muscular (“duro”) y mutismo (“muda”), torpeza motora, temblores, miocloni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b)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Síndrome paranoide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caracterizada por ánimo autoreferencial y persecutorio que algunas veces puede ser delusivo; pseudopercepciones auditivas, visuales, táctiles y olfato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c)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Otros síntom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tales como: trastornos de conciencia, despersonalización, fallas en atención y memoria, apagamiento de tendencias instin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304920" y="685800"/>
            <a:ext cx="8534160" cy="54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3300"/>
                </a:solidFill>
                <a:latin typeface="Times New Roman"/>
              </a:rPr>
              <a:t>FASE DE LA “BAJADA” Y “RESAC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l interrumpirse el consumo se produce </a:t>
            </a:r>
            <a:r>
              <a:rPr b="1" lang="es-MX" sz="2800" spc="-1" strike="noStrike">
                <a:solidFill>
                  <a:srgbClr val="3333ff"/>
                </a:solidFill>
                <a:latin typeface="Times New Roman"/>
              </a:rPr>
              <a:t>síntomas de privación muy intensa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, con ansiedad muy marcada pero que son de breve du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osteriormente aparecen un </a:t>
            </a:r>
            <a:r>
              <a:rPr b="1" lang="es-MX" sz="2800" spc="-1" strike="noStrike">
                <a:solidFill>
                  <a:srgbClr val="3333ff"/>
                </a:solidFill>
                <a:latin typeface="Times New Roman"/>
              </a:rPr>
              <a:t>síndrome depresivo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caracterizado por depresión, sentimientos de culpa, fatiga, irritabilidad, algias diversas, insomnio y anorexia que dura varias h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l día siguiente, al despertar el paciente, persiste muchas de esas molestias pero luego de una o 2 horas van desapareciend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684360" y="609480"/>
            <a:ext cx="800244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3300"/>
                </a:solidFill>
                <a:latin typeface="Times New Roman"/>
              </a:rPr>
              <a:t>INTOXICACION CRO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 característico es la instalación de lo que H. Rotondo llamó </a:t>
            </a: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Síndrome de Psicopatiz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uctas anti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uctas di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uctas a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bién es frecuente </a:t>
            </a: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Síndrome Depresivo y Psicosis Tóx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4"/>
          <p:cNvSpPr/>
          <p:nvPr/>
        </p:nvSpPr>
        <p:spPr>
          <a:xfrm>
            <a:off x="826920" y="184464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684360" y="1916280"/>
            <a:ext cx="8135640" cy="4209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TIPO DE TRASTORNO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 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            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ACTUAL             PASADO</a:t>
            </a:r>
            <a:r>
              <a:rPr b="1" lang="es-MX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00.0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0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Cualquier Trastorno</a:t>
            </a: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  55.7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7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rastornos Afectiv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43.3                 6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rastorno de Ansie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15.8                 2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rastornos Esquizofrenic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0.3                  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lcoholismo (RDC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28.9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6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rastorno de la Personal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7.7                   7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rastorno de la Infanci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2.3                 7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6"/>
          <p:cNvSpPr/>
          <p:nvPr/>
        </p:nvSpPr>
        <p:spPr>
          <a:xfrm>
            <a:off x="684360" y="3213000"/>
            <a:ext cx="806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7"/>
          <p:cNvSpPr/>
          <p:nvPr/>
        </p:nvSpPr>
        <p:spPr>
          <a:xfrm>
            <a:off x="4788000" y="1916280"/>
            <a:ext cx="0" cy="42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8"/>
          <p:cNvSpPr/>
          <p:nvPr/>
        </p:nvSpPr>
        <p:spPr>
          <a:xfrm>
            <a:off x="4788000" y="263700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6659640" y="2637000"/>
            <a:ext cx="0" cy="35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611280" y="18900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3300"/>
                </a:solidFill>
                <a:latin typeface="Times New Roman"/>
              </a:rPr>
              <a:t>COMORBILIDAD EN CONSUMIDORES DE COCA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026"/>
          <p:cNvSpPr/>
          <p:nvPr/>
        </p:nvSpPr>
        <p:spPr>
          <a:xfrm>
            <a:off x="457200" y="21877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663300"/>
                </a:solidFill>
                <a:latin typeface="Times New Roman"/>
              </a:rPr>
              <a:t>ALCOHOLISM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746280" y="623880"/>
            <a:ext cx="80168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3300"/>
                </a:solidFill>
                <a:latin typeface="Times New Roman"/>
              </a:rPr>
              <a:t>¿ QUE ES UNA BEBIDA O UN TRAG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bebida estándar que contiene 12 ó 13 gramos de alcohol pu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que equivale más o menos a las siguientes cant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Una botella chica de cerveza de 12 onzas (300 ml.) o un sh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Una copa de vino de 5 onz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1,5 onzas  o una copa pequeña de licores destilados con graduación de 8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026"/>
          <p:cNvSpPr/>
          <p:nvPr/>
        </p:nvSpPr>
        <p:spPr>
          <a:xfrm>
            <a:off x="762120" y="0"/>
            <a:ext cx="838188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3300"/>
                </a:solidFill>
                <a:latin typeface="Times New Roman"/>
              </a:rPr>
              <a:t>PERFIL DEL BEBEDOR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Se considera un bebedor normal a aquella persona qu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1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Tiene 16 años o 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2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Si es mujer, no esta embarazada ni en lac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3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sume una dieta balanceada y normocalórica, y tiene u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do nutritivo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4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ngiere bebidas alcohólicas aprobadas por las autorid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ni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5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No presenta embriaguez patológica o idiosincrá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6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ngiere alcohol sin consecuencias contingentes negativas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í mismo, ni para otros, y sin presentar problemas con la justi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7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sume bebidas alcohólicas sin perturbar la rel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eja, ni la vida familiar, ni el rendimiento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8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No depende del alcohol para alegrarse, desinhibirse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unic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9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No presenta patologías que se agravan o descompensan con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10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i bebe no se embri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026"/>
          <p:cNvSpPr/>
          <p:nvPr/>
        </p:nvSpPr>
        <p:spPr>
          <a:xfrm>
            <a:off x="611280" y="620640"/>
            <a:ext cx="8532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3300"/>
                </a:solidFill>
                <a:latin typeface="Times New Roman"/>
              </a:rPr>
              <a:t>BEBEDOR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la persona que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transgrede cualquiera de las características que hemos descrito para el bebedor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sentido es un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concepto más amplio que el de abuso y depend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pues incluye cualquier forma de ingestión de alcohol que directa o indirectamente produzca consecuencias negativas para el individuo o para terceros, en las áreas de salud, armonía familiar, rendimiento laboral o académico, seguridad personal,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cionamiento so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3300"/>
                </a:solidFill>
                <a:latin typeface="Times New Roman"/>
              </a:rPr>
              <a:t>FASES DEL ALCOHOLISMO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371600" y="1881360"/>
            <a:ext cx="373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1.  Fase in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2. Fase Prodr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3. Fase Cr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4. Fase Cr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09600" y="414000"/>
            <a:ext cx="72612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663300"/>
                </a:solidFill>
                <a:latin typeface="Times New Roman"/>
              </a:rPr>
              <a:t>FASE INICIAL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609480" y="1484280"/>
            <a:ext cx="8534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futuro alcohólico, al igual que cualquier persona, comienza bebiendo por razones so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n embargo, el beber le proporciona un premio que los otros no gozan: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el alivio de sus tensiones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premio es un estímulo que lo motiva a buscar las ocasiones que le ofrezcan este alivio; por lo que resulta bebiendo con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mayor frecuencia y cantidad que lo habit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n embargo en esta etapa el sujeto no es conciente del alivio que le produce el alcohol, sino que esto lo relaciona con el ambiente en el cual be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 fase tiene: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una duración de meses y aún años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684360" y="2055960"/>
          <a:ext cx="8208720" cy="4397400"/>
        </p:xfrm>
        <a:graphic>
          <a:graphicData uri="http://schemas.openxmlformats.org/drawingml/2006/table">
            <a:tbl>
              <a:tblPr/>
              <a:tblGrid>
                <a:gridCol w="957240"/>
                <a:gridCol w="906480"/>
                <a:gridCol w="904680"/>
                <a:gridCol w="906480"/>
                <a:gridCol w="906480"/>
                <a:gridCol w="907920"/>
                <a:gridCol w="906480"/>
                <a:gridCol w="906480"/>
                <a:gridCol w="906480"/>
              </a:tblGrid>
              <a:tr h="8175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sta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86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88 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2 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5 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7 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 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 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5 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/>
                    </a:solidFill>
                  </a:tcPr>
                </a:tc>
              </a:tr>
              <a:tr h="5508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coh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a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889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hu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ca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* Para las edades de 12 a 50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**Para las edades de 12 a 45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800"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*** Para las edades de 12 a 64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80"/>
          <p:cNvSpPr/>
          <p:nvPr/>
        </p:nvSpPr>
        <p:spPr>
          <a:xfrm>
            <a:off x="684360" y="1916280"/>
            <a:ext cx="8280360" cy="338436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1"/>
          <p:cNvSpPr/>
          <p:nvPr/>
        </p:nvSpPr>
        <p:spPr>
          <a:xfrm>
            <a:off x="611280" y="33336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3300"/>
                </a:solidFill>
                <a:latin typeface="Times New Roman"/>
              </a:rPr>
              <a:t>PREVALENCIA DE VIDA DE USO DE DROGAS ILEGALES PERU (1986-200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4080" y="414360"/>
            <a:ext cx="732636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3300"/>
                </a:solidFill>
                <a:latin typeface="Times New Roman"/>
              </a:rPr>
              <a:t>FASE PRODROMIC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539640" y="1413000"/>
            <a:ext cx="860436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caracteriza por la aparición de dos hechos  fundamentales en la evolución de la enferme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1. El palimpsesto alcohólico o lag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2. La aparición de una serie de comportamientos que indican que los licores han dejado de ser bebidas para convertirse en “necesidad”. (Dependencia Psicológi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. Prefiere bebidas fuer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 Aumento de toler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. ¡Vamos a seguirl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. Bebe demasiado en todas las reun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. Aumento de la frecuencia de la ingestión, buscand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textos diversos para ello (“que no hace daño”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e no está   prohibido”, et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3"/>
          <p:cNvSpPr/>
          <p:nvPr/>
        </p:nvSpPr>
        <p:spPr>
          <a:xfrm>
            <a:off x="685800" y="981000"/>
            <a:ext cx="8458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.  Bebe con avi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. Comienza a beber en situaciones en las que no se bebe habitua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. Se vuelve más reservado acerca de su forma de be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  No quiere ir a una reunión donde no haya beb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.  Se preocupa si en una fiesta va a haber beb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. No se anima a bailar si antes no b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.  No encuentra nada divertido si no b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l. Se molesta si los demás no beben, exige y se fija en lo que beben los de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. Se queja de lo poco que dan de beber en una reun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.  Bebe algo antes de una reunión, por si no dan suficiente; para entonarse o por si no hubiera lic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ñ.  Empieza a beber a solas o en su c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.  Cuida su prov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sta fase puede durar de algunos meses a 4 a 5 años.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3300"/>
                </a:solidFill>
                <a:latin typeface="Times New Roman"/>
              </a:rPr>
              <a:t>FASE  CRITIC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Text Box 1027"/>
          <p:cNvSpPr/>
          <p:nvPr/>
        </p:nvSpPr>
        <p:spPr>
          <a:xfrm>
            <a:off x="533520" y="1447920"/>
            <a:ext cx="8610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inicia con un síntoma clave: l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érdida de control o incapacidad para detenerse (síntoma de dependencia física)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enfermo bebe hasta alcanzar cierto grado de intoxicación aguda: son l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crisis de ingest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s con el tiempo se van haciendo más prolongadas: van pasando de horas, a días, semanas y me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 dejar de beber o reducir significativamente su consumo se presenta u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síndrome de abstinenci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gravedad progresivamente mayor conforme pasa el tiempo (por ejempl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delirium tremen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 las crisis de ingestión hay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eriodos de abstinenci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duración variable, incluso prolong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explicarse y explicar a los demás estos síntomas el enfermo comienza a desarrollar u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sistema de razonamient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ustificaciones y excusas a su manera de be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539640" y="1413000"/>
            <a:ext cx="860436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el tiempo este sistema de razonamiento fracasa, ya que no puede modificar una realidad evidente. Esto trae consecuencias a diversos niveles; as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algn="just">
              <a:lnSpc>
                <a:spcPct val="95000"/>
              </a:lnSpc>
              <a:buClr>
                <a:srgbClr val="0000ff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nivel personal: disminución cada vez mayor de la autoestima pers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algn="just">
              <a:lnSpc>
                <a:spcPct val="95000"/>
              </a:lnSpc>
              <a:buClr>
                <a:srgbClr val="0000ff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nivel familiar: hostilidad y rech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algn="just">
              <a:lnSpc>
                <a:spcPct val="95000"/>
              </a:lnSpc>
              <a:buClr>
                <a:srgbClr val="0000ff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nivel social: problemas en el trabajo, apartamiento de los amigos, disminución de la participación socia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do ello ocasiona en el paciente, simultáneament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sentimientos de culpa y resentimiento hacia los demás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ntimientos intolerables para él, que sola se puede aliviar o evitar a través de 2 conduc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algn="just">
              <a:lnSpc>
                <a:spcPct val="95000"/>
              </a:lnSpc>
              <a:buClr>
                <a:srgbClr val="0000ff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olver a beber (círculo vicios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algn="just">
              <a:lnSpc>
                <a:spcPct val="95000"/>
              </a:lnSpc>
              <a:buClr>
                <a:srgbClr val="0000ff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Sistema de aislamiento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otras veces incluye a la familia (unidad defensiva). </a:t>
            </a:r>
            <a:r>
              <a:rPr b="0" lang="es-ES_tradnl" sz="2400" spc="-1" strike="noStrike" u="sng">
                <a:solidFill>
                  <a:srgbClr val="b2b2b2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3"/>
          <p:cNvSpPr/>
          <p:nvPr/>
        </p:nvSpPr>
        <p:spPr>
          <a:xfrm>
            <a:off x="669960" y="1484280"/>
            <a:ext cx="8474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o determina que al final de esta fase el alcohol sea cada vez más indispensable para el paciente, por lo que comienza a beber en las mañanas y l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mbriaguez nocturn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la regla. También recurre a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ocultamiento</a:t>
            </a:r>
            <a:r>
              <a:rPr b="1" lang="es-ES_tradnl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bebidas alcohólicas para proteger su consumo, ante el control famil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urante esta fase es también frecuente las ocurrencias de divers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complicaciones médicas, neurológicas y psiquiátricas</a:t>
            </a:r>
            <a:r>
              <a:rPr b="1" lang="es-ES_tradnl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muchas veces hacen necesario su internamiento. Lamentablemente esta es la fase en la que la mayor parte de los alcohólicos recurre al tratamiento; y por lo tanto el objetivo terapéutico será la abstinencia total, ya que por la dependencia física si vuelve a beber se repetirá la pérdida de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sta fase generalmente dura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533520" y="8380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228600" y="331920"/>
            <a:ext cx="3962520" cy="3143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COMPLICACIONES MED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ígado  gr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irrosis hep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ipertensión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Gastritis agudas y cró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ancreatit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rdiopatía alcohó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s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nfecciones diver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arasitosi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4572000" y="304920"/>
            <a:ext cx="4114800" cy="3143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COMPLICACIONES PSIQUIA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mencia alcohó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rastorno amnésico o de Korsak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sicosis alcohó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mpotencia sex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s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09680" y="4343400"/>
            <a:ext cx="5334120" cy="161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COMPLICACIONES NEUROLO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vul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olineuritis perif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cefalopatía de Wernic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3300"/>
                </a:solidFill>
                <a:latin typeface="Times New Roman"/>
              </a:rPr>
              <a:t>FASE CRONIC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533520" y="213372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 inicia cuando el paciente comienza a presentar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incapacidad para abstenerse.</a:t>
            </a:r>
            <a:r>
              <a:rPr b="1" lang="es-ES_tradnl" sz="2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ambién en esta fase comienza a perder su tolerancia al alcohol por los problemas hepáticos asociados. Entonces ya es común encontrarlo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embriagado en el d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 final encontraremos un paciente con un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severo deterioro ético, orgánico y 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975960" y="623880"/>
            <a:ext cx="81799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6633"/>
                </a:solidFill>
                <a:latin typeface="Times New Roman"/>
              </a:rPr>
              <a:t>FASE</a:t>
            </a:r>
            <a:r>
              <a:rPr b="1" lang="es-ES_tradnl" sz="20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996633"/>
                </a:solidFill>
                <a:latin typeface="Times New Roman"/>
              </a:rPr>
              <a:t>                    </a:t>
            </a:r>
            <a:r>
              <a:rPr b="1" lang="es-ES_tradnl" sz="3200" spc="-1" strike="noStrike">
                <a:solidFill>
                  <a:srgbClr val="996633"/>
                </a:solidFill>
                <a:latin typeface="Times New Roman"/>
              </a:rPr>
              <a:t>TIPO DE BEBE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FASE INICI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EBEDOR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Dependencia sociocult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FASE PRODROM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EBEDOR EXCE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Dependencia psicológ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FASE CRIT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EBEDOR PATOLO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ENFERMEDAD ALCOHO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Dependencia fís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FASE CRON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EBEDOR INVETERADO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TIN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539640" y="549360"/>
            <a:ext cx="8604360" cy="62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3300"/>
                </a:solidFill>
                <a:latin typeface="Times New Roman"/>
              </a:rPr>
              <a:t>EMBRIAGUEZ PATOLÓ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algunos sujetos, aun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con dosis relativamente pequeñas de alcoho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la intoxicación adquiere características peculiares y que tienden a repetirse con nuevas ingest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conducta viol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nmotivada y sin objeto, que puede llegar a       la agresión física o a la autoagre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Confusión mental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resencia de alucinaciones, interpretaciones delirantes de la situación, afectividad exaltada, a veces conductas que separan absolutamente del patrón ético habitual del pa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todos los casos hay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gitación psicomotora, y amnesia posterior al episodio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 veces total o parcial, y dormir prolongado posterior. Clásicamente, se acepta que se desencadena ante pequeñas cantidades de alcohol, sin embargo, no es infrecuente el caso de su ocurrencia en medio de ingestiones masiv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539640" y="1413000"/>
            <a:ext cx="8604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urante el episodio, se han pesquisado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lteraciones del EEG inespecíf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n algunos casos. Varios autores atribuyen  mucha influencia en su desencadenamiento a otros factores,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specialmente el estré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o que explicaría porque no se presenta, necesariamente, cada vez que el afectado bebe alcoh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cuanto factores predisponentes los hay relacionados con la personalidad previa, aunque el rasgo agresividad o explosividad no es universal; un TEC puede cambiar la tolerancia al alcohol y la reacción conductual al mismo. Portadores de patología psiquiátrica previa, tales como psicosis, epilepsia, u otras pueden asimismo, presentar este cuad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a etapa aguda la conducta violenta se puede controlar con el uso de Haloperidol 2.5 a 5 mg. 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50920" y="1700280"/>
            <a:ext cx="8713800" cy="4608360"/>
          </a:xfrm>
          <a:prstGeom prst="rect">
            <a:avLst/>
          </a:prstGeom>
          <a:solidFill>
            <a:srgbClr val="ffffeb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244440" y="1601640"/>
          <a:ext cx="8864640" cy="456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1601640"/>
                    <a:ext cx="886464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539640" y="33336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3300"/>
                </a:solidFill>
                <a:latin typeface="Times New Roman"/>
              </a:rPr>
              <a:t>PREVALENCIA DE VIDA DE USO DE DROGAS ILEGALES PERU (1986-200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457920" y="380880"/>
            <a:ext cx="43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660240" y="247680"/>
            <a:ext cx="857484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3300"/>
                </a:solidFill>
                <a:latin typeface="Times New Roman"/>
              </a:rPr>
              <a:t>TRATAMIENTO DE LAS DEPENDENCIAS</a:t>
            </a: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PRINCIPI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 Deben hacerse a través de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rogramas Terapéuticos mu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structu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 Es fundamental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que el paciente este motiva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 Las primeras etapas es preferible hacerlo bajo régime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hospitalización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l cual debe ser volunt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 Técnicamente los programas más exitosos son los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multimod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- El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una herramienta fundamental en el tratamien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habil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- La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familia debe ser incorporad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 el proceso del tratamien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habil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- Debe usarse activamente los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grupos de soporte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.- Es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multidiciplinario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539640" y="404640"/>
            <a:ext cx="86043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3300"/>
                </a:solidFill>
                <a:latin typeface="Times New Roman"/>
              </a:rPr>
              <a:t>TRATAMIENTO</a:t>
            </a:r>
            <a:r>
              <a:rPr b="0" lang="es-ES_tradnl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663300"/>
                </a:solidFill>
                <a:latin typeface="Times New Roman"/>
              </a:rPr>
              <a:t>DEL SINDROME DE ABSTINENCIA ALCOHO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.- MANEJO NO FARMACOLOGICO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importante considerar condiciones ambientales que permi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minuir la estimulación pero lo suficientemente habituales que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ten la orientación del pa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apoyo y acogida del paciente son funda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iminar el café y otros estimulantes que puedan alterar el su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B.- MANEJO FARMAC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1.-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Medida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r la severidad de los sínto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itar prescribir fármacos mientras que aun el paciente este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oxicado con el alcoh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2.-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Hidratación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a rehidratación debe ser abundante t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vía oral (más de dos litros por día) o parenteral en cas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istencia de vómitos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413000"/>
            <a:ext cx="85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3.-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Vitaminas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Tiamina 60 a 90 mg IM día por 3 a 5 días luego oral por un mes; ácido fólico 1 mg al día; magnesio o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4.-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Benzodiazepinas: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la mejor alternativa terapéutica para los casos leves y moderados. Se puede prescribir diazepan 5 a 10 mg. cada 6 a 8 horas por 2 a 3 días; para luego bajar a la mitad cada 2 a 3 días  hasta lograr retirarlo. Es preferible la vía oral. También puede usarse lorazepan de 1 a 2 mg cada 8 horas por 2 o 3 días y seguir con la misma estrategia del retiro del diaze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5.-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Tratamiento del Delirium Tremens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una emergencia medico psiquiátrico con riesgo de mortalidad, se recomienda el uso de lorazepan a la que debe agregarse haloperidol 0.5 a 5 mg y repetir cada 6 a 8 horas hasta controlar los síntomas de ag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6.- Convulsion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Usar diazepan de 5 a 10 mg o lorazepan 2 a 4 m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dovenosos. En el caso de estatus epiléptico debe instalar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tamiento continuo con diazepan endovenoso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258920" y="1628640"/>
            <a:ext cx="7634160" cy="4608720"/>
          </a:xfrm>
          <a:prstGeom prst="rect">
            <a:avLst/>
          </a:prstGeom>
          <a:solidFill>
            <a:srgbClr val="ffffeb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684360" y="1916280"/>
          <a:ext cx="8459640" cy="419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16280"/>
                    <a:ext cx="8459640" cy="41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5"/>
          <p:cNvSpPr/>
          <p:nvPr/>
        </p:nvSpPr>
        <p:spPr>
          <a:xfrm>
            <a:off x="611280" y="2602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3300"/>
                </a:solidFill>
                <a:latin typeface="Times New Roman"/>
              </a:rPr>
              <a:t>PREVALENCIA DE VIDA DE USO DE DROGAS SEGÚN SEXO PERU (200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667640" y="6308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1628640"/>
            <a:ext cx="8208720" cy="4608720"/>
          </a:xfrm>
          <a:prstGeom prst="rect">
            <a:avLst/>
          </a:prstGeom>
          <a:solidFill>
            <a:srgbClr val="ffffeb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258920" y="1857240"/>
          <a:ext cx="7885080" cy="42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857240"/>
                    <a:ext cx="788508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4"/>
          <p:cNvSpPr/>
          <p:nvPr/>
        </p:nvSpPr>
        <p:spPr>
          <a:xfrm>
            <a:off x="1187280" y="333360"/>
            <a:ext cx="705672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1280" y="260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3300"/>
                </a:solidFill>
                <a:latin typeface="Times New Roman"/>
              </a:rPr>
              <a:t>PREVALENCIA DE VIDA DE USO DE DROGAS SEGÚN EDADES PERU (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667640" y="6381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258920" y="1628640"/>
            <a:ext cx="7634160" cy="4608720"/>
          </a:xfrm>
          <a:prstGeom prst="rect">
            <a:avLst/>
          </a:prstGeom>
          <a:solidFill>
            <a:srgbClr val="ffffeb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187280" y="404640"/>
            <a:ext cx="705672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755640" y="1990800"/>
          <a:ext cx="8137440" cy="410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90800"/>
                    <a:ext cx="813744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5"/>
          <p:cNvSpPr/>
          <p:nvPr/>
        </p:nvSpPr>
        <p:spPr>
          <a:xfrm>
            <a:off x="611280" y="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3300"/>
                </a:solidFill>
                <a:latin typeface="Times New Roman"/>
              </a:rPr>
              <a:t>PREVALENCIA DE VIDA DE USO DE DROGAS LEGALES POR REGIONES PERU (CEDRO-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1T13:27:08Z</dcterms:created>
  <dc:creator>Enrique Bojorquez</dc:creator>
  <dc:description/>
  <dc:language>en-US</dc:language>
  <cp:lastModifiedBy>Enrique Bojorquez Giraldo</cp:lastModifiedBy>
  <cp:lastPrinted>1997-12-11T14:09:06Z</cp:lastPrinted>
  <dcterms:modified xsi:type="dcterms:W3CDTF">2013-04-29T02:47:48Z</dcterms:modified>
  <cp:revision>126</cp:revision>
  <dc:subject/>
  <dc:title>AVANCES EN TRATAMIENTOS BIOLOGICOS EN DEPENDENCIA A DROGAS</dc:title>
</cp:coreProperties>
</file>