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4E5008-603B-4C5D-B23C-08A94084D6C9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F5F750-19BB-47CC-8F16-51E3A254D5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9080" y="4570560"/>
            <a:ext cx="5050080" cy="433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Desde los trabajos pioeros de Olds  y Miller en la década del 50 se ha podido establecer el centro de reforzamiento a las diversas susta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EA3-F0E1-40E6-BE52-61B0548A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4E2-78C4-489A-B954-D2E76C7C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06C-9EC7-4597-AC0F-4F57D4ED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CFD-418F-416D-A045-674E779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9F25-082B-4D88-9049-0950DBBB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8A6-4108-4E31-B540-FBA71B0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1616-C346-4C3A-A4F3-CC7DCE0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5BF1-49D3-47EF-87A1-42979210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DD9-05F6-456A-9FC4-24EB75A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2C19-513C-4A97-99BE-6CC5760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102D-F8B1-4F4F-A26F-749CEDB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9F0-0BA5-4EB6-ADC6-157645E0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CF81-A8DA-4148-91B5-D3D25557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AAF-6531-4421-8659-8234B95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BC89-1500-46EA-8BCA-BC70B67C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752-F624-47F0-8DA9-49ED8699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EC9-5908-4522-9AA6-6C37CCA9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545-715B-4E88-8EBE-FB7B231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C97-8356-4C56-BAA6-876EBB92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A5C-ACAC-4DD3-A742-E154AA4C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DB9-EC1A-4401-BAF2-F5CF4418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AA1-8663-435A-B99D-27B4C5B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9D4-1D9B-4474-8B78-65E6FDD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9C0-84C3-40CA-9B82-AF6599EC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3EE-73D1-45CD-8732-C76296DF19A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F22-FF6D-428A-A158-7C17AA70ABA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73040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663300"/>
                </a:solidFill>
                <a:latin typeface="Times New Roman"/>
              </a:rPr>
              <a:t>TRASTORNOS RELACIONADOS AL USO DE SUSTANCIA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71280" y="386028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Enrique Bojórquez Giral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Profesor Principal 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cultad de Medicina - UNMSM</a:t>
            </a:r>
            <a:r>
              <a:rPr b="0" lang="es-E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Jefe de las Asignaturas de Psiquiatría</a:t>
            </a: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 y Psicología Medica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- Facultad de Medicina - U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39640" y="1628640"/>
            <a:ext cx="835344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187280" y="404640"/>
            <a:ext cx="705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971640" y="1930320"/>
          <a:ext cx="763272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30320"/>
                    <a:ext cx="76327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5"/>
          <p:cNvSpPr/>
          <p:nvPr/>
        </p:nvSpPr>
        <p:spPr>
          <a:xfrm>
            <a:off x="611280" y="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OR REGIONES PERU (CEDRO-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395280" y="1382760"/>
            <a:ext cx="813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395280" y="1382760"/>
            <a:ext cx="0" cy="82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8532720" y="1382760"/>
            <a:ext cx="0" cy="82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8532720" y="263844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95280" y="2205000"/>
            <a:ext cx="0" cy="4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8532720" y="2205000"/>
            <a:ext cx="0" cy="4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395280" y="38498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95280" y="2638440"/>
            <a:ext cx="0" cy="1211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8532720" y="38498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395280" y="4365720"/>
            <a:ext cx="0" cy="49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8532720" y="4365720"/>
            <a:ext cx="0" cy="493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763640" y="1052640"/>
            <a:ext cx="662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1763640" y="1052640"/>
            <a:ext cx="0" cy="110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8388360" y="1052640"/>
            <a:ext cx="0" cy="110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1763640" y="297972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1763640" y="21589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8388360" y="297972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388360" y="21589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763640" y="3435480"/>
            <a:ext cx="0" cy="227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8388360" y="3435480"/>
            <a:ext cx="0" cy="227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3789360"/>
          <a:ext cx="8280360" cy="2324160"/>
        </p:xfrm>
        <a:graphic>
          <a:graphicData uri="http://schemas.openxmlformats.org/drawingml/2006/table">
            <a:tbl>
              <a:tblPr/>
              <a:tblGrid>
                <a:gridCol w="3193920"/>
                <a:gridCol w="1440000"/>
                <a:gridCol w="1879560"/>
                <a:gridCol w="176688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Prevalencia de Vid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Consumidores alguna v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e1"/>
                          </a:solidFill>
                          <a:latin typeface="Times New Roman"/>
                          <a:ea typeface="Arial"/>
                        </a:rPr>
                        <a:t>Depend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ihu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718,6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ogas cocaín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8,7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7,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0033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41"/>
          <p:cNvSpPr/>
          <p:nvPr/>
        </p:nvSpPr>
        <p:spPr>
          <a:xfrm>
            <a:off x="5508720" y="1484280"/>
            <a:ext cx="3240000" cy="23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24000" y="18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LA DEPENDENCIA A DROGAS PERU (CEDRO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39640" y="1557360"/>
            <a:ext cx="86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ún el National Comorbility Survey, respecto de quienes consumieron alguna vez en la vida,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podrían desarrollar dependencia el 9 % de los casos para la marihuana y el 17 % para las drogas cocainic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 En el presente estudio este dato se reflej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324000" y="630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EI 2005: Población Perú Urbano de 12 a 64 años 14`442,7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11280" y="457200"/>
            <a:ext cx="835344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3300"/>
                </a:solidFill>
                <a:latin typeface="Times New Roman"/>
              </a:rPr>
              <a:t>ET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ultifactorial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mplejo y aún no plenamente deter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luye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actores asociados al sujeto, al medio social y a la naturaleza de la dro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que se cons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obstante, parece constatarse que las causas que promueven los primeros consumos difieren de las que determinan el mantenimiento del uso de la dr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225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lantean diversos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odelos Teór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que intentan explicar el problema desde perspectiva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663300"/>
                </a:solidFill>
                <a:latin typeface="Times New Roman"/>
              </a:rPr>
              <a:t>MODELO INTEG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últimos años se ha reformulado el paradigma conductual de la adicción a drogas: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a conducta de búsqueda de drog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viene siendo considerada el factor princip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conducta de búsqueda de drogas es influida p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fectos reforzadores positivos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fectos discrimin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ímulos  condicion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fectos avers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a habilidad de una droga para servir como reforzador positivo es el requerimiento mínimo para que el organismo mantenga una conducta de búsqueda de droga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204920" y="1971720"/>
            <a:ext cx="74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059280" y="260280"/>
            <a:ext cx="38890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CONDUCTA DE BUSQU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ACTIVA   DE LA DR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92440" y="1981080"/>
            <a:ext cx="1791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Aver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l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750040" y="2057400"/>
            <a:ext cx="21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Discriminati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908240" y="2057400"/>
            <a:ext cx="20232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Efectos Refor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875280" y="205740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ímulos condicio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efecto de una dro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994320" y="289548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os posi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ufo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995760" y="365760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iberación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994320" y="457200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ument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919080" y="5562720"/>
            <a:ext cx="200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ivio de los sínt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de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617920" y="410040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ec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Conduct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4232160" y="4100400"/>
            <a:ext cx="130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ecanis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Ne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5608080" y="411480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Times New Roman"/>
              </a:rPr>
              <a:t>Modul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7545960" y="2971800"/>
            <a:ext cx="9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7622640" y="380988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e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545240" y="4648320"/>
            <a:ext cx="11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du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318800" y="563868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istoria de u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Fárma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355920" y="5715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noam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014800" y="5624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3059280" y="260280"/>
            <a:ext cx="3886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990720" y="2057400"/>
            <a:ext cx="16761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743200" y="205740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4952880" y="2057400"/>
            <a:ext cx="1828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6915240" y="2057400"/>
            <a:ext cx="22096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1009800" y="28195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971640" y="365760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952560" y="449568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914400" y="5486400"/>
            <a:ext cx="200016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7315200" y="37339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"/>
          <p:cNvSpPr/>
          <p:nvPr/>
        </p:nvSpPr>
        <p:spPr>
          <a:xfrm>
            <a:off x="7315200" y="289548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2"/>
          <p:cNvSpPr/>
          <p:nvPr/>
        </p:nvSpPr>
        <p:spPr>
          <a:xfrm>
            <a:off x="7315200" y="457200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7315200" y="5562720"/>
            <a:ext cx="1523880" cy="685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4"/>
          <p:cNvSpPr/>
          <p:nvPr/>
        </p:nvSpPr>
        <p:spPr>
          <a:xfrm>
            <a:off x="2571840" y="3981600"/>
            <a:ext cx="144756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5"/>
          <p:cNvSpPr/>
          <p:nvPr/>
        </p:nvSpPr>
        <p:spPr>
          <a:xfrm>
            <a:off x="4172040" y="4000680"/>
            <a:ext cx="12952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6"/>
          <p:cNvSpPr/>
          <p:nvPr/>
        </p:nvSpPr>
        <p:spPr>
          <a:xfrm>
            <a:off x="5600880" y="4038480"/>
            <a:ext cx="1295280" cy="838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4941000" y="57006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uropép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3276720" y="5657760"/>
            <a:ext cx="13716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4876920" y="5657760"/>
            <a:ext cx="1523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0"/>
          <p:cNvSpPr/>
          <p:nvPr/>
        </p:nvSpPr>
        <p:spPr>
          <a:xfrm flipV="1">
            <a:off x="2819520" y="48002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1"/>
          <p:cNvSpPr/>
          <p:nvPr/>
        </p:nvSpPr>
        <p:spPr>
          <a:xfrm flipV="1">
            <a:off x="249552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2"/>
          <p:cNvSpPr/>
          <p:nvPr/>
        </p:nvSpPr>
        <p:spPr>
          <a:xfrm>
            <a:off x="2514600" y="3962520"/>
            <a:ext cx="3049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2514600" y="31240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4"/>
          <p:cNvSpPr/>
          <p:nvPr/>
        </p:nvSpPr>
        <p:spPr>
          <a:xfrm flipV="1">
            <a:off x="3505320" y="26665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5"/>
          <p:cNvSpPr/>
          <p:nvPr/>
        </p:nvSpPr>
        <p:spPr>
          <a:xfrm flipH="1">
            <a:off x="5029200" y="266688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6"/>
          <p:cNvSpPr/>
          <p:nvPr/>
        </p:nvSpPr>
        <p:spPr>
          <a:xfrm>
            <a:off x="5486400" y="2666880"/>
            <a:ext cx="7621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7"/>
          <p:cNvSpPr/>
          <p:nvPr/>
        </p:nvSpPr>
        <p:spPr>
          <a:xfrm flipH="1">
            <a:off x="6552720" y="327672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8"/>
          <p:cNvSpPr/>
          <p:nvPr/>
        </p:nvSpPr>
        <p:spPr>
          <a:xfrm flipH="1">
            <a:off x="6858000" y="4114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9"/>
          <p:cNvSpPr/>
          <p:nvPr/>
        </p:nvSpPr>
        <p:spPr>
          <a:xfrm>
            <a:off x="6800760" y="46483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0"/>
          <p:cNvSpPr/>
          <p:nvPr/>
        </p:nvSpPr>
        <p:spPr>
          <a:xfrm>
            <a:off x="6648480" y="480060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 flipH="1">
            <a:off x="3886200" y="481968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4724280" y="481968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 flipH="1">
            <a:off x="1676520" y="6858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4"/>
          <p:cNvSpPr/>
          <p:nvPr/>
        </p:nvSpPr>
        <p:spPr>
          <a:xfrm>
            <a:off x="3733920" y="1219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5"/>
          <p:cNvSpPr/>
          <p:nvPr/>
        </p:nvSpPr>
        <p:spPr>
          <a:xfrm>
            <a:off x="5791320" y="1219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6934320" y="68580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30412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NEUROBIOLOGIA DE LOS SISTEMAS DE RECOMPENS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5820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nivel Neuroanatómico se involucran el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área Ventrotegmental  anterior, Cerebro anteri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Núcleo Acumbens, Tubérculo olfatorio, Corteza frontal y la Amígdala)  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y los circuitos dopaminérgicos que unen estas áre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han propuesto tres sistemas de Neurotrasmi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Dopamin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obre todo a través de los sistemas Nigroestriado y Mesocorticolímbico (cocaína, anfetaminas y etanol ). Aquí es importante las experiencias relacionados con el papel que cumple el núcleo acum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GAB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u receptor es un macrocomplejo al que se unen también las benzodiacepinas, barbituricos y alcohol; aumentando el influjo del ion clor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484280"/>
            <a:ext cx="8893080" cy="53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éptidos Opioi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obre todo a través del núcleo Acumbens, Hipocampo e Hipotálamo. A estas sustancias se le atribuyen 3 grandes funcion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Modulación de la nocicepción proveniente de estímulos dolorosos o estresan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ecanismos de recompensa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Otras funciones homeostáticas diversas como la ingesta de alimento, agua y regulación de la temperat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e sentido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os opioides tienen propiedades estimulantes de los  sistemas de recompen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tanto por su relación con la dopamina como también independiente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21680" cy="6824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10960" y="152280"/>
            <a:ext cx="686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3300"/>
                </a:solidFill>
                <a:latin typeface="Verdana"/>
              </a:rPr>
              <a:t>ASPECTOS BIOLÓGICOS DE LA DEPENDENCIA A</a:t>
            </a:r>
            <a:r>
              <a:rPr b="1" lang="es-PE" sz="1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663300"/>
                </a:solidFill>
                <a:latin typeface="Verdana"/>
              </a:rPr>
              <a:t>SUSTANCIA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4724280"/>
            <a:ext cx="8839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s-PE" sz="2400" spc="-1" strike="noStrike">
                <a:solidFill>
                  <a:srgbClr val="0000cc"/>
                </a:solidFill>
                <a:latin typeface="Arial Narrow"/>
              </a:rPr>
              <a:t>Áreas cerebrales asociadas a la adicción: Centro de Refor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a)  Estimulación y reforzamiento: área  tegmental ventral, núcleo accumbens , haz frontal anterior (corteza orbito frontal, cíngu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b)  Memoria emocional: amígd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cc"/>
                </a:solidFill>
                <a:latin typeface="Arial"/>
              </a:rPr>
              <a:t>c)  Síndrome de abstinencia : Locus Coeru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2057400" y="685800"/>
          <a:ext cx="5105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5105520" cy="4038480"/>
                  </a:xfrm>
                  <a:prstGeom prst="rect">
                    <a:avLst/>
                  </a:prstGeom>
                  <a:ln w="7632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5840" y="279360"/>
            <a:ext cx="775656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NEUROQUIMICA DE LA COCAIN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1920" y="1844640"/>
            <a:ext cx="845172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CAMBIOS  AGU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Bloqueo de la recap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 (más o menos 8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cremento de la disponibili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 a nivel de los espacios sináp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Sensibilización de los receptores postsináp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 y 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571680"/>
            <a:ext cx="860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CAMBIOS CRONICOS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Hipersensibilidad prolongada e irreversible de los receptor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cremento de los receptores postsinápt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epauperización de los niveles metabólic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dopamina, norepinefrina y seroton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cremento de la actividad hidroxilasa tirosina y disminución de triptofan hidroxilasa y de la asimilación de triptof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mento del funcionamiento opiáceo-endógeno (endorfina/encefali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11280" y="189000"/>
            <a:ext cx="8532720" cy="69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3300"/>
                </a:solidFill>
                <a:latin typeface="Times New Roman"/>
              </a:rPr>
              <a:t>INT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rogas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han dejado de ser un problema aislado y se han convertido en  global y grav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habiendo sido incorporado a  la agenda internacional desde la década del 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 al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egundo rubro del comercio mund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olo superado por el comercio de a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 penetrado la vida política y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la violencia política y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los accidentes de tran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violencia famil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asociado a una mayor morbilidad medica y psiquiátrica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04_DAbifas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850160" cy="15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SEROTONINA Y COCAIN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caín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inhibe la recaptación de serotonina 2 a 4 veces más que la dopam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rotonina produciría u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fecto de tipo amortiguación sobre la euforia asociada al uso de coca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crónico de cocaína produciría u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ecrecimiento de los mecanismos autorreguladores de la seroton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lo que se traduciría en problemas clínicos como depresión, psicos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6_hiperacCPF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24000" y="6093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urante el consumo activo de estimulantes como la cocaína o la anfetamina, el CPF está hiperact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17_hipoacCPF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0920" y="6237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urante la abstinencia la CPF es hipofuncio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21_emoneuroimag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s regiones limbicas se activaban al mismo tiempo que el sujeto experimentaba deseo de consumo (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craving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250920" y="404640"/>
            <a:ext cx="88930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FACTORES FAMILIARES QUE DISMINUYEN LA PROBABILIDAD DE  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hijos percibe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ás amo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ambos progenitores,   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articularmente del pad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adres tienen un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buena relación con los amigos de sus hijo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serva un acuerdo más espontáneo en lo referente a l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solución de proble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a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ás democráticament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on autoridad compartida y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mejor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spcAft>
                <a:spcPts val="700"/>
              </a:spcAft>
              <a:buClr>
                <a:srgbClr val="3333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Son más capaces de preparar a sus hijos para la vida ad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0" y="189000"/>
            <a:ext cx="914400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3300"/>
                </a:solidFill>
                <a:latin typeface="Times New Roman"/>
              </a:rPr>
              <a:t>DISFUNCION MARITAL Y FARMACODEPEND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 algn="just">
              <a:lnSpc>
                <a:spcPct val="100000"/>
              </a:lnSpc>
              <a:spcAft>
                <a:spcPts val="349"/>
              </a:spcAft>
              <a:buClr>
                <a:srgbClr val="3333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arejas de padre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 FD muestran un grado de cohesión variable, pero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racasan en su adaptabili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s decir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en la capacidad de cambi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respuesta a la crisis del ciclo vital familiar y a las situaciones de estrés provenientes del medio social. Se trata de parejas co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liderazgo ineficaz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e lo que resultan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fallas en el ejercicio de la discipli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en la adopción de decisiones adecuadas y en el establecimiento de reg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suma,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 la dificultad mayor se hall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en el eje de cohesión (ligazón afectiva), sino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de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la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 adaptabilidad (capacidad para cambi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50920" y="155736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os miembros de l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díada marital se encuentran afectivamente muy distantes</a:t>
            </a:r>
            <a:r>
              <a:rPr b="0" lang="es-E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pero se cohesionan una vez conocido el problema del hi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Ello explica el que en esta dimensión (cohesión), la disfuncionalidad se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os sistemas familiares con un hijo dependiente. se encuentran sometidos 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resiones inter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– producto de la crisis de la adolescencia -, tanto como a </a:t>
            </a:r>
            <a:r>
              <a:rPr b="1" lang="es-ES" sz="2800" spc="-1" strike="noStrike">
                <a:solidFill>
                  <a:srgbClr val="3333ff"/>
                </a:solidFill>
                <a:latin typeface="Times New Roman"/>
              </a:rPr>
              <a:t>presiones exter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sto es, aquella que tienen que ver con un medio social que no aporta lo necesario para la realización de las expectativas legítimas del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050"/>
          <p:cNvSpPr/>
          <p:nvPr/>
        </p:nvSpPr>
        <p:spPr>
          <a:xfrm>
            <a:off x="517680" y="0"/>
            <a:ext cx="840888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CLASIFICACION DE LAS DROGAS CAPACES DE PRODUCIR DEPENDENCIA (Según su acción farmacológica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 DROGAS ESTIMULANTES DEL S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Coca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Caf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Anfetamina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 DROGAS DEPRESORAS DEL S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Tranquilizante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Op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Solventes volátiles o inhal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C) DROGAS DE EFECTOS MIX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Canna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Alucin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MDMA o éx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880920" y="141120"/>
            <a:ext cx="7696440" cy="477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189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663300"/>
                </a:solidFill>
                <a:latin typeface="Arial Black"/>
              </a:rPr>
              <a:t>PATRONES DE CONSUM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150920" y="4076640"/>
            <a:ext cx="2709720" cy="1687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64" name="AutoShape 4"/>
          <p:cNvSpPr/>
          <p:nvPr/>
        </p:nvSpPr>
        <p:spPr>
          <a:xfrm>
            <a:off x="0" y="662760"/>
            <a:ext cx="297180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1. CONSUMO EXPERIME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824440" y="623880"/>
            <a:ext cx="3319560" cy="414360"/>
          </a:xfrm>
          <a:prstGeom prst="downArrowCallout">
            <a:avLst>
              <a:gd name="adj1" fmla="val 0"/>
              <a:gd name="adj2" fmla="val 0"/>
              <a:gd name="adj3" fmla="val 0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cc"/>
                </a:solidFill>
                <a:latin typeface="Arial Black"/>
              </a:rPr>
              <a:t>3. CONSUMO SOCIAL U OCA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048120" y="586440"/>
            <a:ext cx="297972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2. </a:t>
            </a:r>
            <a:r>
              <a:rPr b="0" lang="es-PE" sz="1200" spc="-1" strike="noStrike">
                <a:solidFill>
                  <a:srgbClr val="0000cc"/>
                </a:solidFill>
                <a:latin typeface="Arial Black"/>
              </a:rPr>
              <a:t>CONSUMO CIRCUNST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838080" y="3710520"/>
            <a:ext cx="399744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4. ABUSO O CONSUMO PERJUD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8400" y="2673360"/>
            <a:ext cx="2641320" cy="843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Por curiosidad o moda 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sume en una o po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ocasiones sin continua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156360" y="2781360"/>
            <a:ext cx="2708280" cy="7729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En fiestas, celebraciones o p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presión de amigos, de grupos 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sume la sustan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2913120" y="2673360"/>
            <a:ext cx="3030480" cy="971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onsumo eventual determinado p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ircunstancias específicas. Ejem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onsumo de anfetaminas x estudian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tes o choferes para suprimir sueñ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826920" y="5992920"/>
            <a:ext cx="3614760" cy="820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Se presentan problemas personales, físicos 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mentales debido a excesos en el consum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 </a:t>
            </a: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sin llegar a criterios de dependencia</a:t>
            </a:r>
            <a:r>
              <a:rPr b="0" lang="es-ES_tradnl" sz="1300" spc="-1" strike="noStrike">
                <a:solidFill>
                  <a:srgbClr val="000008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2" descr="BD10825_"/>
          <p:cNvPicPr/>
          <p:nvPr/>
        </p:nvPicPr>
        <p:blipFill>
          <a:blip r:embed="rId2"/>
          <a:stretch/>
        </p:blipFill>
        <p:spPr>
          <a:xfrm>
            <a:off x="5940360" y="4005360"/>
            <a:ext cx="1897200" cy="1969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73" name="AutoShape 13"/>
          <p:cNvSpPr/>
          <p:nvPr/>
        </p:nvSpPr>
        <p:spPr>
          <a:xfrm>
            <a:off x="5410080" y="3710520"/>
            <a:ext cx="3048120" cy="437400"/>
          </a:xfrm>
          <a:prstGeom prst="downArrowCallout">
            <a:avLst>
              <a:gd name="adj1" fmla="val 0"/>
              <a:gd name="adj2" fmla="val 0"/>
              <a:gd name="adj3" fmla="val 135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cc"/>
                </a:solidFill>
                <a:latin typeface="Arial Black"/>
              </a:rPr>
              <a:t>5. CONSUMO DEPENDI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5003640" y="6162840"/>
            <a:ext cx="3889440" cy="55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_tradnl" sz="1300" spc="-1" strike="noStrike">
                <a:solidFill>
                  <a:srgbClr val="000008"/>
                </a:solidFill>
                <a:latin typeface="Arial"/>
              </a:rPr>
              <a:t>Cumple con Criterios Diagnósticos de Dependencia ICD-10/DSM-IV (uso compulsivo e incapacidad de controlar su consumo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5" descr="HM00363_"/>
          <p:cNvPicPr/>
          <p:nvPr/>
        </p:nvPicPr>
        <p:blipFill>
          <a:blip r:embed="rId3"/>
          <a:stretch/>
        </p:blipFill>
        <p:spPr>
          <a:xfrm>
            <a:off x="304920" y="914400"/>
            <a:ext cx="2361960" cy="1600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6" descr="BS00559_"/>
          <p:cNvPicPr/>
          <p:nvPr/>
        </p:nvPicPr>
        <p:blipFill>
          <a:blip r:embed="rId4"/>
          <a:stretch/>
        </p:blipFill>
        <p:spPr>
          <a:xfrm>
            <a:off x="3200400" y="1066680"/>
            <a:ext cx="2590920" cy="1447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j0168498"/>
          <p:cNvPicPr/>
          <p:nvPr/>
        </p:nvPicPr>
        <p:blipFill>
          <a:blip r:embed="rId5"/>
          <a:stretch/>
        </p:blipFill>
        <p:spPr>
          <a:xfrm>
            <a:off x="6629400" y="990720"/>
            <a:ext cx="1674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39640" y="838080"/>
            <a:ext cx="8223480" cy="5653080"/>
          </a:xfrm>
          <a:prstGeom prst="rect">
            <a:avLst/>
          </a:prstGeom>
          <a:solidFill>
            <a:srgbClr val="ffff00"/>
          </a:solidFill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IMEROS ESTUDIOS (ALCOH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RIATEGUI E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N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2.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ET 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NDOCI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ET A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CHACAMA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9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VEDO Y ALMEI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BLACIO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STANEDA J.F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SAGRAN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25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3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AUS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IEVENOW W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P. AZUCA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5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TONDO Y BAZA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TAR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6.2% D.A</a:t>
            </a:r>
            <a:r>
              <a:rPr b="1" lang="es-ES_tradnl" sz="1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97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OBREROS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11.4% I.E</a:t>
            </a:r>
            <a:r>
              <a:rPr b="1" lang="es-ES_tradnl" sz="1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HRISTIANSEN Y MALC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UJ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Pueblo Joven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3333ff"/>
                </a:solidFill>
                <a:latin typeface="Times New Roman"/>
              </a:rPr>
              <a:t>9.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539640" y="1484280"/>
            <a:ext cx="822960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10400" y="0"/>
            <a:ext cx="49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3300"/>
                </a:solidFill>
                <a:latin typeface="Times New Roman"/>
              </a:rPr>
              <a:t>EPIDEM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533520" y="2286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533520" y="281952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539640" y="328464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V="1">
            <a:off x="611280" y="4005000"/>
            <a:ext cx="8151840" cy="4284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539640" y="4653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39640" y="530064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539640" y="5877000"/>
            <a:ext cx="822960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1413000"/>
            <a:ext cx="0" cy="510516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7162920" y="1371600"/>
            <a:ext cx="0" cy="51055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026"/>
          <p:cNvSpPr/>
          <p:nvPr/>
        </p:nvSpPr>
        <p:spPr>
          <a:xfrm>
            <a:off x="533520" y="189000"/>
            <a:ext cx="86709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33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CRITERIOS DE DEPENDENCIA DE SUSTANCIAS (DSM-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atrón desadaptativo de consumo de la susta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nlleva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deterioro o malestar clínicamente signific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xpresado por tres o más de los ítems siguientes en algún momento de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un periodo continuado de 12 me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Tolerancia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a por cualquiera de los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so de cantidades marcadamente crecientes de la sustanci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onseguir la intoxicación o los efect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efecto de las mismas cantidades de sustancia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ramente con su consumo continu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bstine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finida por cualquiera de los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Síndrome de Abstinencia característico para la su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e toma la misma sustancia o una muy parecida para aliviar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itar los síntomas de abstin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539640" y="189000"/>
            <a:ext cx="8604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ustancia es tomada con frecuencia en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cantidades mayores o durante un periodo más larg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 que inicialmente se preten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 un deseo persistente o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esfuerzos infructuosos de controlar o interrumpir el consum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mplea mucho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tiemp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actividades relacionadas con la obtención y el consumo de la sustancia o en la recuperación de los efectos de la susta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Reducción de importante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sociales, laborales o recreativas debido al consumo de la su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e continua tomando la susta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pesar de tener conciencia de problemas psicológicos o físicos recidivantes o persistentes que parecen causados o exacerbados por el consumo de la su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68360" y="304920"/>
            <a:ext cx="8675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CRITERIOS PARA ABUSO DE SUSTANCIAS (DSM-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atrón desadaptativo de consumo de la sustanc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conlleva u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deterioro o malestar clínicamente signific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xpresado por uno o más de los ítems siguientes en algún momento de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un periodo continuado de 12 me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recurrente de sustancias, que da lugar al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incumplimiento de oblig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el trabajo, la escuela o en su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recurrente de la sustancia en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ituaciones en las que hacerlo es físicamente pelig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oblemas leg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epetidos relacionados con la su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o continuado de la sustancia a pesar de tener 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problemas sociales continuos o recurrentes o problemas interperson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ausados o exacerbados por los efectos de la su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s síntomas no han cumplido nunca los criterios para la dependencia de sustancias de esa clase de dro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52880" y="19368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2760" y="803160"/>
            <a:ext cx="8626320" cy="558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pendencia     Abuso    Intoxicación    Abs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sioli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523880"/>
            <a:ext cx="853452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838080"/>
            <a:ext cx="0" cy="548640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362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30481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3733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4495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4876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5638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6019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765000"/>
            <a:ext cx="0" cy="563904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762120"/>
            <a:ext cx="0" cy="563868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762120"/>
            <a:ext cx="0" cy="563868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066680"/>
            <a:ext cx="8610480" cy="6311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lirium  Delirium  Demencia   Trastorno    Psic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Intox.       Abst.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   Amnésico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  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             I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      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sioliticos   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2200" y="30492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590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276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657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05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5486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5867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6248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1052640"/>
            <a:ext cx="0" cy="556236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1066680"/>
            <a:ext cx="8610480" cy="558036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Trastorno      Trastorno    Disfunción    Tras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3333ff"/>
                </a:solidFill>
                <a:latin typeface="Times New Roman"/>
              </a:rPr>
              <a:t>del Humor     Ansiedad.       Sexual        del Sueño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             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ucinóge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feta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fe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nabi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ciclidi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hala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c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io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 Ansioli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I/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I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11280" y="105264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2200" y="22860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DIAGNOSTICOS ASOCIADOS A USO DE SUST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4197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105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5486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867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6248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06668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1066680"/>
            <a:ext cx="0" cy="556272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1066680"/>
            <a:ext cx="0" cy="5486400"/>
          </a:xfrm>
          <a:prstGeom prst="line">
            <a:avLst/>
          </a:prstGeom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620640"/>
            <a:ext cx="8686800" cy="62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3300"/>
                </a:solidFill>
                <a:latin typeface="Times New Roman"/>
              </a:rPr>
              <a:t>COCA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1.- INTOXICACION AGU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.- INTOXICACION CR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ff"/>
                </a:solidFill>
                <a:latin typeface="Times New Roman"/>
              </a:rPr>
              <a:t>FASES DE LA INTOXICACION AGUDA POR PASTA DE C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Aparición de la A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Euforia-disf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predominio disf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ase de la “bajada” o “resa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611280" y="380880"/>
            <a:ext cx="853272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LA APARICION DE LA A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e instala muy rápidament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semanas a me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ínicamente se encuentra: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ansiedad cada vez mas intensa y crecient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con gran inquietud psicomotora,  ideas obsesivas y actos compulsivos e impulsivos relacionados con los rituales del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petencia aparece cuando el sujeto es expuesto a diversos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estímulos discriminativos asociados al consum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La hora del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abur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disponer tiempo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el disponer de diner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instala un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índrome de Abstinencia condic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304920" y="380880"/>
            <a:ext cx="883908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LA EUFORIA-DISF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ff"/>
                </a:solidFill>
                <a:latin typeface="Times New Roman"/>
              </a:rPr>
              <a:t>1.-</a:t>
            </a:r>
            <a:r>
              <a:rPr b="1" lang="es-MX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primera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aspirada del primer “tabacazo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roduce 02 efecto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Reducción brusca e inmediata de la angust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los otros síntomas de abstin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) Una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ensación de euforia y expansividad intens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pero muy breve (segu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2. -</a:t>
            </a:r>
            <a:r>
              <a:rPr b="0" lang="es-MX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mediatamente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vuelve a reaparecer la angustia con más intensidad y esto obliga al usuario a continuar consumien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generándose un 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ube y baja” entre la sensación de angustia y la  sensación de euforia y plac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pero en las que estas últimas sensaciones van desapareciendo progresivamente cediendo ante la angustia (disforia). Esto ocurre hasta el cuarto o quinto tabacazo en pro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304920" y="457200"/>
            <a:ext cx="8458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ff"/>
                </a:solidFill>
                <a:latin typeface="Times New Roman"/>
              </a:rPr>
              <a:t>3.-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Desde un punto de vista clínico hay un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síndrome vegetativo sensori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aquicardia, hiperhidrosis, deseos de miccionar y defecar, parestesias, temblor digital, hipersensibilidad auditiva y olfatoria, etc. También ideas parano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DISF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(Ansi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EUF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1066680" y="1828800"/>
            <a:ext cx="7543800" cy="4432320"/>
          </a:xfrm>
          <a:custGeom>
            <a:avLst/>
            <a:gdLst/>
            <a:ahLst/>
            <a:rect l="l" t="t" r="r" b="b"/>
            <a:pathLst>
              <a:path w="4752" h="3944">
                <a:moveTo>
                  <a:pt x="0" y="2144"/>
                </a:moveTo>
                <a:cubicBezTo>
                  <a:pt x="100" y="1376"/>
                  <a:pt x="200" y="608"/>
                  <a:pt x="336" y="896"/>
                </a:cubicBezTo>
                <a:cubicBezTo>
                  <a:pt x="472" y="1184"/>
                  <a:pt x="648" y="3944"/>
                  <a:pt x="816" y="3872"/>
                </a:cubicBezTo>
                <a:cubicBezTo>
                  <a:pt x="984" y="3800"/>
                  <a:pt x="1192" y="504"/>
                  <a:pt x="1344" y="464"/>
                </a:cubicBezTo>
                <a:cubicBezTo>
                  <a:pt x="1496" y="424"/>
                  <a:pt x="1648" y="3656"/>
                  <a:pt x="1728" y="3632"/>
                </a:cubicBezTo>
                <a:cubicBezTo>
                  <a:pt x="1808" y="3608"/>
                  <a:pt x="1752" y="344"/>
                  <a:pt x="1824" y="320"/>
                </a:cubicBezTo>
                <a:cubicBezTo>
                  <a:pt x="1896" y="296"/>
                  <a:pt x="2048" y="3496"/>
                  <a:pt x="2160" y="3488"/>
                </a:cubicBezTo>
                <a:cubicBezTo>
                  <a:pt x="2272" y="3480"/>
                  <a:pt x="2384" y="352"/>
                  <a:pt x="2496" y="272"/>
                </a:cubicBezTo>
                <a:cubicBezTo>
                  <a:pt x="2608" y="192"/>
                  <a:pt x="2728" y="3024"/>
                  <a:pt x="2832" y="3008"/>
                </a:cubicBezTo>
                <a:cubicBezTo>
                  <a:pt x="2936" y="2992"/>
                  <a:pt x="3032" y="240"/>
                  <a:pt x="3120" y="176"/>
                </a:cubicBezTo>
                <a:cubicBezTo>
                  <a:pt x="3208" y="112"/>
                  <a:pt x="3256" y="2616"/>
                  <a:pt x="3360" y="2624"/>
                </a:cubicBezTo>
                <a:cubicBezTo>
                  <a:pt x="3464" y="2632"/>
                  <a:pt x="3632" y="280"/>
                  <a:pt x="3744" y="224"/>
                </a:cubicBezTo>
                <a:cubicBezTo>
                  <a:pt x="3856" y="168"/>
                  <a:pt x="3928" y="2272"/>
                  <a:pt x="4032" y="2288"/>
                </a:cubicBezTo>
                <a:cubicBezTo>
                  <a:pt x="4136" y="2304"/>
                  <a:pt x="4280" y="352"/>
                  <a:pt x="4368" y="320"/>
                </a:cubicBezTo>
                <a:cubicBezTo>
                  <a:pt x="4456" y="288"/>
                  <a:pt x="4504" y="2104"/>
                  <a:pt x="4560" y="2096"/>
                </a:cubicBezTo>
                <a:cubicBezTo>
                  <a:pt x="4616" y="2088"/>
                  <a:pt x="4672" y="544"/>
                  <a:pt x="4704" y="272"/>
                </a:cubicBezTo>
                <a:cubicBezTo>
                  <a:pt x="4736" y="0"/>
                  <a:pt x="4744" y="408"/>
                  <a:pt x="4752" y="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1066680" y="4191120"/>
            <a:ext cx="8077320" cy="0"/>
          </a:xfrm>
          <a:prstGeom prst="line">
            <a:avLst/>
          </a:prstGeom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365040" y="19368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PREVALENCIA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1986 -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533520" y="1143000"/>
            <a:ext cx="8229600" cy="5386680"/>
          </a:xfrm>
          <a:prstGeom prst="rect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SUSTANCIAS     1986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1988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  1992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333ff"/>
                </a:solidFill>
                <a:latin typeface="Times New Roman"/>
              </a:rPr>
              <a:t>        2003     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87.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3.5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92.0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87,9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67.4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7.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66.0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63,4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ED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18.5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3.2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NALGESICO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9.9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21.6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1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HIPNOTICO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0.9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ESTIMUL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3.7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1.3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INHALANTE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       3.6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2.4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      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MARIHUANA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8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5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7.8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 10,3           1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ALUCINOGENOS            3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1.4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PBC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4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2.8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5.6                    4,1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COCAINA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       2.6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1.3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     2.0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9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539640" y="1628640"/>
            <a:ext cx="8229600" cy="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31"/>
          <p:cNvSpPr/>
          <p:nvPr/>
        </p:nvSpPr>
        <p:spPr>
          <a:xfrm>
            <a:off x="2700360" y="112536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32"/>
          <p:cNvSpPr/>
          <p:nvPr/>
        </p:nvSpPr>
        <p:spPr>
          <a:xfrm>
            <a:off x="4067280" y="112536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33"/>
          <p:cNvSpPr/>
          <p:nvPr/>
        </p:nvSpPr>
        <p:spPr>
          <a:xfrm>
            <a:off x="5219640" y="1197000"/>
            <a:ext cx="0" cy="5334120"/>
          </a:xfrm>
          <a:prstGeom prst="line">
            <a:avLst/>
          </a:prstGeom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6443640" y="1197000"/>
            <a:ext cx="0" cy="532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35"/>
          <p:cNvSpPr/>
          <p:nvPr/>
        </p:nvSpPr>
        <p:spPr>
          <a:xfrm>
            <a:off x="7667640" y="1125360"/>
            <a:ext cx="0" cy="539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457200" y="380880"/>
            <a:ext cx="8381880" cy="65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</a:rPr>
              <a:t>FASE DE PREDOMINIO DISFO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sta fase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desaparece la sensación eufórica y placentera y el sujeto vive una experiencia disfórica que se prolong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asta que termine su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de el punto de vista clínico podemos distin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a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Un síndrome psicomotor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aracterizada por lentificación motora, rigidez muscular (“duro”) y mutismo (“muda”), torpeza motora, temblores, miocloni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b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Síndrome paranoide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aracterizada por ánimo autoreferencial y persecutorio que algunas veces puede ser delusivo; pseudopercepciones auditivas, visuales, táctiles y olfat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)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Otros síntom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tales como: trastornos de conciencia, despersonalización, fallas en atención y memoria, apagamiento de tendencias instin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04920" y="685800"/>
            <a:ext cx="853416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3300"/>
                </a:solidFill>
                <a:latin typeface="Times New Roman"/>
              </a:rPr>
              <a:t>FASE DE LA “BAJADA” Y “RESA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l interrumpirse el consumo se produce 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síntomas de privación muy intens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con ansiedad muy marcada pero que son de breve d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steriormente aparecen un 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síndrome depresiv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aracterizado por depresión, sentimientos de culpa, fatiga, irritabilidad, algias diversas, insomnio y anorexia que dura varias h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l día siguiente, al despertar el paciente, persiste muchas de esas molestias pero luego de una o 2 horas van desaparecien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84360" y="609480"/>
            <a:ext cx="80024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INTOXICACION CRO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característico es la instalación de lo que H. Rotondo llamó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índrome de Psicopatiz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anti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di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uctas a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 es frecuente </a:t>
            </a: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Síndrome Depresivo y Psicosis Tóx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826920" y="184464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84360" y="1916280"/>
            <a:ext cx="8135640" cy="4209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TIPO DE TRASTORNO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r>
              <a:rPr b="1" lang="es-MX" sz="2000" spc="-1" strike="noStrike">
                <a:solidFill>
                  <a:srgbClr val="3333ff"/>
                </a:solidFill>
                <a:latin typeface="Times New Roman"/>
              </a:rPr>
              <a:t>ACTUAL             PASADO</a:t>
            </a: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0.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Cualquier Trastorno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  55.7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7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s Afec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43.3                 6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Ansie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15.8                 2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s Esquizofrenic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0.3                  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coholismo (RDC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28.9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6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la Persona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7.7                   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storno de la Infanc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2.3                 7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>
            <a:off x="684360" y="3213000"/>
            <a:ext cx="80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4788000" y="1916280"/>
            <a:ext cx="0" cy="42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4788000" y="263700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6659640" y="2637000"/>
            <a:ext cx="0" cy="35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11280" y="18900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3300"/>
                </a:solidFill>
                <a:latin typeface="Times New Roman"/>
              </a:rPr>
              <a:t>COMORBILIDAD EN CONSUMIDORES DE COCA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026"/>
          <p:cNvSpPr/>
          <p:nvPr/>
        </p:nvSpPr>
        <p:spPr>
          <a:xfrm>
            <a:off x="457200" y="21877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663300"/>
                </a:solidFill>
                <a:latin typeface="Times New Roman"/>
              </a:rPr>
              <a:t>ALCOHOLIS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46280" y="623880"/>
            <a:ext cx="80168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¿ QUE ES UNA BEBIDA O UN TRAG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ebida estándar que contiene 12 ó 13 gramos de alcohol pu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que equivale más o menos a las siguientes cant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a botella chica de cerveza de 12 onzas (300 ml.) o un 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a copa de vino de 5 on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1,5 onzas  o una copa pequeña de licores destilados con graduación de 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026"/>
          <p:cNvSpPr/>
          <p:nvPr/>
        </p:nvSpPr>
        <p:spPr>
          <a:xfrm>
            <a:off x="762120" y="0"/>
            <a:ext cx="838188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imes New Roman"/>
              </a:rPr>
              <a:t>PERFIL DEL BEBEDOR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e considera un bebedor normal a aquella persona qu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Tiene 16 años 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Si es mujer, no esta embarazada ni en lac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e una dieta balanceada y normocalórica, y tiene u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do nutritiv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giere bebidas alcohólicas aprobadas por las auto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n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5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presenta embriaguez patológica o idiosincr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6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giere alcohol sin consecuencias contingentes negativa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 mismo, ni para otros, y sin presentar problemas con la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7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sume bebidas alcohólicas sin perturbar la rel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eja, ni la vida familiar, ni el rendimi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8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No depende del alcohol para alegrarse, desinhibirse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9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presenta patologías que se agravan o descompensan co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0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 bebe no se embri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026"/>
          <p:cNvSpPr/>
          <p:nvPr/>
        </p:nvSpPr>
        <p:spPr>
          <a:xfrm>
            <a:off x="611280" y="620640"/>
            <a:ext cx="8532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BEBEDOR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la persona que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transgrede cualquiera de las características que hemos descrito para el bebedor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sentido es un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concepto más amplio que el de abuso y depend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pues incluye cualquier forma de ingestión de alcohol que directa o indirectamente produzca consecuencias negativas para el individuo o para terceros, en las áreas de salud, armonía familiar, rendimiento laboral o académico, seguridad person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onamiento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S DEL ALCOHOLISMO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371600" y="188136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  Fase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 Fase Prodr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3. Fase Cr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4. Fase 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09600" y="414000"/>
            <a:ext cx="72612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663300"/>
                </a:solidFill>
                <a:latin typeface="Times New Roman"/>
              </a:rPr>
              <a:t>FASE INICIA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09480" y="14842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turo alcohólico, al igual que cualquier persona, comienza bebiendo por razones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, el beber le proporciona un premio que los otros no gozan: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el alivio de sus tensiones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premio es un estímulo que lo motiva a buscar las ocasiones que le ofrezcan este alivio; por lo que resulta bebiendo co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mayor frecuencia y cantidad que lo hab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n embargo en esta etapa el sujeto no es conciente del alivio que le produce el alcohol, sino que esto lo relaciona con el ambiente en el cual b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fase tiene: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una duración de meses y aún años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84360" y="2055960"/>
          <a:ext cx="8208720" cy="4397400"/>
        </p:xfrm>
        <a:graphic>
          <a:graphicData uri="http://schemas.openxmlformats.org/drawingml/2006/table">
            <a:tbl>
              <a:tblPr/>
              <a:tblGrid>
                <a:gridCol w="957240"/>
                <a:gridCol w="906480"/>
                <a:gridCol w="904680"/>
                <a:gridCol w="906480"/>
                <a:gridCol w="906480"/>
                <a:gridCol w="907920"/>
                <a:gridCol w="906480"/>
                <a:gridCol w="906480"/>
                <a:gridCol w="906480"/>
              </a:tblGrid>
              <a:tr h="8175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6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8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2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7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 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/>
                    </a:solidFill>
                  </a:tcPr>
                </a:tc>
              </a:tr>
              <a:tr h="550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889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 Para las edades de 12 a 5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*Para las edades de 12 a 4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800"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*** Para las edades de 12 a 64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80"/>
          <p:cNvSpPr/>
          <p:nvPr/>
        </p:nvSpPr>
        <p:spPr>
          <a:xfrm>
            <a:off x="684360" y="1916280"/>
            <a:ext cx="8280360" cy="338436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611280" y="333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ERU (1986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4080" y="414360"/>
            <a:ext cx="7326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PRODROM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539640" y="1413000"/>
            <a:ext cx="860436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aracteriza por la aparición de dos hechos  fundamentales en la evolución de la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 El palimpsesto alcohólico o la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 La aparición de una serie de comportamientos que indican que los licores han dejado de ser bebidas para convertirse en “necesidad”. (Dependencia Psic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. Prefiere bebidas fue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 Aumento de toler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. ¡Vamos a seguir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. Bebe demasiado en todas las reun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. Aumento de la frecuencia de la ingestión, buscan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textos diversos para ello (“que no hace daño”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e no está   prohibido”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685800" y="981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.  Bebe con av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. Comienza a beber en situaciones en las que no se bebe habit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. Se vuelve más reservado acerca de su forma de be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  No quiere ir a una reunión donde no haya be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.  Se preocupa si en una fiesta va a haber be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. No se anima a bailar si antes no b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.  No encuentra nada divertido si no b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l. Se molesta si los demás no beben, exige y se fija en lo que beben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. Se queja de lo poco que dan de beber en una reun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.  Bebe algo antes de una reunión, por si no dan suficiente; para entonarse o por si no hubiera li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ñ.  Empieza a beber a solas o en su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.  Cuida su prov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a fase puede durar de algunos meses a 4 a 5 años.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 CRIT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Text Box 1027"/>
          <p:cNvSpPr/>
          <p:nvPr/>
        </p:nvSpPr>
        <p:spPr>
          <a:xfrm>
            <a:off x="533520" y="144792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inicia con un síntoma clave: 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érdida de control o incapacidad para detenerse (síntoma de dependencia física)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nfermo bebe hasta alcanzar cierto grado de intoxicación aguda: son 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risis de ingest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con el tiempo se van haciendo más prolongadas: van pasando de horas, a días, semanas y me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dejar de beber o reducir significativamente su consumo se presenta u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índrome de abstinenci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gravedad progresivamente mayor conforme pasa el tiempo (por ejempl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delirium tremen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las crisis de ingestión ha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eriodos de abstinenci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uración variable, incluso prolon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xplicarse y explicar a los demás estos síntomas el enfermo comienza a desarrollar u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istema de razonamient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ustificaciones y excusas a su manera de be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539640" y="1413000"/>
            <a:ext cx="860436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tiempo este sistema de razonamiento fracasa, ya que no puede modificar una realidad evidente. Esto trae consecuencias a diversos niveles;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personal: disminución cada vez mayor de la autoestima pers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familiar: hostilidad y rech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nivel social: problemas en el trabajo, apartamiento de los amigos, disminución de la participación soci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 ello ocasiona en el paciente, simultáneam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entimientos de culpa y resentimiento hacia los demás;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timientos intolerables para él, que sola se puede aliviar o evitar a través de 2 conduc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lver a beber (círculo vicios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algn="just">
              <a:lnSpc>
                <a:spcPct val="95000"/>
              </a:lnSpc>
              <a:buClr>
                <a:srgbClr val="0000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istema de aislamient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otras veces incluye a la familia (unidad defensiva). </a:t>
            </a:r>
            <a:r>
              <a:rPr b="0" lang="es-ES_tradnl" sz="2400" spc="-1" strike="noStrike" u="sng">
                <a:solidFill>
                  <a:srgbClr val="b2b2b2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669960" y="1484280"/>
            <a:ext cx="8474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o determina que al final de esta fase el alcohol sea cada vez más indispensable para el paciente, por lo que comienza a beber en las mañanas y 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mbriaguez noctur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regla. También recurre 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ocultamiento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bebidas alcohólicas para proteger su consumo, ante el control famil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nte esta fase es también frecuente las ocurrencias de divers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mplicaciones médicas, neurológicas y psiquiátricas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muchas veces hacen necesario su internamiento. Lamentablemente esta es la fase en la que la mayor parte de los alcohólicos recurre al tratamiento; y por lo tanto el objetivo terapéutico será la abstinencia total, ya que por la dependencia física si vuelve a beber se repetirá la pérdida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a fase generalmente dura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33520" y="8380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28600" y="331920"/>
            <a:ext cx="3962520" cy="3143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ME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ígado  g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irrosis hep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ipertensión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astritis agudas y c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ncreati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rdiopatía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fecciones diver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sitosi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572000" y="304920"/>
            <a:ext cx="4114800" cy="3143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PSIQUIA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mencia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torno amnésico o de Korsa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sicosis alcoh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tencia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s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09680" y="4343400"/>
            <a:ext cx="5334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COMPLICACIONES NEUROLO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vul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olineuritis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cefalopatía de Werni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FASE CRON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533520" y="21337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inicia cuando el paciente comienza a presentar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capacidad para abstenerse.</a:t>
            </a:r>
            <a:r>
              <a:rPr b="1" lang="es-ES_tradnl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ambién en esta fase comienza a perder su tolerancia al alcohol por los problemas hepáticos asociados. Entonces ya es común encontrarlo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embriagado en el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 final encontraremos un paciente con un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evero deterioro ético, orgánico y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975960" y="623880"/>
            <a:ext cx="8179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6633"/>
                </a:solidFill>
                <a:latin typeface="Times New Roman"/>
              </a:rPr>
              <a:t>FASE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1" lang="es-ES_tradnl" sz="3200" spc="-1" strike="noStrike">
                <a:solidFill>
                  <a:srgbClr val="996633"/>
                </a:solidFill>
                <a:latin typeface="Times New Roman"/>
              </a:rPr>
              <a:t>TIPO DE BEBE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INICI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sociocul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PRODROM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EXCE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psicológ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CRIT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PAT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ENFERMEDAD ALCOHO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Dependencia fí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FASE CRO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EBEDOR INVETERADO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539640" y="549360"/>
            <a:ext cx="86043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3300"/>
                </a:solidFill>
                <a:latin typeface="Times New Roman"/>
              </a:rPr>
              <a:t>EMBRIAGUEZ PAT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algunos sujetos, aun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 dosis relativamente pequeñas de alcoho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a intoxicación adquiere características peculiares y que tienden a repetirse con nuevas ingest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ducta viol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motivada y sin objeto, que puede llegar a       la agresión física o a la autoagre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Confusión mental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encia de alucinaciones, interpretaciones delirantes de la situación, afectividad exaltada, a veces conductas que separan absolutamente del patrón ético habitual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todos los casos ha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gitación psicomotora, y amnesia posterior al episodi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 veces total o parcial, y dormir prolongado posterior. Clásicamente, se acepta que se desencadena ante pequeñas cantidades de alcohol, sin embargo, no es infrecuente el caso de su ocurrencia en medio de ingestiones masiv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539640" y="1413000"/>
            <a:ext cx="8604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nte el episodio, se han pesquisado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lteraciones del EEG inespecíf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n algunos casos. Varios autores atribuyen  mucha influencia en su desencadenamiento a otros factores,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pecialmente el estré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que explicaría porque no se presenta, necesariamente, cada vez que el afectado bebe alcoh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uanto factores predisponentes los hay relacionados con la personalidad previa, aunque el rasgo agresividad o explosividad no es universal; un TEC puede cambiar la tolerancia al alcohol y la reacción conductual al mismo. Portadores de patología psiquiátrica previa, tales como psicosis, epilepsia, u otras pueden asimismo, presentar este cuad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etapa aguda la conducta violenta se puede controlar con el uso de Haloperidol 2.5 a 5 mg. 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50920" y="1700280"/>
            <a:ext cx="8713800" cy="460836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244440" y="1601640"/>
          <a:ext cx="886464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1601640"/>
                    <a:ext cx="88646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539640" y="33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ILEGALES PERU (1986-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457920" y="380880"/>
            <a:ext cx="4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60240" y="247680"/>
            <a:ext cx="85748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3300"/>
                </a:solidFill>
                <a:latin typeface="Times New Roman"/>
              </a:rPr>
              <a:t>TRATAMIENTO DE LAS DEPENDENCIAS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PRINCIP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Deben hacerse a través de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rogramas Terapéuticos mu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structu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Es fundamental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que el paciente este motiv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 Las primeras etapas es preferible hacerlo bajo régime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ospitalización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cual debe ser volunt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Técnicamente los programas más exitosos son lo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ultimod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- El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una herramienta fundamental en el tratamien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habil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- La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familia debe ser incorpor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el proceso del tratamien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habil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- Debe usarse activamente lo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rupos de soporte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- Es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ultidiciplinari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39640" y="404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TRATAMIENTO</a:t>
            </a:r>
            <a:r>
              <a:rPr b="0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3300"/>
                </a:solidFill>
                <a:latin typeface="Times New Roman"/>
              </a:rPr>
              <a:t>DEL SINDROME DE ABSTINENCIA ALCOHO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.- MANEJO NO FARMACOLOGICO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importante considerar condiciones ambientales que permi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minuir la estimulación pero lo suficientemente habituales qu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ten la orientación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poyo y acogida del paciente son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r el café y otros estimulantes que puedan alterar el su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.- MANEJO FARMAC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edid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r la severidad de los sínt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itar prescribir fármacos mientras que aun el paciente est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oxicado con el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at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rehidratación debe ser abundante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vía oral (más de dos litros por día) o parenteral en ca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cia de vómitos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41300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Vitaminas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iamina 60 a 90 mg IM día por 3 a 5 días luego oral por un mes; ácido fólico 1 mg al día; magnesio o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Benzodiazepinas: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mejor alternativa terapéutica para los casos leves y moderados. Se puede prescribir diazepan 5 a 10 mg. cada 6 a 8 horas por 2 a 3 días; para luego bajar a la mitad cada 2 a 3 días  hasta lograr retirarlo. Es preferible la vía oral. También puede usarse lorazepan de 1 a 2 mg cada 8 horas por 2 o 3 días y seguir con la misma estrategia del retiro del diaze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5.-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atamiento del Delirium Tremens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a emergencia medico psiquiátrico con riesgo de mortalidad, se recomienda el uso de lorazepan a la que debe agregarse haloperidol 0.5 a 5 mg y repetir cada 6 a 8 horas hasta controlar los síntomas de ag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6.- Convulsion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sar diazepan de 5 a 10 mg o lorazepan 2 a 4 m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dovenosos. En el caso de estatus epiléptico debe instal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miento continuo con diazepan endovenoso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258920" y="1628640"/>
            <a:ext cx="763416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684360" y="1916280"/>
          <a:ext cx="8459640" cy="41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45964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5"/>
          <p:cNvSpPr/>
          <p:nvPr/>
        </p:nvSpPr>
        <p:spPr>
          <a:xfrm>
            <a:off x="611280" y="260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Times New Roman"/>
              </a:rPr>
              <a:t>PREVALENCIA DE VIDA DE USO DE DROGAS SEGÚN SEXO PERU (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667640" y="6308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1628640"/>
            <a:ext cx="820872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258920" y="1857240"/>
          <a:ext cx="788508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57240"/>
                    <a:ext cx="7885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1187280" y="333360"/>
            <a:ext cx="7056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SEGÚN EDADES PERU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67640" y="638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58920" y="1628640"/>
            <a:ext cx="7634160" cy="4608720"/>
          </a:xfrm>
          <a:prstGeom prst="rect">
            <a:avLst/>
          </a:prstGeom>
          <a:solidFill>
            <a:srgbClr val="ffffeb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87280" y="404640"/>
            <a:ext cx="705672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755640" y="1990800"/>
          <a:ext cx="8137440" cy="41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90800"/>
                    <a:ext cx="8137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611280" y="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3300"/>
                </a:solidFill>
                <a:latin typeface="Times New Roman"/>
              </a:rPr>
              <a:t>PREVALENCIA DE VIDA DE USO DE DROGAS LEGALES POR REGIONES PERU (CEDRO-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13:27:08Z</dcterms:created>
  <dc:creator>Enrique Bojorquez</dc:creator>
  <dc:description/>
  <dc:language>en-US</dc:language>
  <cp:lastModifiedBy>Enrique Bojorquez Giraldo</cp:lastModifiedBy>
  <cp:lastPrinted>1997-12-11T14:09:06Z</cp:lastPrinted>
  <dcterms:modified xsi:type="dcterms:W3CDTF">2013-04-29T02:47:48Z</dcterms:modified>
  <cp:revision>126</cp:revision>
  <dc:subject/>
  <dc:title>AVANCES EN TRATAMIENTOS BIOLOGICOS EN DEPENDENCIA A DROGAS</dc:title>
</cp:coreProperties>
</file>