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56.gif" ContentType="image/gif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5.gif" ContentType="image/gif"/>
  <Override PartName="/ppt/media/image38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png" ContentType="image/png"/>
  <Override PartName="/ppt/media/image33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!%20%201%20AmazingGraceFlute.WAV" ContentType="audio/x-wav"/>
  <Override PartName="/ppt/media/image2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5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34-48C1-4BD5-89C5-3C882990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398-D720-4C05-9C0B-D18290C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2EC-BF45-4C22-B94C-9E20D9ED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EB8-5FDB-4E89-8CA7-C8EFEA39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491-89A8-4DEE-8501-9ECFF09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EDA-1611-41F3-8D08-ED764550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DEE-8FB1-4C69-937B-BE6A3772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81C-DEDA-48F0-BFF3-6F3BAF3B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BA0-C28B-4D25-B6CE-8744929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E74-FE2D-4618-B639-6D98E38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6B8-58EB-47C5-803D-E03ACABF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B47-0F37-42A5-9DC8-0433DEB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9DFC-70B8-45CE-85E6-3DEC7858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gif"/><Relationship Id="rId15" Type="http://schemas.openxmlformats.org/officeDocument/2006/relationships/image" Target="../media/image6.png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audio" Target="../media/!%20%201%20AmazingGraceFlute.WAV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hyperlink" Target="mailto:via-mala" TargetMode="External"/><Relationship Id="rId6" Type="http://schemas.openxmlformats.org/officeDocument/2006/relationships/image" Target="../media/image52.gif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76000">
            <a:off x="1258560" y="1052280"/>
            <a:ext cx="4824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 A T U R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 O L D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11640" y="4869000"/>
            <a:ext cx="2448000" cy="14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äsentiert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n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a-mala</a:t>
            </a:r>
            <a:endParaRPr b="1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4"/>
          <a:stretch/>
        </p:blipFill>
        <p:spPr>
          <a:xfrm>
            <a:off x="7380360" y="5959440"/>
            <a:ext cx="1439640" cy="89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5"/>
          <a:stretch/>
        </p:blipFill>
        <p:spPr>
          <a:xfrm>
            <a:off x="6516720" y="620640"/>
            <a:ext cx="1657440" cy="3314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6"/>
          <a:stretch/>
        </p:blipFill>
        <p:spPr>
          <a:xfrm>
            <a:off x="539640" y="4292640"/>
            <a:ext cx="178128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7"/>
          <a:stretch/>
        </p:blipFill>
        <p:spPr>
          <a:xfrm rot="2782800">
            <a:off x="1047240" y="5000760"/>
            <a:ext cx="1781280" cy="1933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  <p:sndAc>
      <p:stSnd>
        <p:snd r:embed="rId18" name="!%20%201%20AmazingGraceFlut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628560"/>
            <a:ext cx="7921440" cy="560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36000" cy="569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360" y="700200"/>
            <a:ext cx="7848360" cy="55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128000" cy="36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72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8064360" cy="564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2144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730080"/>
            <a:ext cx="7848360" cy="5448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900000" y="64422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Germen Type"/>
              </a:rPr>
              <a:t>Morgenrot über dem Thuner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757080"/>
            <a:ext cx="7777080" cy="544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20398800">
            <a:off x="1950840" y="1181160"/>
            <a:ext cx="5303520" cy="36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dankt voor u tij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644220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a-m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981920" y="5114880"/>
            <a:ext cx="1162080" cy="1743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9640" y="1844640"/>
            <a:ext cx="647640" cy="424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900000" y="5589720"/>
            <a:ext cx="424836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796000" y="10699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1:23:06Z</dcterms:created>
  <dc:creator>Heimberg</dc:creator>
  <dc:description/>
  <dc:language>en-US</dc:language>
  <cp:lastModifiedBy>Smets</cp:lastModifiedBy>
  <dcterms:modified xsi:type="dcterms:W3CDTF">2009-02-03T20:09:14Z</dcterms:modified>
  <cp:revision>3</cp:revision>
  <dc:subject/>
  <dc:title>Folie 1</dc:title>
</cp:coreProperties>
</file>