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50.jpeg" ContentType="image/jpeg"/>
  <Override PartName="/ppt/media/image24.jpeg" ContentType="image/jpeg"/>
  <Override PartName="/ppt/media/image23.jpeg" ContentType="image/jpeg"/>
  <Override PartName="/ppt/media/image56.gif" ContentType="image/gif"/>
  <Override PartName="/ppt/media/image22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3.jpeg" ContentType="image/jpeg"/>
  <Override PartName="/ppt/media/image40.jpeg" ContentType="image/jpeg"/>
  <Override PartName="/ppt/media/image1.png" ContentType="image/pn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12.jpeg" ContentType="image/jpeg"/>
  <Override PartName="/ppt/media/image14.jpeg" ContentType="image/jpeg"/>
  <Override PartName="/ppt/media/image41.jpeg" ContentType="image/jpeg"/>
  <Override PartName="/ppt/media/image54.png" ContentType="image/png"/>
  <Override PartName="/ppt/media/image5.gif" ContentType="image/gif"/>
  <Override PartName="/ppt/media/image38.jpeg" ContentType="image/jpeg"/>
  <Override PartName="/ppt/media/image35.jpeg" ContentType="image/jpeg"/>
  <Override PartName="/ppt/media/image10.jpeg" ContentType="image/jpeg"/>
  <Override PartName="/ppt/media/image37.jpeg" ContentType="image/jpeg"/>
  <Override PartName="/ppt/media/image43.jpeg" ContentType="image/jpeg"/>
  <Override PartName="/ppt/media/image36.jpeg" ContentType="image/jpeg"/>
  <Override PartName="/ppt/media/image11.jpeg" ContentType="image/jpeg"/>
  <Override PartName="/ppt/media/image44.jpeg" ContentType="image/jpeg"/>
  <Override PartName="/ppt/media/image52.gif" ContentType="image/gif"/>
  <Override PartName="/ppt/media/image34.jpeg" ContentType="image/jpeg"/>
  <Override PartName="/ppt/media/image45.jpeg" ContentType="image/jpeg"/>
  <Override PartName="/ppt/media/image8.jpeg" ContentType="image/jpeg"/>
  <Override PartName="/ppt/media/image39.jpeg" ContentType="image/jpeg"/>
  <Override PartName="/ppt/media/image46.jpeg" ContentType="image/jpeg"/>
  <Override PartName="/ppt/media/image47.jpeg" ContentType="image/jpeg"/>
  <Override PartName="/ppt/media/image49.jpeg" ContentType="image/jpeg"/>
  <Override PartName="/ppt/media/image51.png" ContentType="image/png"/>
  <Override PartName="/ppt/media/image48.jpeg" ContentType="image/jpeg"/>
  <Override PartName="/ppt/media/image53.png" ContentType="image/png"/>
  <Override PartName="/ppt/media/image33.jpeg" ContentType="image/jpeg"/>
  <Override PartName="/ppt/media/image32.jpeg" ContentType="image/jpeg"/>
  <Override PartName="/ppt/media/image29.jpeg" ContentType="image/jpeg"/>
  <Override PartName="/ppt/media/image7.gif" ContentType="image/gif"/>
  <Override PartName="/ppt/media/!%20%201%20AmazingGraceFlute.WAV" ContentType="audio/x-wav"/>
  <Override PartName="/ppt/media/image26.jpeg" ContentType="image/jpeg"/>
  <Override PartName="/ppt/media/image31.jpeg" ContentType="image/jpeg"/>
  <Override PartName="/ppt/media/image30.jpeg" ContentType="image/jpeg"/>
  <Override PartName="/ppt/media/image9.jpeg" ContentType="image/jpeg"/>
  <Override PartName="/ppt/media/image55.gif" ContentType="image/gif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A070-8C9C-47AC-B757-D246ED75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169-C754-4815-ADCC-AFD4140754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7EF3-31A6-4BFA-A5E9-8B610E9BC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5C345-B335-4D04-BED8-F1B96355A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260B-8031-49AE-8C5A-F82C34A88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10874-0719-4939-A965-405BF1694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6424-E12E-48C5-876B-2B4E6D284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DA228-62E0-4AFC-99C5-11D6F7130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5860-5741-4658-AF21-E9CAC2E8B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4FAFF-9302-4C23-9998-403F65F73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A01B-9567-4746-A293-27432582F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4CDA-C7BD-4BEB-B65C-85561A56B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64C7-5CC6-47C5-B659-BFB8FFCC7C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4.png"/><Relationship Id="rId14" Type="http://schemas.openxmlformats.org/officeDocument/2006/relationships/image" Target="../media/image5.gif"/><Relationship Id="rId15" Type="http://schemas.openxmlformats.org/officeDocument/2006/relationships/image" Target="../media/image6.png"/><Relationship Id="rId16" Type="http://schemas.openxmlformats.org/officeDocument/2006/relationships/image" Target="../media/image7.gif"/><Relationship Id="rId17" Type="http://schemas.openxmlformats.org/officeDocument/2006/relationships/image" Target="../media/image7.gif"/><Relationship Id="rId18" Type="http://schemas.openxmlformats.org/officeDocument/2006/relationships/audio" Target="../media/!%20%201%20AmazingGraceFlute.WAV"/><Relationship Id="rId1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9.jpeg"/><Relationship Id="rId3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3.jpe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2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8.jpeg"/><Relationship Id="rId3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9.jpeg"/><Relationship Id="rId3" Type="http://schemas.openxmlformats.org/officeDocument/2006/relationships/slideLayout" Target="../slideLayouts/slideLayout2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2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2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5.jpeg"/><Relationship Id="rId3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2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8.jpeg"/><Relationship Id="rId3" Type="http://schemas.openxmlformats.org/officeDocument/2006/relationships/slideLayout" Target="../slideLayouts/slideLayout2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2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2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hyperlink" Target="mailto:via-mala" TargetMode="External"/><Relationship Id="rId6" Type="http://schemas.openxmlformats.org/officeDocument/2006/relationships/image" Target="../media/image52.gif"/><Relationship Id="rId7" Type="http://schemas.openxmlformats.org/officeDocument/2006/relationships/image" Target="../media/image53.png"/><Relationship Id="rId8" Type="http://schemas.openxmlformats.org/officeDocument/2006/relationships/image" Target="../media/image54.png"/><Relationship Id="rId9" Type="http://schemas.openxmlformats.org/officeDocument/2006/relationships/image" Target="../media/image55.gif"/><Relationship Id="rId10" Type="http://schemas.openxmlformats.org/officeDocument/2006/relationships/image" Target="../media/image56.gif"/><Relationship Id="rId11" Type="http://schemas.openxmlformats.org/officeDocument/2006/relationships/image" Target="../media/image56.gif"/><Relationship Id="rId1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 rot="20076000">
            <a:off x="1258560" y="1052280"/>
            <a:ext cx="482436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N A T U R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4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in </a:t>
            </a:r>
            <a:endParaRPr b="1" lang="en-US" sz="1800" spc="1" strike="noStrike">
              <a:ln w="0">
                <a:noFill/>
              </a:ln>
              <a:blipFill rotWithShape="0">
                <a:blip r:embed="rId5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6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G O L D</a:t>
            </a:r>
            <a:endParaRPr b="1" lang="en-US" sz="1800" spc="1" strike="noStrike">
              <a:ln w="0">
                <a:noFill/>
              </a:ln>
              <a:blipFill rotWithShape="0">
                <a:blip r:embed="rId7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211640" y="4869000"/>
            <a:ext cx="2448000" cy="1474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präsentiert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on</a:t>
            </a:r>
            <a:endParaRPr b="1" lang="en-US" sz="24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1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via-mala</a:t>
            </a:r>
            <a:endParaRPr b="1" lang="en-US" sz="2400" spc="1" strike="noStrike">
              <a:ln w="0">
                <a:noFill/>
              </a:ln>
              <a:blipFill rotWithShape="0">
                <a:blip r:embed="rId1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4"/>
          <a:stretch/>
        </p:blipFill>
        <p:spPr>
          <a:xfrm>
            <a:off x="7380360" y="5959440"/>
            <a:ext cx="1439640" cy="8985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15"/>
          <a:stretch/>
        </p:blipFill>
        <p:spPr>
          <a:xfrm>
            <a:off x="6516720" y="620640"/>
            <a:ext cx="1657440" cy="33148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16"/>
          <a:stretch/>
        </p:blipFill>
        <p:spPr>
          <a:xfrm>
            <a:off x="539640" y="4292640"/>
            <a:ext cx="1781280" cy="19335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17"/>
          <a:stretch/>
        </p:blipFill>
        <p:spPr>
          <a:xfrm rot="2782800">
            <a:off x="1047240" y="5000760"/>
            <a:ext cx="1781280" cy="193356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fade thruBlk="true"/>
    <p:sndAc>
      <p:stSnd>
        <p:snd r:embed="rId18" name="!%20%201%20AmazingGraceFlute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21440" cy="5546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611280" y="628560"/>
            <a:ext cx="7921440" cy="5600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539640" y="549360"/>
            <a:ext cx="8136000" cy="5695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84360" y="700200"/>
            <a:ext cx="7848360" cy="550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16000" y="1557360"/>
            <a:ext cx="7128000" cy="3600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21440" cy="5546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21440" cy="5546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611280" y="657360"/>
            <a:ext cx="7993080" cy="5724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8064360" cy="56469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93080" cy="559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93080" cy="559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93080" cy="559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93080" cy="559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611280" y="657360"/>
            <a:ext cx="7993080" cy="5592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93080" cy="559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611280" y="657360"/>
            <a:ext cx="7921440" cy="554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611280" y="657360"/>
            <a:ext cx="7993080" cy="5592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84360" y="709560"/>
            <a:ext cx="7848360" cy="548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84360" y="730080"/>
            <a:ext cx="7848360" cy="5448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611280" y="657360"/>
            <a:ext cx="7993080" cy="5594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93080" cy="559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79" name=""/>
          <p:cNvSpPr/>
          <p:nvPr/>
        </p:nvSpPr>
        <p:spPr>
          <a:xfrm>
            <a:off x="900000" y="6442200"/>
            <a:ext cx="338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800" spc="-1" strike="noStrike">
                <a:solidFill>
                  <a:srgbClr val="000000"/>
                </a:solidFill>
                <a:latin typeface="Germen Type"/>
              </a:rPr>
              <a:t>Morgenrot über dem Thuner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fade thruBlk="true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21440" cy="5546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755640" y="757080"/>
            <a:ext cx="7777080" cy="5445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920000" cy="554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21440" cy="5546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611280" y="657360"/>
            <a:ext cx="7993080" cy="5592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1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93080" cy="559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920000" cy="554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920000" cy="5543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21440" cy="55468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 rot="20398800">
            <a:off x="1950840" y="1181160"/>
            <a:ext cx="5303520" cy="3659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Bedankt voor u tijd</a:t>
            </a:r>
            <a:endParaRPr b="1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4" name=""/>
          <p:cNvSpPr/>
          <p:nvPr/>
        </p:nvSpPr>
        <p:spPr>
          <a:xfrm>
            <a:off x="7740720" y="6442200"/>
            <a:ext cx="216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0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via-m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6"/>
          <a:stretch/>
        </p:blipFill>
        <p:spPr>
          <a:xfrm>
            <a:off x="7981920" y="5114880"/>
            <a:ext cx="1162080" cy="174312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7"/>
          <a:stretch/>
        </p:blipFill>
        <p:spPr>
          <a:xfrm>
            <a:off x="539640" y="1844640"/>
            <a:ext cx="647640" cy="42483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8"/>
          <a:stretch/>
        </p:blipFill>
        <p:spPr>
          <a:xfrm>
            <a:off x="900000" y="5589720"/>
            <a:ext cx="4248360" cy="64764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9"/>
          <a:stretch/>
        </p:blipFill>
        <p:spPr>
          <a:xfrm>
            <a:off x="5796000" y="1069920"/>
            <a:ext cx="431640" cy="432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 txBox="1"/>
          <p:nvPr/>
        </p:nvSpPr>
        <p:spPr>
          <a:xfrm>
            <a:off x="1979640" y="6237360"/>
            <a:ext cx="5388120" cy="4284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10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11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4360" y="709560"/>
            <a:ext cx="7848360" cy="548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611280" y="657360"/>
            <a:ext cx="7993080" cy="55926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684360" y="708120"/>
            <a:ext cx="7848360" cy="54925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684360" y="709560"/>
            <a:ext cx="7848360" cy="5489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11280" y="655560"/>
            <a:ext cx="7993080" cy="55958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 spd="slow" advTm="300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8T01:23:06Z</dcterms:created>
  <dc:creator>Heimberg</dc:creator>
  <dc:description/>
  <dc:language>en-US</dc:language>
  <cp:lastModifiedBy>Smets</cp:lastModifiedBy>
  <dcterms:modified xsi:type="dcterms:W3CDTF">2009-02-03T20:09:14Z</dcterms:modified>
  <cp:revision>3</cp:revision>
  <dc:subject/>
  <dc:title>Folie 1</dc:title>
</cp:coreProperties>
</file>