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4AD-B82B-48A3-A845-BA021DE7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988-D522-4EAF-B0A4-27F7B298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5D9-77D9-4FE6-8E08-E2039CAB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20F-6E89-46B0-91D8-CC57589B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03FB-118F-4D42-A5D9-B54A1BFD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D57-7FFF-4151-9FC7-2C024158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0C19-8CFD-4D6B-8268-559C23BE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DA5A-CBF3-4D82-BE42-1F734208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2B4D-38B3-43BE-A718-402ABDC0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6036-7E69-488E-A361-A6EEF632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03B7-2B22-4734-856E-681EBEF3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7B6-5FA2-4C56-95AC-84DBBAD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1694-51A1-48A9-8949-8FB62DB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848B-E345-4FD3-BBBC-7AE51568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E1F3-D6B6-404A-ACEC-D9B2D56F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9A82-774E-4638-A4A7-B71D6375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19B2-07BF-4D20-B5FF-36DD89F2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26D-40AA-4065-B3BB-2BBF980E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AA8-82E8-4E35-94FC-9C082470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2D4-784E-4A56-A940-9B84F9A0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FD7-1D4C-41BE-B11A-65FF3AF2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BA1-E8FA-4882-B2D8-DE455EF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3DB-8428-4789-97E7-E8351477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973-2A67-46AE-95DF-9B0C4B8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D121-1FCD-4A74-A09F-BD22C5F89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AFB-3B11-4D69-990F-33F24B83C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205740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6000" spc="-1" strike="noStrike">
                <a:solidFill>
                  <a:srgbClr val="ff0000"/>
                </a:solidFill>
                <a:latin typeface="Albertus Extra Bold"/>
              </a:rPr>
              <a:t>7 Kalimah ALLAH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68580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66ff33"/>
                </a:solidFill>
                <a:latin typeface="Garamond"/>
              </a:rPr>
              <a:t>Sabda Rasulullah S.A.W :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90512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9900"/>
                </a:solidFill>
                <a:latin typeface="Tahoma"/>
              </a:rPr>
              <a:t>” </a:t>
            </a:r>
            <a:r>
              <a:rPr b="1" lang="id-ID" sz="4000" spc="-1" strike="noStrike">
                <a:solidFill>
                  <a:srgbClr val="ff9900"/>
                </a:solidFill>
                <a:latin typeface="Tahoma"/>
              </a:rPr>
              <a:t>Barang siapa hafal tujuh kalimat, ia terpanda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9900"/>
                </a:solidFill>
                <a:latin typeface="Tahoma"/>
              </a:rPr>
              <a:t>mulia di sisi Allah dan Malaikat serta diampuni dosa-dosanya walau sebanyak buih laut "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99cc"/>
                </a:solidFill>
                <a:latin typeface="Arial"/>
              </a:rPr>
              <a:t>1. Mengucap </a:t>
            </a:r>
            <a:r>
              <a:rPr b="1" lang="id-ID" sz="3600" spc="-1" strike="noStrike">
                <a:solidFill>
                  <a:srgbClr val="ff0000"/>
                </a:solidFill>
                <a:latin typeface="Arial"/>
              </a:rPr>
              <a:t>Bismillah</a:t>
            </a:r>
            <a:r>
              <a:rPr b="1" lang="id-ID" sz="3600" spc="-1" strike="noStrike">
                <a:solidFill>
                  <a:srgbClr val="ff99cc"/>
                </a:solidFill>
                <a:latin typeface="Arial"/>
              </a:rPr>
              <a:t> pada tiap-tiap hendak melakukan sesuatu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3623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3623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2. Mengucap </a:t>
            </a:r>
            <a:r>
              <a:rPr b="0" lang="id-ID" sz="3200" spc="-1" strike="noStrike">
                <a:solidFill>
                  <a:srgbClr val="ff0000"/>
                </a:solidFill>
                <a:latin typeface="Antique Olive Compact"/>
              </a:rPr>
              <a:t>Alhamdulillah</a:t>
            </a: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 pada tiap-tiap selesai melakukan sesuatu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4267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9900"/>
                </a:solidFill>
                <a:latin typeface="Albertus Extra Bold"/>
              </a:rPr>
              <a:t>3. Mengucap </a:t>
            </a:r>
            <a:r>
              <a:rPr b="0" lang="id-ID" sz="3600" spc="-1" strike="noStrike">
                <a:solidFill>
                  <a:srgbClr val="ff0000"/>
                </a:solidFill>
                <a:latin typeface="Albertus Extra Bold"/>
              </a:rPr>
              <a:t>Astaghfirullah</a:t>
            </a:r>
            <a:r>
              <a:rPr b="0" lang="id-ID" sz="3600" spc="-1" strike="noStrike">
                <a:solidFill>
                  <a:srgbClr val="ff9900"/>
                </a:solidFill>
                <a:latin typeface="Albertus Extra Bold"/>
              </a:rPr>
              <a:t> jika lidah terselip perkataan yang tidak patut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9144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fff00"/>
                </a:solidFill>
                <a:latin typeface="Arial"/>
              </a:rPr>
              <a:t>4. Mengucap </a:t>
            </a:r>
            <a:r>
              <a:rPr b="1" lang="id-ID" sz="4400" spc="-1" strike="noStrike">
                <a:solidFill>
                  <a:srgbClr val="ff0000"/>
                </a:solidFill>
                <a:latin typeface="Arial"/>
              </a:rPr>
              <a:t>Insya-Allah</a:t>
            </a:r>
            <a:r>
              <a:rPr b="1" lang="id-ID" sz="4400" spc="-1" strike="noStrike">
                <a:solidFill>
                  <a:srgbClr val="ffff00"/>
                </a:solidFill>
                <a:latin typeface="Arial"/>
              </a:rPr>
              <a:t> jika merencanakan berbuat sesuatu dihari esok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053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5. Mengucap Mengucap </a:t>
            </a:r>
            <a:r>
              <a:rPr b="0" lang="id-ID" sz="3200" spc="-1" strike="noStrike">
                <a:solidFill>
                  <a:srgbClr val="ff0000"/>
                </a:solidFill>
                <a:latin typeface="Antique Olive Compact"/>
              </a:rPr>
              <a:t>"La haula wala kuwwata illa billah"</a:t>
            </a: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 jika menghadapi sesuatu tak disukai dan tak diingin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5335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fff00"/>
                </a:solidFill>
                <a:latin typeface="Arial"/>
              </a:rPr>
              <a:t>6. Mengucap “</a:t>
            </a:r>
            <a:r>
              <a:rPr b="1" lang="id-ID" sz="4400" spc="-1" strike="noStrike">
                <a:solidFill>
                  <a:srgbClr val="ff0000"/>
                </a:solidFill>
                <a:latin typeface="Arial"/>
              </a:rPr>
              <a:t>Inna lillahi wa inna ilaihi rojiun </a:t>
            </a:r>
            <a:r>
              <a:rPr b="1" lang="id-ID" sz="4400" spc="-1" strike="noStrike">
                <a:solidFill>
                  <a:srgbClr val="ffff00"/>
                </a:solidFill>
                <a:latin typeface="Arial"/>
              </a:rPr>
              <a:t>” jika menghadapi dan menerima musiba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5053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7. Mengucap Mengucap </a:t>
            </a:r>
            <a:r>
              <a:rPr b="0" lang="id-ID" sz="3200" spc="-1" strike="noStrike">
                <a:solidFill>
                  <a:srgbClr val="ff0000"/>
                </a:solidFill>
                <a:latin typeface="Antique Olive Compact"/>
              </a:rPr>
              <a:t>"La ila ha illa Allah muhammad rasulullah"</a:t>
            </a: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 sepanjang siang dan malam, sehingga tak terpisah dari lidahny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1430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hlop"/>
              </a:rPr>
              <a:t>Sebarkan informasi ini kepada orang-orang disekeliling kita. Mana tahu mungkin mereka sedang memerlukanny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lbertus Extra Bold"/>
              </a:rPr>
              <a:t>Sekarang anda mempunyai dua pilihan 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38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lbertus Extra Bold"/>
              </a:rPr>
              <a:t>Biarkan e-mail ini tetap didalam mailbox anda insya-Allah tidak akan ada sesuatu yang terjadi pada diri and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50532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cc33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lbertus Extra Bold"/>
              </a:rPr>
              <a:t>Forward e-mail ini ke sejumlah orang yang anda kenal dan Insya-Allah redha Allah akan dianugerahkan kepada setiap orang yang kirim. Amin…. 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8:25:24Z</dcterms:created>
  <dc:creator>Mahfuzah Sulaiman</dc:creator>
  <dc:description/>
  <dc:language>en-US</dc:language>
  <cp:lastModifiedBy>Mahfuzah Sulaiman</cp:lastModifiedBy>
  <dcterms:modified xsi:type="dcterms:W3CDTF">2005-08-30T08:28:28Z</dcterms:modified>
  <cp:revision>1</cp:revision>
  <dc:subject/>
  <dc:title>Slide 1</dc:title>
</cp:coreProperties>
</file>