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BF2-E9CB-4901-9EB2-DD6F70AD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EFE-6FA4-4E5E-91DD-F760EB7D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3C3-A1A8-4A76-AD3A-5484548D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CDB-E153-4903-9A0E-F678620D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8A88-1B7A-4A56-9100-0F2847D3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A45C-F379-4896-86A2-FE59EF14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C756-C400-4A54-A6B0-FC1E217F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B3DF-06F0-433F-900A-5A4CD899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0C4A-ED7C-47EA-9191-AFF3C01A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E2CB-019D-4BE5-8B42-A5ACADD1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4AF2-D082-4F76-9307-DA38BA73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0581-5C0C-4133-ADCC-3384201C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7E16-F46D-4C0F-B453-7C2BB9AE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4D7F-883D-4BAE-B66C-2D713C78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FBAD-E2F5-47CF-A2DB-51C7E072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CEAC-C0A2-40B2-8D20-862B1550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9DDA-4A7F-481C-B9E2-7321A45A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547-205B-4B9E-8508-6E7F65CC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858-93D3-4EDC-B42F-3E99AB4C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590-8181-422E-BF91-D58EB81B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03D-50B0-4AB0-9DA3-8A2E92B6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EEC5-6D50-44DE-A5F2-BC7E06DA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1AF-BAC8-4433-9240-40417E18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B10-CD6A-4720-B958-A0979AFF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F83F-82A1-4523-A112-3AABF83C5F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BF61-0B14-44DF-91F3-5DF05936CE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00200" y="2057400"/>
            <a:ext cx="58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6000" spc="-1" strike="noStrike">
                <a:solidFill>
                  <a:srgbClr val="ff0000"/>
                </a:solidFill>
                <a:latin typeface="Albertus Extra Bold"/>
              </a:rPr>
              <a:t>7 Kalimah ALLAH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68580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66ff33"/>
                </a:solidFill>
                <a:latin typeface="Garamond"/>
              </a:rPr>
              <a:t>Sabda Rasulullah S.A.W :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1905120"/>
            <a:ext cx="6629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f9900"/>
                </a:solidFill>
                <a:latin typeface="Tahoma"/>
              </a:rPr>
              <a:t>” </a:t>
            </a:r>
            <a:r>
              <a:rPr b="1" lang="id-ID" sz="4000" spc="-1" strike="noStrike">
                <a:solidFill>
                  <a:srgbClr val="ff9900"/>
                </a:solidFill>
                <a:latin typeface="Tahoma"/>
              </a:rPr>
              <a:t>Barang siapa hafal tujuh kalimat, ia terpanda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ff9900"/>
                </a:solidFill>
                <a:latin typeface="Tahoma"/>
              </a:rPr>
              <a:t>mulia di sisi Allah dan Malaikat serta diampuni dosa-dosanya walau sebanyak buih laut "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838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ff99cc"/>
                </a:solidFill>
                <a:latin typeface="Arial"/>
              </a:rPr>
              <a:t>1. Mengucap </a:t>
            </a:r>
            <a:r>
              <a:rPr b="1" lang="id-ID" sz="3600" spc="-1" strike="noStrike">
                <a:solidFill>
                  <a:srgbClr val="ff0000"/>
                </a:solidFill>
                <a:latin typeface="Arial"/>
              </a:rPr>
              <a:t>Bismillah</a:t>
            </a:r>
            <a:r>
              <a:rPr b="1" lang="id-ID" sz="3600" spc="-1" strike="noStrike">
                <a:solidFill>
                  <a:srgbClr val="ff99cc"/>
                </a:solidFill>
                <a:latin typeface="Arial"/>
              </a:rPr>
              <a:t> pada tiap-tiap hendak melakukan sesuatu.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3623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3623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66ff33"/>
                </a:solidFill>
                <a:latin typeface="Antique Olive Compact"/>
              </a:rPr>
              <a:t>2. Mengucap </a:t>
            </a:r>
            <a:r>
              <a:rPr b="0" lang="id-ID" sz="3200" spc="-1" strike="noStrike">
                <a:solidFill>
                  <a:srgbClr val="ff0000"/>
                </a:solidFill>
                <a:latin typeface="Antique Olive Compact"/>
              </a:rPr>
              <a:t>Alhamdulillah</a:t>
            </a:r>
            <a:r>
              <a:rPr b="0" lang="id-ID" sz="3200" spc="-1" strike="noStrike">
                <a:solidFill>
                  <a:srgbClr val="66ff33"/>
                </a:solidFill>
                <a:latin typeface="Antique Olive Compact"/>
              </a:rPr>
              <a:t> pada tiap-tiap selesai melakukan sesuatu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42670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9900"/>
                </a:solidFill>
                <a:latin typeface="Albertus Extra Bold"/>
              </a:rPr>
              <a:t>3. Mengucap </a:t>
            </a:r>
            <a:r>
              <a:rPr b="0" lang="id-ID" sz="3600" spc="-1" strike="noStrike">
                <a:solidFill>
                  <a:srgbClr val="ff0000"/>
                </a:solidFill>
                <a:latin typeface="Albertus Extra Bold"/>
              </a:rPr>
              <a:t>Astaghfirullah</a:t>
            </a:r>
            <a:r>
              <a:rPr b="0" lang="id-ID" sz="3600" spc="-1" strike="noStrike">
                <a:solidFill>
                  <a:srgbClr val="ff9900"/>
                </a:solidFill>
                <a:latin typeface="Albertus Extra Bold"/>
              </a:rPr>
              <a:t> jika lidah terselip perkataan yang tidak patut.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91440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ffff00"/>
                </a:solidFill>
                <a:latin typeface="Arial"/>
              </a:rPr>
              <a:t>4. Mengucap </a:t>
            </a:r>
            <a:r>
              <a:rPr b="1" lang="id-ID" sz="4400" spc="-1" strike="noStrike">
                <a:solidFill>
                  <a:srgbClr val="ff0000"/>
                </a:solidFill>
                <a:latin typeface="Arial"/>
              </a:rPr>
              <a:t>Insya-Allah</a:t>
            </a:r>
            <a:r>
              <a:rPr b="1" lang="id-ID" sz="4400" spc="-1" strike="noStrike">
                <a:solidFill>
                  <a:srgbClr val="ffff00"/>
                </a:solidFill>
                <a:latin typeface="Arial"/>
              </a:rPr>
              <a:t> jika merencanakan berbuat sesuatu dihari esok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053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66ff33"/>
                </a:solidFill>
                <a:latin typeface="Antique Olive Compact"/>
              </a:rPr>
              <a:t>5. Mengucap Mengucap </a:t>
            </a:r>
            <a:r>
              <a:rPr b="0" lang="id-ID" sz="3200" spc="-1" strike="noStrike">
                <a:solidFill>
                  <a:srgbClr val="ff0000"/>
                </a:solidFill>
                <a:latin typeface="Antique Olive Compact"/>
              </a:rPr>
              <a:t>"La haula wala kuwwata illa billah"</a:t>
            </a:r>
            <a:r>
              <a:rPr b="0" lang="id-ID" sz="3200" spc="-1" strike="noStrike">
                <a:solidFill>
                  <a:srgbClr val="66ff33"/>
                </a:solidFill>
                <a:latin typeface="Antique Olive Compact"/>
              </a:rPr>
              <a:t> jika menghadapi sesuatu tak disukai dan tak diingini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5335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ffff00"/>
                </a:solidFill>
                <a:latin typeface="Arial"/>
              </a:rPr>
              <a:t>6. Mengucap “</a:t>
            </a:r>
            <a:r>
              <a:rPr b="1" lang="id-ID" sz="4400" spc="-1" strike="noStrike">
                <a:solidFill>
                  <a:srgbClr val="ff0000"/>
                </a:solidFill>
                <a:latin typeface="Arial"/>
              </a:rPr>
              <a:t>Inna lillahi wa inna ilaihi rojiun </a:t>
            </a:r>
            <a:r>
              <a:rPr b="1" lang="id-ID" sz="4400" spc="-1" strike="noStrike">
                <a:solidFill>
                  <a:srgbClr val="ffff00"/>
                </a:solidFill>
                <a:latin typeface="Arial"/>
              </a:rPr>
              <a:t>” jika menghadapi dan menerima musibah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50532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66ff33"/>
                </a:solidFill>
                <a:latin typeface="Antique Olive Compact"/>
              </a:rPr>
              <a:t>7. Mengucap Mengucap </a:t>
            </a:r>
            <a:r>
              <a:rPr b="0" lang="id-ID" sz="3200" spc="-1" strike="noStrike">
                <a:solidFill>
                  <a:srgbClr val="ff0000"/>
                </a:solidFill>
                <a:latin typeface="Antique Olive Compact"/>
              </a:rPr>
              <a:t>"La ila ha illa Allah muhammad rasulullah"</a:t>
            </a:r>
            <a:r>
              <a:rPr b="0" lang="id-ID" sz="3200" spc="-1" strike="noStrike">
                <a:solidFill>
                  <a:srgbClr val="66ff33"/>
                </a:solidFill>
                <a:latin typeface="Antique Olive Compact"/>
              </a:rPr>
              <a:t> sepanjang siang dan malam, sehingga tak terpisah dari lidahny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14300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hlop"/>
              </a:rPr>
              <a:t>Sebarkan informasi ini kepada orang-orang disekeliling kita. Mana tahu mungkin mereka sedang memerlukanny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304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lbertus Extra Bold"/>
              </a:rPr>
              <a:t>Sekarang anda mempunyai dua pilihan 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38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lbertus Extra Bold"/>
              </a:rPr>
              <a:t>Biarkan e-mail ini tetap didalam mailbox anda insya-Allah tidak akan ada sesuatu yang terjadi pada diri and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50532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cc33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lbertus Extra Bold"/>
              </a:rPr>
              <a:t>Forward e-mail ini ke sejumlah orang yang anda kenal dan Insya-Allah redha Allah akan dianugerahkan kepada setiap orang yang kirim. Amin…. !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75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8:25:24Z</dcterms:created>
  <dc:creator>Mahfuzah Sulaiman</dc:creator>
  <dc:description/>
  <dc:language>en-US</dc:language>
  <cp:lastModifiedBy>Mahfuzah Sulaiman</cp:lastModifiedBy>
  <dcterms:modified xsi:type="dcterms:W3CDTF">2005-08-30T08:28:28Z</dcterms:modified>
  <cp:revision>1</cp:revision>
  <dc:subject/>
  <dc:title>Slide 1</dc:title>
</cp:coreProperties>
</file>