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voltage.wav" ContentType="audio/x-wav"/>
  <Override PartName="/ppt/media/image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BC5-F21D-4A4C-BA77-1EC67194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3DC-BDCD-49B1-B189-2DC31412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7AC-18DC-40BF-9608-4131053B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7FE-E1BA-4526-81E7-15403921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994-9608-4C1B-8ABF-C660DC9B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9574-AEFF-4F7E-9126-63C630B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8A97-F7B1-49FE-BD6A-1D64FD89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B1CA-FE82-4EFF-8BBE-FCBEF104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1EF8-12F1-45B4-A41E-7BFB4A4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15FA-9F0A-4E89-B766-6376A10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FBE-5D6E-4FBD-B83B-E0162F3B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9F1-9723-4605-920F-904AA8C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FB3D-B888-47A2-A156-05A8C12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E472-427B-4B81-860B-22945ACC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879-5FD9-4040-9D69-E61BE98E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7BFD-95EF-4D48-BFB1-591CA1AF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952F-C8F3-4D9C-911C-8D1E91BD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839-B4FA-4BA2-B378-8E679412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648-5F01-4DA2-B1CC-28F593D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087-956F-4030-80F6-BC88DBE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B4C-76FA-4163-B9E8-DEC70AD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C4B-2BD4-48CA-B842-E3D2115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D76-DA50-4B2A-9112-3CB182D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3B0-CEEE-49FD-B070-626FC5E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740-2BCE-4D2E-8967-A6D296BF446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38F2-DCD9-4275-B6C9-1113559AA51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hyperlink" Target="file:///4%20stroke%202.mp4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KESIMPULAN.doc" TargetMode="External"/><Relationship Id="rId2" Type="http://schemas.openxmlformats.org/officeDocument/2006/relationships/hyperlink" Target="file:///KESIMPULAN.doc" TargetMode="External"/><Relationship Id="rId3" Type="http://schemas.openxmlformats.org/officeDocument/2006/relationships/hyperlink" Target="file:///KESIMPULAN.doc" TargetMode="External"/><Relationship Id="rId4" Type="http://schemas.openxmlformats.org/officeDocument/2006/relationships/hyperlink" Target="file:///KESIMPULAN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wo%20stroke%202.mp4" TargetMode="External"/><Relationship Id="rId2" Type="http://schemas.openxmlformats.org/officeDocument/2006/relationships/hyperlink" Target="file:///two%20stroke%202.mp4" TargetMode="External"/><Relationship Id="rId3" Type="http://schemas.openxmlformats.org/officeDocument/2006/relationships/hyperlink" Target="file:///two%20stroke%202.mp4" TargetMode="External"/><Relationship Id="rId4" Type="http://schemas.openxmlformats.org/officeDocument/2006/relationships/hyperlink" Target="file:///two%20stroke%202.mp4" TargetMode="External"/><Relationship Id="rId5" Type="http://schemas.openxmlformats.org/officeDocument/2006/relationships/hyperlink" Target="file:///two%20stroke%202.mp4" TargetMode="External"/><Relationship Id="rId6" Type="http://schemas.openxmlformats.org/officeDocument/2006/relationships/hyperlink" Target="file:///two%20stroke%202.mp4" TargetMode="External"/><Relationship Id="rId7" Type="http://schemas.openxmlformats.org/officeDocument/2006/relationships/hyperlink" Target="file:///two%20stroke%203.mp4" TargetMode="External"/><Relationship Id="rId8" Type="http://schemas.openxmlformats.org/officeDocument/2006/relationships/hyperlink" Target="file:///two%20stroke%203.mp4" TargetMode="External"/><Relationship Id="rId9" Type="http://schemas.openxmlformats.org/officeDocument/2006/relationships/hyperlink" Target="file:///two%20stroke%203.mp4" TargetMode="External"/><Relationship Id="rId10" Type="http://schemas.openxmlformats.org/officeDocument/2006/relationships/hyperlink" Target="file:///two%20stroke%203.mp4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4%20stroke%202.mp4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MAHIRAN TEKNIK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B 2 - ENJ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240" y="365724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DARAN ENJIN 4 LEJA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361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EKZO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895480" y="27428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200400" cy="384804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4952880" y="2362320"/>
            <a:ext cx="4038840" cy="685800"/>
            <a:chOff x="4952880" y="2362320"/>
            <a:chExt cx="4038840" cy="685800"/>
          </a:xfrm>
        </p:grpSpPr>
        <p:sp>
          <p:nvSpPr>
            <p:cNvPr id="429" name=""/>
            <p:cNvSpPr/>
            <p:nvPr/>
          </p:nvSpPr>
          <p:spPr>
            <a:xfrm>
              <a:off x="6172200" y="236232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masukan ter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952880" y="2514600"/>
              <a:ext cx="12956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00600" y="3306600"/>
            <a:ext cx="4343400" cy="1465560"/>
            <a:chOff x="4800600" y="3306600"/>
            <a:chExt cx="4343400" cy="1465560"/>
          </a:xfrm>
        </p:grpSpPr>
        <p:sp>
          <p:nvSpPr>
            <p:cNvPr id="432" name=""/>
            <p:cNvSpPr/>
            <p:nvPr/>
          </p:nvSpPr>
          <p:spPr>
            <a:xfrm>
              <a:off x="6324480" y="3306600"/>
              <a:ext cx="2819520" cy="146556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ke atas dari TTB ke TTA – menolak gas ekzos (CO) keluar melalui rongga ekzo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800600" y="3962160"/>
              <a:ext cx="1523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914400" y="5410080"/>
            <a:ext cx="3505320" cy="1298160"/>
            <a:chOff x="914400" y="5410080"/>
            <a:chExt cx="3505320" cy="1298160"/>
          </a:xfrm>
        </p:grpSpPr>
        <p:sp>
          <p:nvSpPr>
            <p:cNvPr id="435" name=""/>
            <p:cNvSpPr/>
            <p:nvPr/>
          </p:nvSpPr>
          <p:spPr>
            <a:xfrm>
              <a:off x="91440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Aci engkol telah berputar 2 pusingan (72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5410080"/>
              <a:ext cx="838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320" y="2514600"/>
            <a:ext cx="3962160" cy="456840"/>
            <a:chOff x="76320" y="2514600"/>
            <a:chExt cx="3962160" cy="456840"/>
          </a:xfrm>
        </p:grpSpPr>
        <p:sp>
          <p:nvSpPr>
            <p:cNvPr id="438" name=""/>
            <p:cNvSpPr/>
            <p:nvPr/>
          </p:nvSpPr>
          <p:spPr>
            <a:xfrm>
              <a:off x="76320" y="2514600"/>
              <a:ext cx="281916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Injap ekzos terbuk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2742840"/>
              <a:ext cx="1295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SIMPULANNY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gerakan enjin satu silinder 4 lejang dapat di tunjukkan dala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jadual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berikut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akah nama bahagian enjin ini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038480" cy="30481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34120" y="3276720"/>
            <a:ext cx="3429000" cy="368280"/>
            <a:chOff x="5334120" y="3276720"/>
            <a:chExt cx="3429000" cy="368280"/>
          </a:xfrm>
        </p:grpSpPr>
        <p:sp>
          <p:nvSpPr>
            <p:cNvPr id="446" name=""/>
            <p:cNvSpPr/>
            <p:nvPr/>
          </p:nvSpPr>
          <p:spPr>
            <a:xfrm>
              <a:off x="5334120" y="3505320"/>
              <a:ext cx="1600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3276720"/>
              <a:ext cx="182880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Aci sesondo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0880" y="2971800"/>
            <a:ext cx="4419720" cy="609480"/>
            <a:chOff x="380880" y="2971800"/>
            <a:chExt cx="4419720" cy="609480"/>
          </a:xfrm>
        </p:grpSpPr>
        <p:sp>
          <p:nvSpPr>
            <p:cNvPr id="449" name=""/>
            <p:cNvSpPr/>
            <p:nvPr/>
          </p:nvSpPr>
          <p:spPr>
            <a:xfrm>
              <a:off x="2209680" y="3200400"/>
              <a:ext cx="16002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9680" y="3200400"/>
              <a:ext cx="259092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0880" y="2971800"/>
              <a:ext cx="182880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Sesondo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gerakan aci sesondol akan menyebabkan injap terbuka dan tertutu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505320" cy="4343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029200" y="1981080"/>
            <a:ext cx="1523880" cy="1524240"/>
          </a:xfrm>
          <a:prstGeom prst="ellipse">
            <a:avLst/>
          </a:prstGeom>
          <a:noFill/>
          <a:ln w="2844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2057400"/>
            <a:ext cx="1523880" cy="1523880"/>
          </a:xfrm>
          <a:prstGeom prst="ellipse">
            <a:avLst/>
          </a:prstGeom>
          <a:noFill/>
          <a:ln w="2844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5866920" y="2666880"/>
            <a:ext cx="11430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259092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sond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6248520" y="3428640"/>
            <a:ext cx="1752480" cy="2286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673440"/>
            <a:ext cx="1828800" cy="642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ngga masuk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057400" y="2666880"/>
            <a:ext cx="16002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0880" y="251460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sond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57040" y="3352680"/>
            <a:ext cx="1143000" cy="30492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3505320"/>
            <a:ext cx="1828800" cy="368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ongga ekz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akah perbezaan antara enji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 silinder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4 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dgn 1 silind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2 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Enjin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1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silinder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 2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lejang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nya mempunyai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lejang masuka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dan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lejang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ekzos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haj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DARAN ENJIN 4 LEJA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abila enjin dihidupkan pembakaran campuran bahan api dan udara berlak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mbakaran ini akan menggerakkan piston di dalam silin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TA – Takat Terakhir At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TB - Takat Terakhir Baw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jang – gerakan piston dari TTA ke TT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933640"/>
            <a:ext cx="2539800" cy="3467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2540160" cy="3467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86000" y="4114800"/>
            <a:ext cx="28195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4495680"/>
            <a:ext cx="28958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195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T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T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ejang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9144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ist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057040" y="5943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56386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ci engk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T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aras paling tinggi dapat dicapai oleh pis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TTB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aras paling bawah dapat dicapai oleh pis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Lubang Silind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empat piston bergerak ke atas dan ke baw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Lej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jarak pergerakan piston antara TTA ke TTB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STILAH ASAS ENJ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Rongga/ rua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pembakaran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– ruang bahagian atas piston yang merupakan tempat pembakaran campuran udara dan petr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Kita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turutan lejang yang lengka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Daya kil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– daya pusingan / kil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SUK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32004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5715000" y="2971800"/>
            <a:ext cx="3429000" cy="1373760"/>
            <a:chOff x="5715000" y="2971800"/>
            <a:chExt cx="3429000" cy="1373760"/>
          </a:xfrm>
        </p:grpSpPr>
        <p:sp>
          <p:nvSpPr>
            <p:cNvPr id="375" name=""/>
            <p:cNvSpPr/>
            <p:nvPr/>
          </p:nvSpPr>
          <p:spPr>
            <a:xfrm>
              <a:off x="6324480" y="3154320"/>
              <a:ext cx="281952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Campuran udara dan bahan api masuk melalui injap pada rongga masukan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000" y="2971800"/>
              <a:ext cx="6858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105520" y="4038480"/>
            <a:ext cx="4114800" cy="1954080"/>
            <a:chOff x="5105520" y="4038480"/>
            <a:chExt cx="4114800" cy="1954080"/>
          </a:xfrm>
        </p:grpSpPr>
        <p:sp>
          <p:nvSpPr>
            <p:cNvPr id="378" name=""/>
            <p:cNvSpPr/>
            <p:nvPr/>
          </p:nvSpPr>
          <p:spPr>
            <a:xfrm>
              <a:off x="6400800" y="534996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dari TTA ke TTB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5520" y="4038480"/>
              <a:ext cx="137160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28600" y="2286000"/>
            <a:ext cx="4191120" cy="762120"/>
            <a:chOff x="228600" y="2286000"/>
            <a:chExt cx="4191120" cy="762120"/>
          </a:xfrm>
        </p:grpSpPr>
        <p:sp>
          <p:nvSpPr>
            <p:cNvPr id="381" name=""/>
            <p:cNvSpPr/>
            <p:nvPr/>
          </p:nvSpPr>
          <p:spPr>
            <a:xfrm>
              <a:off x="228600" y="2286000"/>
              <a:ext cx="2819520" cy="368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5. Injap ekzos ter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8120" y="2666880"/>
              <a:ext cx="13716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6320" y="3276720"/>
            <a:ext cx="4419360" cy="1191240"/>
            <a:chOff x="76320" y="3276720"/>
            <a:chExt cx="4419360" cy="1191240"/>
          </a:xfrm>
        </p:grpSpPr>
        <p:sp>
          <p:nvSpPr>
            <p:cNvPr id="384" name=""/>
            <p:cNvSpPr/>
            <p:nvPr/>
          </p:nvSpPr>
          <p:spPr>
            <a:xfrm>
              <a:off x="3048120" y="3505320"/>
              <a:ext cx="14475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320" y="3276720"/>
              <a:ext cx="297180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Wujud keadaan vakum menyebabkan campuran udara dan bhn api disedut masuk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447920" y="5410080"/>
            <a:ext cx="2895480" cy="947520"/>
            <a:chOff x="1447920" y="5410080"/>
            <a:chExt cx="2895480" cy="947520"/>
          </a:xfrm>
        </p:grpSpPr>
        <p:sp>
          <p:nvSpPr>
            <p:cNvPr id="387" name=""/>
            <p:cNvSpPr/>
            <p:nvPr/>
          </p:nvSpPr>
          <p:spPr>
            <a:xfrm>
              <a:off x="1447920" y="5715000"/>
              <a:ext cx="281916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6. Aci engkol berputar ½ pusingan (18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505320" y="54100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334120" y="2133720"/>
            <a:ext cx="3809880" cy="642600"/>
            <a:chOff x="5334120" y="2133720"/>
            <a:chExt cx="3809880" cy="642600"/>
          </a:xfrm>
        </p:grpSpPr>
        <p:sp>
          <p:nvSpPr>
            <p:cNvPr id="390" name=""/>
            <p:cNvSpPr/>
            <p:nvPr/>
          </p:nvSpPr>
          <p:spPr>
            <a:xfrm>
              <a:off x="6324480" y="213372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Injap masukan terbuk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334120" y="2286000"/>
              <a:ext cx="1066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MPAT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2540160" cy="346716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228600" y="2286000"/>
            <a:ext cx="4495680" cy="1143000"/>
            <a:chOff x="228600" y="2286000"/>
            <a:chExt cx="4495680" cy="1143000"/>
          </a:xfrm>
        </p:grpSpPr>
        <p:sp>
          <p:nvSpPr>
            <p:cNvPr id="396" name=""/>
            <p:cNvSpPr/>
            <p:nvPr/>
          </p:nvSpPr>
          <p:spPr>
            <a:xfrm>
              <a:off x="228600" y="228600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ekzos dan masukan te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8120" y="2666880"/>
              <a:ext cx="12189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71800" y="2590920"/>
              <a:ext cx="17524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48320" y="4267080"/>
            <a:ext cx="4190760" cy="795240"/>
            <a:chOff x="4648320" y="4267080"/>
            <a:chExt cx="4190760" cy="795240"/>
          </a:xfrm>
        </p:grpSpPr>
        <p:sp>
          <p:nvSpPr>
            <p:cNvPr id="400" name=""/>
            <p:cNvSpPr/>
            <p:nvPr/>
          </p:nvSpPr>
          <p:spPr>
            <a:xfrm>
              <a:off x="6019920" y="4419720"/>
              <a:ext cx="281916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iston bergerak dari TTB ke TT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48320" y="4267080"/>
              <a:ext cx="1447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838080" y="5410080"/>
            <a:ext cx="3505320" cy="1298160"/>
            <a:chOff x="838080" y="5410080"/>
            <a:chExt cx="3505320" cy="1298160"/>
          </a:xfrm>
        </p:grpSpPr>
        <p:sp>
          <p:nvSpPr>
            <p:cNvPr id="403" name=""/>
            <p:cNvSpPr/>
            <p:nvPr/>
          </p:nvSpPr>
          <p:spPr>
            <a:xfrm>
              <a:off x="83808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4. Aci engkol telah berputar 1 pusingan (36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505320" y="5410080"/>
              <a:ext cx="8380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648320" y="2362320"/>
            <a:ext cx="4190760" cy="1295280"/>
            <a:chOff x="4648320" y="2362320"/>
            <a:chExt cx="4190760" cy="1295280"/>
          </a:xfrm>
        </p:grpSpPr>
        <p:sp>
          <p:nvSpPr>
            <p:cNvPr id="406" name=""/>
            <p:cNvSpPr/>
            <p:nvPr/>
          </p:nvSpPr>
          <p:spPr>
            <a:xfrm>
              <a:off x="6019920" y="2362320"/>
              <a:ext cx="281916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Campuran udara dan bahan api dimampatkan oleh piston ke ruang pembakaran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648320" y="312408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da akhir 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MAMPATA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, palam pencucuh menghasilka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rcikan bunga api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n membaka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mpuran bahan api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n udara di ruan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mbaka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638680" y="2743200"/>
            <a:ext cx="2540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INSIP KENDALIAN ENJIN 4 LEJA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.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LEJANG K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</a:rPr>
              <a:t>UAS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54016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380880" y="2286000"/>
            <a:ext cx="4496040" cy="1143000"/>
            <a:chOff x="380880" y="2286000"/>
            <a:chExt cx="4496040" cy="1143000"/>
          </a:xfrm>
        </p:grpSpPr>
        <p:sp>
          <p:nvSpPr>
            <p:cNvPr id="415" name=""/>
            <p:cNvSpPr/>
            <p:nvPr/>
          </p:nvSpPr>
          <p:spPr>
            <a:xfrm>
              <a:off x="380880" y="2286000"/>
              <a:ext cx="2819520" cy="64260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2. Injap ekzos dan masukan tetutup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00400" y="2666880"/>
              <a:ext cx="121932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2590920"/>
              <a:ext cx="17528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800600" y="2895480"/>
            <a:ext cx="4343400" cy="1295640"/>
            <a:chOff x="4800600" y="2895480"/>
            <a:chExt cx="4343400" cy="1295640"/>
          </a:xfrm>
        </p:grpSpPr>
        <p:sp>
          <p:nvSpPr>
            <p:cNvPr id="419" name=""/>
            <p:cNvSpPr/>
            <p:nvPr/>
          </p:nvSpPr>
          <p:spPr>
            <a:xfrm>
              <a:off x="6324480" y="2895480"/>
              <a:ext cx="2819520" cy="119124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1. Pembakaran ini telah menolak piston dari TTA ke TTB – tenaga dan haba terhasil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00600" y="3657600"/>
              <a:ext cx="1371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914400" y="5410080"/>
            <a:ext cx="3505320" cy="1298160"/>
            <a:chOff x="914400" y="5410080"/>
            <a:chExt cx="3505320" cy="1298160"/>
          </a:xfrm>
        </p:grpSpPr>
        <p:sp>
          <p:nvSpPr>
            <p:cNvPr id="422" name=""/>
            <p:cNvSpPr/>
            <p:nvPr/>
          </p:nvSpPr>
          <p:spPr>
            <a:xfrm>
              <a:off x="914400" y="5791320"/>
              <a:ext cx="2819520" cy="9169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3. Aci engkol telah berputar 1 1/2 pusingan (540°)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81280" y="5410080"/>
              <a:ext cx="838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25:25Z</dcterms:created>
  <dc:creator>ACER</dc:creator>
  <dc:description/>
  <dc:language>en-US</dc:language>
  <cp:lastModifiedBy>Administrator</cp:lastModifiedBy>
  <dcterms:modified xsi:type="dcterms:W3CDTF">2009-07-13T04:04:57Z</dcterms:modified>
  <cp:revision>37</cp:revision>
  <dc:subject/>
  <dc:title> KEMAHIRAN TEKNIKAL BAB 2 - ENJIN</dc:title>
</cp:coreProperties>
</file>